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E49-E7CA-4CBB-BB5D-8F23AB8D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146-FBA3-4EC5-8218-460EAB56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331-C846-4CDC-9352-D5E29342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F00-DDD2-4F27-B6C9-3398DEF5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4E9-B3A4-43D5-869E-1081CE4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8FF-4DB0-4847-AD05-543BF234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630-F34E-4E88-BA11-78B21D9B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937-B4E5-4057-9FCF-8E0D8744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498-3023-4761-942B-B648C62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602-FFED-457B-9502-29F3D320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E6C-D10D-4F43-819B-5F7816D1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FCA-D792-45ED-BB80-988F0E4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B0B9-865A-452F-8503-7412E3FA6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 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Name two parallel li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Name two intersecting li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Name one pair of perpendicular lin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Name a right ang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Name an obtuse angl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Name two vertical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88620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4419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5334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38098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76240" y="4456080"/>
            <a:ext cx="9072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4986" y="12477"/>
                </a:moveTo>
                <a:cubicBezTo>
                  <a:pt x="4986" y="12555"/>
                  <a:pt x="5006" y="12622"/>
                  <a:pt x="5011" y="12700"/>
                </a:cubicBezTo>
                <a:cubicBezTo>
                  <a:pt x="5011" y="12725"/>
                  <a:pt x="5011" y="12733"/>
                  <a:pt x="5011" y="12750"/>
                </a:cubicBezTo>
              </a:path>
              <a:path w="249" h="373">
                <a:moveTo>
                  <a:pt x="4936" y="12427"/>
                </a:moveTo>
                <a:cubicBezTo>
                  <a:pt x="4936" y="12419"/>
                  <a:pt x="4936" y="12410"/>
                  <a:pt x="4936" y="12402"/>
                </a:cubicBezTo>
                <a:cubicBezTo>
                  <a:pt x="5009" y="12402"/>
                  <a:pt x="5065" y="12383"/>
                  <a:pt x="5135" y="12378"/>
                </a:cubicBezTo>
                <a:cubicBezTo>
                  <a:pt x="5159" y="12378"/>
                  <a:pt x="5168" y="12378"/>
                  <a:pt x="5184" y="12378"/>
                </a:cubicBezTo>
              </a:path>
              <a:path w="249" h="373">
                <a:moveTo>
                  <a:pt x="4986" y="12551"/>
                </a:moveTo>
                <a:cubicBezTo>
                  <a:pt x="5055" y="12563"/>
                  <a:pt x="5112" y="12576"/>
                  <a:pt x="5184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4232160"/>
            <a:ext cx="492120" cy="438120"/>
          </a:xfrm>
          <a:custGeom>
            <a:avLst/>
            <a:gdLst/>
            <a:ahLst/>
            <a:rect l="l" t="t" r="r" b="b"/>
            <a:pathLst>
              <a:path w="1365" h="1217">
                <a:moveTo>
                  <a:pt x="4142" y="12626"/>
                </a:moveTo>
                <a:cubicBezTo>
                  <a:pt x="4142" y="12695"/>
                  <a:pt x="4164" y="12754"/>
                  <a:pt x="4167" y="12824"/>
                </a:cubicBezTo>
                <a:cubicBezTo>
                  <a:pt x="4167" y="12865"/>
                  <a:pt x="4167" y="12873"/>
                  <a:pt x="4167" y="12898"/>
                </a:cubicBezTo>
              </a:path>
              <a:path w="1365" h="1217">
                <a:moveTo>
                  <a:pt x="4018" y="12650"/>
                </a:moveTo>
                <a:cubicBezTo>
                  <a:pt x="4144" y="12636"/>
                  <a:pt x="4223" y="12622"/>
                  <a:pt x="4341" y="12700"/>
                </a:cubicBezTo>
                <a:cubicBezTo>
                  <a:pt x="4414" y="12748"/>
                  <a:pt x="4459" y="12815"/>
                  <a:pt x="4465" y="12898"/>
                </a:cubicBezTo>
                <a:cubicBezTo>
                  <a:pt x="4470" y="12957"/>
                  <a:pt x="4290" y="12982"/>
                  <a:pt x="4242" y="12973"/>
                </a:cubicBezTo>
                <a:cubicBezTo>
                  <a:pt x="4198" y="12951"/>
                  <a:pt x="4186" y="12948"/>
                  <a:pt x="4167" y="12923"/>
                </a:cubicBezTo>
              </a:path>
              <a:path w="1365" h="1217">
                <a:moveTo>
                  <a:pt x="3597" y="11832"/>
                </a:moveTo>
                <a:cubicBezTo>
                  <a:pt x="3586" y="11874"/>
                  <a:pt x="3521" y="11929"/>
                  <a:pt x="3547" y="11981"/>
                </a:cubicBezTo>
                <a:cubicBezTo>
                  <a:pt x="3555" y="11997"/>
                  <a:pt x="3672" y="12016"/>
                  <a:pt x="3696" y="12005"/>
                </a:cubicBezTo>
                <a:cubicBezTo>
                  <a:pt x="3704" y="11997"/>
                  <a:pt x="3713" y="11989"/>
                  <a:pt x="3721" y="11981"/>
                </a:cubicBezTo>
              </a:path>
              <a:path w="1365" h="1217">
                <a:moveTo>
                  <a:pt x="3597" y="11956"/>
                </a:moveTo>
                <a:cubicBezTo>
                  <a:pt x="3625" y="11927"/>
                  <a:pt x="3638" y="11919"/>
                  <a:pt x="3671" y="11931"/>
                </a:cubicBezTo>
              </a:path>
              <a:path w="1365" h="1217">
                <a:moveTo>
                  <a:pt x="3572" y="11807"/>
                </a:moveTo>
                <a:cubicBezTo>
                  <a:pt x="3572" y="11799"/>
                  <a:pt x="3572" y="11790"/>
                  <a:pt x="3572" y="11782"/>
                </a:cubicBezTo>
                <a:cubicBezTo>
                  <a:pt x="3625" y="11769"/>
                  <a:pt x="3657" y="11757"/>
                  <a:pt x="3721" y="11757"/>
                </a:cubicBezTo>
              </a:path>
              <a:path w="1365" h="1217">
                <a:moveTo>
                  <a:pt x="3597" y="11807"/>
                </a:moveTo>
                <a:cubicBezTo>
                  <a:pt x="3661" y="11829"/>
                  <a:pt x="3603" y="11925"/>
                  <a:pt x="3597" y="11981"/>
                </a:cubicBezTo>
                <a:cubicBezTo>
                  <a:pt x="3593" y="12019"/>
                  <a:pt x="3597" y="12065"/>
                  <a:pt x="3597" y="12105"/>
                </a:cubicBezTo>
                <a:cubicBezTo>
                  <a:pt x="3687" y="12105"/>
                  <a:pt x="3606" y="12123"/>
                  <a:pt x="3646" y="12179"/>
                </a:cubicBezTo>
                <a:cubicBezTo>
                  <a:pt x="3663" y="12203"/>
                  <a:pt x="3671" y="12177"/>
                  <a:pt x="3671" y="12229"/>
                </a:cubicBezTo>
                <a:cubicBezTo>
                  <a:pt x="3766" y="12221"/>
                  <a:pt x="3850" y="12186"/>
                  <a:pt x="3944" y="12179"/>
                </a:cubicBezTo>
                <a:cubicBezTo>
                  <a:pt x="3989" y="12176"/>
                  <a:pt x="4005" y="12194"/>
                  <a:pt x="4018" y="12154"/>
                </a:cubicBezTo>
              </a:path>
              <a:path w="1365" h="1217">
                <a:moveTo>
                  <a:pt x="3746" y="12055"/>
                </a:moveTo>
                <a:cubicBezTo>
                  <a:pt x="3778" y="12030"/>
                  <a:pt x="3814" y="12025"/>
                  <a:pt x="3845" y="12005"/>
                </a:cubicBezTo>
                <a:cubicBezTo>
                  <a:pt x="3875" y="11976"/>
                  <a:pt x="3889" y="11965"/>
                  <a:pt x="3919" y="11956"/>
                </a:cubicBezTo>
              </a:path>
              <a:path w="1365" h="1217">
                <a:moveTo>
                  <a:pt x="3721" y="11832"/>
                </a:moveTo>
                <a:cubicBezTo>
                  <a:pt x="3779" y="11820"/>
                  <a:pt x="3823" y="11794"/>
                  <a:pt x="3870" y="11757"/>
                </a:cubicBezTo>
              </a:path>
              <a:path w="1365" h="1217">
                <a:moveTo>
                  <a:pt x="3125" y="12303"/>
                </a:moveTo>
                <a:cubicBezTo>
                  <a:pt x="3125" y="12295"/>
                  <a:pt x="3125" y="12286"/>
                  <a:pt x="3125" y="12278"/>
                </a:cubicBezTo>
                <a:cubicBezTo>
                  <a:pt x="3110" y="12355"/>
                  <a:pt x="3082" y="12370"/>
                  <a:pt x="3175" y="12378"/>
                </a:cubicBezTo>
                <a:cubicBezTo>
                  <a:pt x="3217" y="12382"/>
                  <a:pt x="3250" y="12288"/>
                  <a:pt x="3225" y="12254"/>
                </a:cubicBezTo>
                <a:cubicBezTo>
                  <a:pt x="3206" y="12228"/>
                  <a:pt x="3199" y="12238"/>
                  <a:pt x="3175" y="12254"/>
                </a:cubicBezTo>
                <a:cubicBezTo>
                  <a:pt x="3191" y="12334"/>
                  <a:pt x="3219" y="12345"/>
                  <a:pt x="3249" y="12254"/>
                </a:cubicBezTo>
                <a:cubicBezTo>
                  <a:pt x="3268" y="12196"/>
                  <a:pt x="3171" y="12260"/>
                  <a:pt x="3175" y="12303"/>
                </a:cubicBezTo>
                <a:cubicBezTo>
                  <a:pt x="3205" y="12333"/>
                  <a:pt x="3219" y="12338"/>
                  <a:pt x="3249" y="12303"/>
                </a:cubicBezTo>
                <a:cubicBezTo>
                  <a:pt x="3236" y="12207"/>
                  <a:pt x="3218" y="12229"/>
                  <a:pt x="3175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8240" y="431316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2480" y="12055"/>
                </a:moveTo>
                <a:cubicBezTo>
                  <a:pt x="2480" y="12030"/>
                  <a:pt x="2480" y="12022"/>
                  <a:pt x="2480" y="12005"/>
                </a:cubicBezTo>
                <a:cubicBezTo>
                  <a:pt x="2424" y="11997"/>
                  <a:pt x="2393" y="11981"/>
                  <a:pt x="2332" y="11981"/>
                </a:cubicBezTo>
                <a:cubicBezTo>
                  <a:pt x="2239" y="11981"/>
                  <a:pt x="2204" y="12014"/>
                  <a:pt x="2158" y="12105"/>
                </a:cubicBezTo>
                <a:cubicBezTo>
                  <a:pt x="2158" y="12129"/>
                  <a:pt x="2158" y="12138"/>
                  <a:pt x="2158" y="12154"/>
                </a:cubicBezTo>
                <a:cubicBezTo>
                  <a:pt x="2211" y="12154"/>
                  <a:pt x="2228" y="12174"/>
                  <a:pt x="2282" y="12179"/>
                </a:cubicBezTo>
                <a:cubicBezTo>
                  <a:pt x="2333" y="12183"/>
                  <a:pt x="2369" y="12204"/>
                  <a:pt x="2431" y="12204"/>
                </a:cubicBezTo>
                <a:cubicBezTo>
                  <a:pt x="2495" y="12204"/>
                  <a:pt x="2551" y="12259"/>
                  <a:pt x="2530" y="12328"/>
                </a:cubicBezTo>
                <a:cubicBezTo>
                  <a:pt x="2515" y="12378"/>
                  <a:pt x="2420" y="12407"/>
                  <a:pt x="2381" y="12427"/>
                </a:cubicBezTo>
                <a:cubicBezTo>
                  <a:pt x="2304" y="12466"/>
                  <a:pt x="2286" y="12445"/>
                  <a:pt x="2208" y="12427"/>
                </a:cubicBezTo>
                <a:cubicBezTo>
                  <a:pt x="2180" y="12420"/>
                  <a:pt x="2103" y="12429"/>
                  <a:pt x="2158" y="124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62040" y="4187880"/>
            <a:ext cx="152640" cy="125280"/>
          </a:xfrm>
          <a:custGeom>
            <a:avLst/>
            <a:gdLst/>
            <a:ahLst/>
            <a:rect l="l" t="t" r="r" b="b"/>
            <a:pathLst>
              <a:path w="422" h="349">
                <a:moveTo>
                  <a:pt x="4514" y="11683"/>
                </a:moveTo>
                <a:cubicBezTo>
                  <a:pt x="4514" y="11675"/>
                  <a:pt x="4514" y="11666"/>
                  <a:pt x="4514" y="11658"/>
                </a:cubicBezTo>
              </a:path>
              <a:path w="422" h="349">
                <a:moveTo>
                  <a:pt x="4514" y="11658"/>
                </a:moveTo>
                <a:cubicBezTo>
                  <a:pt x="4497" y="11747"/>
                  <a:pt x="4428" y="11800"/>
                  <a:pt x="4390" y="11881"/>
                </a:cubicBezTo>
                <a:cubicBezTo>
                  <a:pt x="4352" y="11961"/>
                  <a:pt x="4356" y="11935"/>
                  <a:pt x="4341" y="11981"/>
                </a:cubicBezTo>
                <a:cubicBezTo>
                  <a:pt x="4355" y="11925"/>
                  <a:pt x="4426" y="11853"/>
                  <a:pt x="4465" y="11807"/>
                </a:cubicBezTo>
                <a:cubicBezTo>
                  <a:pt x="4514" y="11749"/>
                  <a:pt x="4561" y="11703"/>
                  <a:pt x="4614" y="11658"/>
                </a:cubicBezTo>
                <a:cubicBezTo>
                  <a:pt x="4698" y="11587"/>
                  <a:pt x="4697" y="11699"/>
                  <a:pt x="4713" y="11757"/>
                </a:cubicBezTo>
                <a:cubicBezTo>
                  <a:pt x="4730" y="11820"/>
                  <a:pt x="4748" y="11875"/>
                  <a:pt x="4762" y="11931"/>
                </a:cubicBezTo>
              </a:path>
              <a:path w="422" h="349">
                <a:moveTo>
                  <a:pt x="4465" y="11881"/>
                </a:moveTo>
                <a:cubicBezTo>
                  <a:pt x="4535" y="11881"/>
                  <a:pt x="4594" y="11862"/>
                  <a:pt x="4663" y="11857"/>
                </a:cubicBezTo>
                <a:cubicBezTo>
                  <a:pt x="4671" y="11857"/>
                  <a:pt x="4680" y="11857"/>
                  <a:pt x="4688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4010040"/>
            <a:ext cx="54000" cy="81000"/>
          </a:xfrm>
          <a:custGeom>
            <a:avLst/>
            <a:gdLst/>
            <a:ahLst/>
            <a:rect l="l" t="t" r="r" b="b"/>
            <a:pathLst>
              <a:path w="150" h="225">
                <a:moveTo>
                  <a:pt x="3249" y="11187"/>
                </a:moveTo>
                <a:cubicBezTo>
                  <a:pt x="3249" y="11159"/>
                  <a:pt x="3251" y="11148"/>
                  <a:pt x="3274" y="11137"/>
                </a:cubicBezTo>
                <a:cubicBezTo>
                  <a:pt x="3274" y="11178"/>
                  <a:pt x="3298" y="11232"/>
                  <a:pt x="3299" y="11237"/>
                </a:cubicBezTo>
                <a:cubicBezTo>
                  <a:pt x="3322" y="11326"/>
                  <a:pt x="3326" y="11272"/>
                  <a:pt x="3373" y="11212"/>
                </a:cubicBezTo>
                <a:cubicBezTo>
                  <a:pt x="3344" y="11222"/>
                  <a:pt x="3256" y="11296"/>
                  <a:pt x="3299" y="11361"/>
                </a:cubicBezTo>
                <a:cubicBezTo>
                  <a:pt x="3316" y="11386"/>
                  <a:pt x="3388" y="11296"/>
                  <a:pt x="3398" y="11286"/>
                </a:cubicBezTo>
                <a:cubicBezTo>
                  <a:pt x="3368" y="11294"/>
                  <a:pt x="3354" y="11303"/>
                  <a:pt x="3324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47840" y="3786120"/>
            <a:ext cx="35856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3820" y="10889"/>
                </a:moveTo>
                <a:cubicBezTo>
                  <a:pt x="3801" y="10984"/>
                  <a:pt x="3803" y="11039"/>
                  <a:pt x="3820" y="11137"/>
                </a:cubicBezTo>
                <a:cubicBezTo>
                  <a:pt x="3820" y="11162"/>
                  <a:pt x="3820" y="11170"/>
                  <a:pt x="3820" y="11187"/>
                </a:cubicBezTo>
                <a:cubicBezTo>
                  <a:pt x="3795" y="11074"/>
                  <a:pt x="3749" y="10991"/>
                  <a:pt x="3746" y="10864"/>
                </a:cubicBezTo>
                <a:cubicBezTo>
                  <a:pt x="3743" y="10742"/>
                  <a:pt x="3757" y="10619"/>
                  <a:pt x="3894" y="10592"/>
                </a:cubicBezTo>
                <a:cubicBezTo>
                  <a:pt x="3925" y="10645"/>
                  <a:pt x="4005" y="10743"/>
                  <a:pt x="3969" y="10815"/>
                </a:cubicBezTo>
                <a:cubicBezTo>
                  <a:pt x="3961" y="10823"/>
                  <a:pt x="3952" y="10832"/>
                  <a:pt x="3944" y="10840"/>
                </a:cubicBezTo>
                <a:cubicBezTo>
                  <a:pt x="4011" y="10862"/>
                  <a:pt x="4105" y="10809"/>
                  <a:pt x="4142" y="10914"/>
                </a:cubicBezTo>
                <a:cubicBezTo>
                  <a:pt x="4178" y="11019"/>
                  <a:pt x="4039" y="11084"/>
                  <a:pt x="3969" y="11112"/>
                </a:cubicBezTo>
                <a:cubicBezTo>
                  <a:pt x="3867" y="11153"/>
                  <a:pt x="3830" y="11131"/>
                  <a:pt x="3870" y="11038"/>
                </a:cubicBezTo>
              </a:path>
              <a:path w="993" h="671">
                <a:moveTo>
                  <a:pt x="4242" y="10641"/>
                </a:moveTo>
                <a:cubicBezTo>
                  <a:pt x="4329" y="10744"/>
                  <a:pt x="4369" y="10858"/>
                  <a:pt x="4440" y="10964"/>
                </a:cubicBezTo>
                <a:cubicBezTo>
                  <a:pt x="4440" y="10879"/>
                  <a:pt x="4377" y="10839"/>
                  <a:pt x="4341" y="10765"/>
                </a:cubicBezTo>
                <a:cubicBezTo>
                  <a:pt x="4289" y="10658"/>
                  <a:pt x="4371" y="10590"/>
                  <a:pt x="4465" y="10542"/>
                </a:cubicBezTo>
                <a:cubicBezTo>
                  <a:pt x="4555" y="10497"/>
                  <a:pt x="4582" y="10570"/>
                  <a:pt x="4564" y="10666"/>
                </a:cubicBezTo>
                <a:cubicBezTo>
                  <a:pt x="4557" y="10702"/>
                  <a:pt x="4508" y="10758"/>
                  <a:pt x="4490" y="10790"/>
                </a:cubicBezTo>
                <a:cubicBezTo>
                  <a:pt x="4580" y="10753"/>
                  <a:pt x="4609" y="10674"/>
                  <a:pt x="4713" y="10765"/>
                </a:cubicBezTo>
                <a:cubicBezTo>
                  <a:pt x="4784" y="10827"/>
                  <a:pt x="4728" y="10972"/>
                  <a:pt x="4663" y="11013"/>
                </a:cubicBezTo>
                <a:cubicBezTo>
                  <a:pt x="4597" y="11055"/>
                  <a:pt x="4479" y="11051"/>
                  <a:pt x="4415" y="11013"/>
                </a:cubicBezTo>
                <a:cubicBezTo>
                  <a:pt x="4407" y="11005"/>
                  <a:pt x="4398" y="10996"/>
                  <a:pt x="4390" y="10988"/>
                </a:cubicBezTo>
              </a:path>
              <a:path w="993" h="671">
                <a:moveTo>
                  <a:pt x="3795" y="11013"/>
                </a:moveTo>
                <a:cubicBezTo>
                  <a:pt x="3818" y="10956"/>
                  <a:pt x="3872" y="10912"/>
                  <a:pt x="3919" y="108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4840" y="5126040"/>
            <a:ext cx="169920" cy="142920"/>
          </a:xfrm>
          <a:custGeom>
            <a:avLst/>
            <a:gdLst/>
            <a:ahLst/>
            <a:rect l="l" t="t" r="r" b="b"/>
            <a:pathLst>
              <a:path w="473" h="398">
                <a:moveTo>
                  <a:pt x="7243" y="14337"/>
                </a:moveTo>
                <a:cubicBezTo>
                  <a:pt x="7290" y="14353"/>
                  <a:pt x="7268" y="14431"/>
                  <a:pt x="7268" y="14486"/>
                </a:cubicBezTo>
                <a:cubicBezTo>
                  <a:pt x="7268" y="14519"/>
                  <a:pt x="7268" y="14552"/>
                  <a:pt x="7268" y="14585"/>
                </a:cubicBezTo>
              </a:path>
              <a:path w="473" h="398">
                <a:moveTo>
                  <a:pt x="7069" y="14288"/>
                </a:moveTo>
                <a:cubicBezTo>
                  <a:pt x="7132" y="14275"/>
                  <a:pt x="7230" y="14232"/>
                  <a:pt x="7293" y="14238"/>
                </a:cubicBezTo>
                <a:cubicBezTo>
                  <a:pt x="7343" y="14243"/>
                  <a:pt x="7401" y="14266"/>
                  <a:pt x="7417" y="14312"/>
                </a:cubicBezTo>
                <a:cubicBezTo>
                  <a:pt x="7435" y="14365"/>
                  <a:pt x="7393" y="14392"/>
                  <a:pt x="7367" y="14412"/>
                </a:cubicBezTo>
                <a:cubicBezTo>
                  <a:pt x="7322" y="14446"/>
                  <a:pt x="7305" y="14436"/>
                  <a:pt x="7367" y="14436"/>
                </a:cubicBezTo>
                <a:cubicBezTo>
                  <a:pt x="7448" y="14436"/>
                  <a:pt x="7472" y="14438"/>
                  <a:pt x="7516" y="14511"/>
                </a:cubicBezTo>
                <a:cubicBezTo>
                  <a:pt x="7574" y="14609"/>
                  <a:pt x="7440" y="14625"/>
                  <a:pt x="7367" y="14635"/>
                </a:cubicBezTo>
                <a:cubicBezTo>
                  <a:pt x="7322" y="14635"/>
                  <a:pt x="7309" y="14639"/>
                  <a:pt x="7293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0840" y="5438880"/>
            <a:ext cx="11736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7045" y="15131"/>
                </a:moveTo>
                <a:cubicBezTo>
                  <a:pt x="7069" y="15131"/>
                  <a:pt x="7077" y="15131"/>
                  <a:pt x="7069" y="15156"/>
                </a:cubicBezTo>
                <a:cubicBezTo>
                  <a:pt x="7069" y="15137"/>
                  <a:pt x="7058" y="15064"/>
                  <a:pt x="7020" y="15106"/>
                </a:cubicBezTo>
                <a:cubicBezTo>
                  <a:pt x="6971" y="15161"/>
                  <a:pt x="6904" y="15248"/>
                  <a:pt x="6921" y="15329"/>
                </a:cubicBezTo>
                <a:cubicBezTo>
                  <a:pt x="6942" y="15433"/>
                  <a:pt x="7001" y="15450"/>
                  <a:pt x="7094" y="15453"/>
                </a:cubicBezTo>
                <a:cubicBezTo>
                  <a:pt x="7153" y="15455"/>
                  <a:pt x="7227" y="15452"/>
                  <a:pt x="7243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4160" y="5303880"/>
            <a:ext cx="142920" cy="403200"/>
          </a:xfrm>
          <a:custGeom>
            <a:avLst/>
            <a:gdLst/>
            <a:ahLst/>
            <a:rect l="l" t="t" r="r" b="b"/>
            <a:pathLst>
              <a:path w="398" h="1117">
                <a:moveTo>
                  <a:pt x="5854" y="14833"/>
                </a:moveTo>
                <a:cubicBezTo>
                  <a:pt x="5848" y="14808"/>
                  <a:pt x="5815" y="14764"/>
                  <a:pt x="5804" y="14759"/>
                </a:cubicBezTo>
                <a:cubicBezTo>
                  <a:pt x="5731" y="14723"/>
                  <a:pt x="5730" y="14848"/>
                  <a:pt x="5730" y="14883"/>
                </a:cubicBezTo>
                <a:cubicBezTo>
                  <a:pt x="5820" y="14853"/>
                  <a:pt x="5838" y="14815"/>
                  <a:pt x="5879" y="14734"/>
                </a:cubicBezTo>
                <a:cubicBezTo>
                  <a:pt x="5780" y="14759"/>
                  <a:pt x="5763" y="14791"/>
                  <a:pt x="5779" y="14883"/>
                </a:cubicBezTo>
                <a:cubicBezTo>
                  <a:pt x="5779" y="14918"/>
                  <a:pt x="5788" y="14922"/>
                  <a:pt x="5829" y="14883"/>
                </a:cubicBezTo>
              </a:path>
              <a:path w="398" h="1117">
                <a:moveTo>
                  <a:pt x="5705" y="15478"/>
                </a:moveTo>
                <a:cubicBezTo>
                  <a:pt x="5755" y="15545"/>
                  <a:pt x="5794" y="15633"/>
                  <a:pt x="5854" y="15701"/>
                </a:cubicBezTo>
                <a:cubicBezTo>
                  <a:pt x="5936" y="15784"/>
                  <a:pt x="5953" y="15801"/>
                  <a:pt x="6003" y="15850"/>
                </a:cubicBezTo>
                <a:cubicBezTo>
                  <a:pt x="6113" y="15822"/>
                  <a:pt x="6064" y="15663"/>
                  <a:pt x="6077" y="15577"/>
                </a:cubicBezTo>
                <a:cubicBezTo>
                  <a:pt x="6088" y="15507"/>
                  <a:pt x="6102" y="15471"/>
                  <a:pt x="6102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86240" y="3911760"/>
            <a:ext cx="635040" cy="428400"/>
          </a:xfrm>
          <a:custGeom>
            <a:avLst/>
            <a:gdLst/>
            <a:ahLst/>
            <a:rect l="l" t="t" r="r" b="b"/>
            <a:pathLst>
              <a:path w="1763" h="1192">
                <a:moveTo>
                  <a:pt x="15007" y="11633"/>
                </a:moveTo>
                <a:cubicBezTo>
                  <a:pt x="14998" y="11607"/>
                  <a:pt x="14925" y="11561"/>
                  <a:pt x="14883" y="11584"/>
                </a:cubicBezTo>
                <a:cubicBezTo>
                  <a:pt x="14804" y="11627"/>
                  <a:pt x="14687" y="11795"/>
                  <a:pt x="14684" y="11881"/>
                </a:cubicBezTo>
                <a:cubicBezTo>
                  <a:pt x="14679" y="12022"/>
                  <a:pt x="14785" y="12072"/>
                  <a:pt x="14908" y="12055"/>
                </a:cubicBezTo>
                <a:cubicBezTo>
                  <a:pt x="15003" y="12042"/>
                  <a:pt x="15061" y="12009"/>
                  <a:pt x="15106" y="11931"/>
                </a:cubicBezTo>
                <a:cubicBezTo>
                  <a:pt x="15083" y="11897"/>
                  <a:pt x="14999" y="11848"/>
                  <a:pt x="14932" y="11857"/>
                </a:cubicBezTo>
                <a:cubicBezTo>
                  <a:pt x="14881" y="11864"/>
                  <a:pt x="14867" y="11893"/>
                  <a:pt x="14858" y="11931"/>
                </a:cubicBezTo>
              </a:path>
              <a:path w="1763" h="1192">
                <a:moveTo>
                  <a:pt x="15751" y="11757"/>
                </a:moveTo>
                <a:cubicBezTo>
                  <a:pt x="15751" y="11706"/>
                  <a:pt x="15770" y="11807"/>
                  <a:pt x="15776" y="11857"/>
                </a:cubicBezTo>
                <a:cubicBezTo>
                  <a:pt x="15783" y="11913"/>
                  <a:pt x="15776" y="11974"/>
                  <a:pt x="15776" y="12030"/>
                </a:cubicBezTo>
              </a:path>
              <a:path w="1763" h="1192">
                <a:moveTo>
                  <a:pt x="16049" y="11708"/>
                </a:moveTo>
                <a:cubicBezTo>
                  <a:pt x="16109" y="11754"/>
                  <a:pt x="16118" y="11846"/>
                  <a:pt x="16123" y="11931"/>
                </a:cubicBezTo>
                <a:cubicBezTo>
                  <a:pt x="16123" y="11956"/>
                  <a:pt x="16123" y="11964"/>
                  <a:pt x="16098" y="11956"/>
                </a:cubicBezTo>
              </a:path>
              <a:path w="1763" h="1192">
                <a:moveTo>
                  <a:pt x="15825" y="11906"/>
                </a:moveTo>
                <a:cubicBezTo>
                  <a:pt x="15911" y="11899"/>
                  <a:pt x="15986" y="11881"/>
                  <a:pt x="16073" y="11881"/>
                </a:cubicBezTo>
              </a:path>
              <a:path w="1763" h="1192">
                <a:moveTo>
                  <a:pt x="15404" y="11261"/>
                </a:moveTo>
                <a:cubicBezTo>
                  <a:pt x="15448" y="11261"/>
                  <a:pt x="15465" y="11273"/>
                  <a:pt x="15478" y="11237"/>
                </a:cubicBezTo>
                <a:cubicBezTo>
                  <a:pt x="15458" y="11176"/>
                  <a:pt x="15384" y="11247"/>
                  <a:pt x="15354" y="11286"/>
                </a:cubicBezTo>
                <a:cubicBezTo>
                  <a:pt x="15346" y="11303"/>
                  <a:pt x="15337" y="11319"/>
                  <a:pt x="15329" y="11336"/>
                </a:cubicBezTo>
                <a:cubicBezTo>
                  <a:pt x="15402" y="11351"/>
                  <a:pt x="15468" y="11384"/>
                  <a:pt x="15503" y="11286"/>
                </a:cubicBezTo>
                <a:cubicBezTo>
                  <a:pt x="15537" y="11189"/>
                  <a:pt x="15450" y="11254"/>
                  <a:pt x="15429" y="11261"/>
                </a:cubicBezTo>
                <a:cubicBezTo>
                  <a:pt x="15421" y="11261"/>
                  <a:pt x="15412" y="11261"/>
                  <a:pt x="15404" y="11261"/>
                </a:cubicBezTo>
                <a:cubicBezTo>
                  <a:pt x="15482" y="11324"/>
                  <a:pt x="15497" y="11314"/>
                  <a:pt x="15553" y="11237"/>
                </a:cubicBezTo>
              </a:path>
              <a:path w="1763" h="1192">
                <a:moveTo>
                  <a:pt x="15974" y="10889"/>
                </a:moveTo>
                <a:cubicBezTo>
                  <a:pt x="15935" y="10876"/>
                  <a:pt x="15964" y="10877"/>
                  <a:pt x="15925" y="10864"/>
                </a:cubicBezTo>
                <a:cubicBezTo>
                  <a:pt x="16057" y="10864"/>
                  <a:pt x="16189" y="10864"/>
                  <a:pt x="16321" y="10864"/>
                </a:cubicBezTo>
                <a:cubicBezTo>
                  <a:pt x="16236" y="11017"/>
                  <a:pt x="16121" y="11140"/>
                  <a:pt x="16024" y="11286"/>
                </a:cubicBezTo>
                <a:cubicBezTo>
                  <a:pt x="15985" y="11345"/>
                  <a:pt x="16011" y="11335"/>
                  <a:pt x="16024" y="11385"/>
                </a:cubicBezTo>
                <a:cubicBezTo>
                  <a:pt x="16087" y="11385"/>
                  <a:pt x="16131" y="11363"/>
                  <a:pt x="16197" y="11361"/>
                </a:cubicBezTo>
                <a:cubicBezTo>
                  <a:pt x="16280" y="11359"/>
                  <a:pt x="16363" y="11361"/>
                  <a:pt x="16446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86240" y="4527720"/>
            <a:ext cx="455760" cy="142560"/>
          </a:xfrm>
          <a:custGeom>
            <a:avLst/>
            <a:gdLst/>
            <a:ahLst/>
            <a:rect l="l" t="t" r="r" b="b"/>
            <a:pathLst>
              <a:path w="1266" h="398">
                <a:moveTo>
                  <a:pt x="15007" y="12626"/>
                </a:moveTo>
                <a:cubicBezTo>
                  <a:pt x="15007" y="12557"/>
                  <a:pt x="14982" y="12739"/>
                  <a:pt x="14982" y="12750"/>
                </a:cubicBezTo>
                <a:cubicBezTo>
                  <a:pt x="14980" y="12799"/>
                  <a:pt x="14982" y="12849"/>
                  <a:pt x="14982" y="12898"/>
                </a:cubicBezTo>
              </a:path>
              <a:path w="1266" h="398">
                <a:moveTo>
                  <a:pt x="14808" y="12601"/>
                </a:moveTo>
                <a:cubicBezTo>
                  <a:pt x="14940" y="12601"/>
                  <a:pt x="15073" y="12601"/>
                  <a:pt x="15205" y="12601"/>
                </a:cubicBezTo>
              </a:path>
              <a:path w="1266" h="398">
                <a:moveTo>
                  <a:pt x="14684" y="12948"/>
                </a:moveTo>
                <a:cubicBezTo>
                  <a:pt x="14826" y="12973"/>
                  <a:pt x="14961" y="12973"/>
                  <a:pt x="15106" y="12973"/>
                </a:cubicBezTo>
                <a:cubicBezTo>
                  <a:pt x="15139" y="12973"/>
                  <a:pt x="15155" y="12973"/>
                  <a:pt x="15180" y="12973"/>
                </a:cubicBezTo>
              </a:path>
              <a:path w="1266" h="398">
                <a:moveTo>
                  <a:pt x="15925" y="12650"/>
                </a:moveTo>
                <a:cubicBezTo>
                  <a:pt x="15925" y="12625"/>
                  <a:pt x="15925" y="12601"/>
                  <a:pt x="15925" y="12576"/>
                </a:cubicBezTo>
                <a:cubicBezTo>
                  <a:pt x="15959" y="12658"/>
                  <a:pt x="15968" y="12801"/>
                  <a:pt x="15949" y="12898"/>
                </a:cubicBezTo>
                <a:cubicBezTo>
                  <a:pt x="15927" y="13009"/>
                  <a:pt x="15799" y="12975"/>
                  <a:pt x="15726" y="12948"/>
                </a:cubicBezTo>
                <a:cubicBezTo>
                  <a:pt x="15686" y="12928"/>
                  <a:pt x="15680" y="12919"/>
                  <a:pt x="15652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03880" y="5089680"/>
            <a:ext cx="492120" cy="152280"/>
          </a:xfrm>
          <a:custGeom>
            <a:avLst/>
            <a:gdLst/>
            <a:ahLst/>
            <a:rect l="l" t="t" r="r" b="b"/>
            <a:pathLst>
              <a:path w="1365" h="422">
                <a:moveTo>
                  <a:pt x="14734" y="14188"/>
                </a:moveTo>
                <a:cubicBezTo>
                  <a:pt x="14821" y="14293"/>
                  <a:pt x="14828" y="14377"/>
                  <a:pt x="14833" y="14511"/>
                </a:cubicBezTo>
                <a:cubicBezTo>
                  <a:pt x="14833" y="14527"/>
                  <a:pt x="14833" y="14544"/>
                  <a:pt x="14833" y="14560"/>
                </a:cubicBezTo>
              </a:path>
              <a:path w="1365" h="422">
                <a:moveTo>
                  <a:pt x="15081" y="14139"/>
                </a:moveTo>
                <a:cubicBezTo>
                  <a:pt x="15067" y="14229"/>
                  <a:pt x="15053" y="14339"/>
                  <a:pt x="14957" y="14387"/>
                </a:cubicBezTo>
                <a:cubicBezTo>
                  <a:pt x="14929" y="14401"/>
                  <a:pt x="14960" y="14395"/>
                  <a:pt x="15007" y="14436"/>
                </a:cubicBezTo>
                <a:cubicBezTo>
                  <a:pt x="15064" y="14486"/>
                  <a:pt x="15111" y="14505"/>
                  <a:pt x="15180" y="14536"/>
                </a:cubicBezTo>
              </a:path>
              <a:path w="1365" h="422">
                <a:moveTo>
                  <a:pt x="15701" y="14163"/>
                </a:moveTo>
                <a:cubicBezTo>
                  <a:pt x="15731" y="14264"/>
                  <a:pt x="15737" y="14380"/>
                  <a:pt x="15751" y="14486"/>
                </a:cubicBezTo>
                <a:cubicBezTo>
                  <a:pt x="15751" y="14503"/>
                  <a:pt x="15751" y="14519"/>
                  <a:pt x="15751" y="14536"/>
                </a:cubicBezTo>
                <a:cubicBezTo>
                  <a:pt x="15867" y="14536"/>
                  <a:pt x="15982" y="14536"/>
                  <a:pt x="16098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240" y="5402160"/>
            <a:ext cx="544680" cy="1890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14734" y="15056"/>
                </a:moveTo>
                <a:cubicBezTo>
                  <a:pt x="14686" y="15182"/>
                  <a:pt x="14685" y="15311"/>
                  <a:pt x="14635" y="15429"/>
                </a:cubicBezTo>
                <a:cubicBezTo>
                  <a:pt x="14627" y="15437"/>
                  <a:pt x="14618" y="15445"/>
                  <a:pt x="14610" y="15453"/>
                </a:cubicBezTo>
                <a:cubicBezTo>
                  <a:pt x="14643" y="15355"/>
                  <a:pt x="14709" y="15226"/>
                  <a:pt x="14759" y="15131"/>
                </a:cubicBezTo>
                <a:cubicBezTo>
                  <a:pt x="14832" y="14991"/>
                  <a:pt x="14907" y="14981"/>
                  <a:pt x="14932" y="15156"/>
                </a:cubicBezTo>
                <a:cubicBezTo>
                  <a:pt x="14932" y="15247"/>
                  <a:pt x="14932" y="15271"/>
                  <a:pt x="14932" y="15329"/>
                </a:cubicBezTo>
                <a:cubicBezTo>
                  <a:pt x="14932" y="15370"/>
                  <a:pt x="14923" y="15295"/>
                  <a:pt x="14932" y="15255"/>
                </a:cubicBezTo>
                <a:cubicBezTo>
                  <a:pt x="14954" y="15159"/>
                  <a:pt x="14988" y="15073"/>
                  <a:pt x="15106" y="15131"/>
                </a:cubicBezTo>
                <a:cubicBezTo>
                  <a:pt x="15211" y="15183"/>
                  <a:pt x="15168" y="15277"/>
                  <a:pt x="15156" y="15354"/>
                </a:cubicBezTo>
                <a:cubicBezTo>
                  <a:pt x="15156" y="15371"/>
                  <a:pt x="15156" y="15387"/>
                  <a:pt x="15156" y="15404"/>
                </a:cubicBezTo>
              </a:path>
              <a:path w="1514" h="522">
                <a:moveTo>
                  <a:pt x="15726" y="15180"/>
                </a:moveTo>
                <a:cubicBezTo>
                  <a:pt x="15726" y="15243"/>
                  <a:pt x="15726" y="15481"/>
                  <a:pt x="15726" y="15453"/>
                </a:cubicBezTo>
              </a:path>
              <a:path w="1514" h="522">
                <a:moveTo>
                  <a:pt x="15751" y="15056"/>
                </a:moveTo>
                <a:cubicBezTo>
                  <a:pt x="15852" y="15144"/>
                  <a:pt x="15900" y="15284"/>
                  <a:pt x="15974" y="15404"/>
                </a:cubicBezTo>
                <a:cubicBezTo>
                  <a:pt x="16025" y="15486"/>
                  <a:pt x="16040" y="15507"/>
                  <a:pt x="16123" y="15528"/>
                </a:cubicBezTo>
                <a:cubicBezTo>
                  <a:pt x="16123" y="15417"/>
                  <a:pt x="16101" y="15316"/>
                  <a:pt x="16098" y="15205"/>
                </a:cubicBezTo>
                <a:cubicBezTo>
                  <a:pt x="16098" y="15113"/>
                  <a:pt x="16096" y="15087"/>
                  <a:pt x="16123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5884920"/>
            <a:ext cx="303120" cy="241200"/>
          </a:xfrm>
          <a:custGeom>
            <a:avLst/>
            <a:gdLst/>
            <a:ahLst/>
            <a:rect l="l" t="t" r="r" b="b"/>
            <a:pathLst>
              <a:path w="844" h="671">
                <a:moveTo>
                  <a:pt x="15553" y="16495"/>
                </a:moveTo>
                <a:cubicBezTo>
                  <a:pt x="15569" y="16495"/>
                  <a:pt x="15500" y="16501"/>
                  <a:pt x="15453" y="16545"/>
                </a:cubicBezTo>
                <a:cubicBezTo>
                  <a:pt x="15393" y="16601"/>
                  <a:pt x="15463" y="16636"/>
                  <a:pt x="15528" y="16619"/>
                </a:cubicBezTo>
                <a:cubicBezTo>
                  <a:pt x="15551" y="16613"/>
                  <a:pt x="15571" y="16535"/>
                  <a:pt x="15577" y="16520"/>
                </a:cubicBezTo>
                <a:cubicBezTo>
                  <a:pt x="15557" y="16512"/>
                  <a:pt x="15445" y="16510"/>
                  <a:pt x="15429" y="16545"/>
                </a:cubicBezTo>
                <a:cubicBezTo>
                  <a:pt x="15429" y="16561"/>
                  <a:pt x="15429" y="16578"/>
                  <a:pt x="15429" y="16594"/>
                </a:cubicBezTo>
                <a:cubicBezTo>
                  <a:pt x="15498" y="16594"/>
                  <a:pt x="15518" y="16591"/>
                  <a:pt x="15553" y="16545"/>
                </a:cubicBezTo>
                <a:cubicBezTo>
                  <a:pt x="15586" y="16501"/>
                  <a:pt x="15533" y="16506"/>
                  <a:pt x="15478" y="16495"/>
                </a:cubicBezTo>
              </a:path>
              <a:path w="844" h="671">
                <a:moveTo>
                  <a:pt x="15850" y="16396"/>
                </a:moveTo>
                <a:cubicBezTo>
                  <a:pt x="15921" y="16431"/>
                  <a:pt x="15990" y="16552"/>
                  <a:pt x="16049" y="16619"/>
                </a:cubicBezTo>
                <a:cubicBezTo>
                  <a:pt x="16090" y="16661"/>
                  <a:pt x="16098" y="16669"/>
                  <a:pt x="16123" y="16694"/>
                </a:cubicBezTo>
              </a:path>
              <a:path w="844" h="671">
                <a:moveTo>
                  <a:pt x="16272" y="16346"/>
                </a:moveTo>
                <a:cubicBezTo>
                  <a:pt x="16219" y="16491"/>
                  <a:pt x="16170" y="16645"/>
                  <a:pt x="16123" y="16793"/>
                </a:cubicBezTo>
                <a:cubicBezTo>
                  <a:pt x="16111" y="16830"/>
                  <a:pt x="16012" y="17080"/>
                  <a:pt x="16098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4360" y="4384800"/>
            <a:ext cx="187560" cy="2761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12898" y="12204"/>
                </a:moveTo>
                <a:cubicBezTo>
                  <a:pt x="12906" y="12196"/>
                  <a:pt x="12915" y="12187"/>
                  <a:pt x="12923" y="12179"/>
                </a:cubicBezTo>
                <a:cubicBezTo>
                  <a:pt x="12876" y="12179"/>
                  <a:pt x="12794" y="12177"/>
                  <a:pt x="12799" y="12254"/>
                </a:cubicBezTo>
                <a:cubicBezTo>
                  <a:pt x="12806" y="12368"/>
                  <a:pt x="13008" y="12260"/>
                  <a:pt x="13022" y="12204"/>
                </a:cubicBezTo>
                <a:cubicBezTo>
                  <a:pt x="13033" y="12159"/>
                  <a:pt x="12898" y="12184"/>
                  <a:pt x="12898" y="12229"/>
                </a:cubicBezTo>
                <a:cubicBezTo>
                  <a:pt x="12906" y="12237"/>
                  <a:pt x="12915" y="12246"/>
                  <a:pt x="12923" y="12254"/>
                </a:cubicBezTo>
                <a:cubicBezTo>
                  <a:pt x="12968" y="12254"/>
                  <a:pt x="12981" y="12257"/>
                  <a:pt x="12998" y="12229"/>
                </a:cubicBezTo>
                <a:cubicBezTo>
                  <a:pt x="12987" y="12165"/>
                  <a:pt x="12939" y="12155"/>
                  <a:pt x="12898" y="12229"/>
                </a:cubicBezTo>
                <a:cubicBezTo>
                  <a:pt x="12877" y="12267"/>
                  <a:pt x="12957" y="12244"/>
                  <a:pt x="12998" y="12229"/>
                </a:cubicBezTo>
              </a:path>
              <a:path w="522" h="770">
                <a:moveTo>
                  <a:pt x="12948" y="12576"/>
                </a:moveTo>
                <a:cubicBezTo>
                  <a:pt x="12948" y="12700"/>
                  <a:pt x="12948" y="12824"/>
                  <a:pt x="12948" y="12948"/>
                </a:cubicBezTo>
              </a:path>
              <a:path w="522" h="770">
                <a:moveTo>
                  <a:pt x="12650" y="12576"/>
                </a:moveTo>
                <a:cubicBezTo>
                  <a:pt x="12777" y="12558"/>
                  <a:pt x="12892" y="12530"/>
                  <a:pt x="13022" y="12526"/>
                </a:cubicBezTo>
                <a:cubicBezTo>
                  <a:pt x="13071" y="12525"/>
                  <a:pt x="13121" y="12526"/>
                  <a:pt x="13171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46960" y="4384800"/>
            <a:ext cx="214200" cy="295200"/>
          </a:xfrm>
          <a:custGeom>
            <a:avLst/>
            <a:gdLst/>
            <a:ahLst/>
            <a:rect l="l" t="t" r="r" b="b"/>
            <a:pathLst>
              <a:path w="596" h="820">
                <a:moveTo>
                  <a:pt x="21183" y="12204"/>
                </a:moveTo>
                <a:cubicBezTo>
                  <a:pt x="21250" y="12204"/>
                  <a:pt x="21227" y="12199"/>
                  <a:pt x="21183" y="12204"/>
                </a:cubicBezTo>
                <a:cubicBezTo>
                  <a:pt x="21110" y="12204"/>
                  <a:pt x="21086" y="12203"/>
                  <a:pt x="21059" y="12254"/>
                </a:cubicBezTo>
                <a:cubicBezTo>
                  <a:pt x="21091" y="12332"/>
                  <a:pt x="21176" y="12366"/>
                  <a:pt x="21258" y="12303"/>
                </a:cubicBezTo>
                <a:cubicBezTo>
                  <a:pt x="21340" y="12241"/>
                  <a:pt x="21238" y="12194"/>
                  <a:pt x="21183" y="12204"/>
                </a:cubicBezTo>
                <a:cubicBezTo>
                  <a:pt x="21116" y="12227"/>
                  <a:pt x="21098" y="12232"/>
                  <a:pt x="21059" y="12254"/>
                </a:cubicBezTo>
                <a:cubicBezTo>
                  <a:pt x="21093" y="12303"/>
                  <a:pt x="21131" y="12269"/>
                  <a:pt x="21183" y="12254"/>
                </a:cubicBezTo>
                <a:cubicBezTo>
                  <a:pt x="21191" y="12254"/>
                  <a:pt x="21200" y="12254"/>
                  <a:pt x="21208" y="12254"/>
                </a:cubicBezTo>
              </a:path>
              <a:path w="596" h="820">
                <a:moveTo>
                  <a:pt x="20786" y="12700"/>
                </a:moveTo>
                <a:cubicBezTo>
                  <a:pt x="20741" y="12735"/>
                  <a:pt x="20695" y="12827"/>
                  <a:pt x="20687" y="12898"/>
                </a:cubicBezTo>
                <a:cubicBezTo>
                  <a:pt x="20677" y="12997"/>
                  <a:pt x="20784" y="12989"/>
                  <a:pt x="20861" y="12973"/>
                </a:cubicBezTo>
                <a:cubicBezTo>
                  <a:pt x="20964" y="12951"/>
                  <a:pt x="21029" y="12869"/>
                  <a:pt x="21059" y="12774"/>
                </a:cubicBezTo>
                <a:cubicBezTo>
                  <a:pt x="21068" y="12745"/>
                  <a:pt x="21059" y="12705"/>
                  <a:pt x="21059" y="12675"/>
                </a:cubicBezTo>
                <a:cubicBezTo>
                  <a:pt x="21059" y="12769"/>
                  <a:pt x="21045" y="12870"/>
                  <a:pt x="21084" y="12948"/>
                </a:cubicBezTo>
                <a:cubicBezTo>
                  <a:pt x="21112" y="13003"/>
                  <a:pt x="21126" y="13020"/>
                  <a:pt x="21183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08960" y="530388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21258" y="14734"/>
                </a:moveTo>
                <a:cubicBezTo>
                  <a:pt x="21215" y="14745"/>
                  <a:pt x="21156" y="14788"/>
                  <a:pt x="21134" y="14833"/>
                </a:cubicBezTo>
                <a:cubicBezTo>
                  <a:pt x="21134" y="14841"/>
                  <a:pt x="21134" y="14850"/>
                  <a:pt x="21134" y="14858"/>
                </a:cubicBezTo>
                <a:cubicBezTo>
                  <a:pt x="21193" y="14858"/>
                  <a:pt x="21170" y="14865"/>
                  <a:pt x="21208" y="14808"/>
                </a:cubicBezTo>
                <a:cubicBezTo>
                  <a:pt x="21194" y="14811"/>
                  <a:pt x="21102" y="14850"/>
                  <a:pt x="21134" y="14883"/>
                </a:cubicBezTo>
                <a:cubicBezTo>
                  <a:pt x="21171" y="14922"/>
                  <a:pt x="21244" y="14847"/>
                  <a:pt x="21208" y="14833"/>
                </a:cubicBezTo>
                <a:cubicBezTo>
                  <a:pt x="21191" y="14833"/>
                  <a:pt x="21175" y="14833"/>
                  <a:pt x="21158" y="148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83320" y="555480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20836" y="15429"/>
                </a:moveTo>
                <a:cubicBezTo>
                  <a:pt x="20894" y="15584"/>
                  <a:pt x="21007" y="15674"/>
                  <a:pt x="21109" y="15801"/>
                </a:cubicBezTo>
                <a:cubicBezTo>
                  <a:pt x="21148" y="15860"/>
                  <a:pt x="21152" y="15872"/>
                  <a:pt x="21183" y="15900"/>
                </a:cubicBezTo>
              </a:path>
              <a:path w="473" h="497">
                <a:moveTo>
                  <a:pt x="21258" y="15429"/>
                </a:moveTo>
                <a:cubicBezTo>
                  <a:pt x="21116" y="15547"/>
                  <a:pt x="20994" y="15692"/>
                  <a:pt x="20861" y="15825"/>
                </a:cubicBezTo>
                <a:cubicBezTo>
                  <a:pt x="20805" y="15881"/>
                  <a:pt x="20780" y="15879"/>
                  <a:pt x="20786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05200" y="5303880"/>
            <a:ext cx="73080" cy="36360"/>
          </a:xfrm>
          <a:custGeom>
            <a:avLst/>
            <a:gdLst/>
            <a:ahLst/>
            <a:rect l="l" t="t" r="r" b="b"/>
            <a:pathLst>
              <a:path w="200" h="100">
                <a:moveTo>
                  <a:pt x="13196" y="14759"/>
                </a:moveTo>
                <a:cubicBezTo>
                  <a:pt x="13181" y="14713"/>
                  <a:pt x="13095" y="14731"/>
                  <a:pt x="13072" y="14784"/>
                </a:cubicBezTo>
                <a:cubicBezTo>
                  <a:pt x="13072" y="14800"/>
                  <a:pt x="13072" y="14817"/>
                  <a:pt x="13072" y="14833"/>
                </a:cubicBezTo>
                <a:cubicBezTo>
                  <a:pt x="13159" y="14833"/>
                  <a:pt x="13227" y="14845"/>
                  <a:pt x="13271" y="14759"/>
                </a:cubicBezTo>
                <a:cubicBezTo>
                  <a:pt x="13304" y="14694"/>
                  <a:pt x="13182" y="14751"/>
                  <a:pt x="13171" y="14759"/>
                </a:cubicBezTo>
                <a:cubicBezTo>
                  <a:pt x="13220" y="14796"/>
                  <a:pt x="13207" y="14787"/>
                  <a:pt x="13271" y="147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62640" y="5562720"/>
            <a:ext cx="295200" cy="179280"/>
          </a:xfrm>
          <a:custGeom>
            <a:avLst/>
            <a:gdLst/>
            <a:ahLst/>
            <a:rect l="l" t="t" r="r" b="b"/>
            <a:pathLst>
              <a:path w="820" h="497">
                <a:moveTo>
                  <a:pt x="12675" y="15553"/>
                </a:moveTo>
                <a:cubicBezTo>
                  <a:pt x="12755" y="15600"/>
                  <a:pt x="12808" y="15724"/>
                  <a:pt x="12874" y="15801"/>
                </a:cubicBezTo>
                <a:cubicBezTo>
                  <a:pt x="12919" y="15853"/>
                  <a:pt x="12973" y="15900"/>
                  <a:pt x="13022" y="15949"/>
                </a:cubicBezTo>
                <a:cubicBezTo>
                  <a:pt x="13038" y="15857"/>
                  <a:pt x="13082" y="15771"/>
                  <a:pt x="13097" y="15677"/>
                </a:cubicBezTo>
                <a:cubicBezTo>
                  <a:pt x="13106" y="15623"/>
                  <a:pt x="13110" y="15600"/>
                  <a:pt x="13122" y="15553"/>
                </a:cubicBezTo>
                <a:cubicBezTo>
                  <a:pt x="13137" y="15613"/>
                  <a:pt x="13174" y="15703"/>
                  <a:pt x="13221" y="15751"/>
                </a:cubicBezTo>
                <a:cubicBezTo>
                  <a:pt x="13254" y="15784"/>
                  <a:pt x="13303" y="15815"/>
                  <a:pt x="13345" y="15825"/>
                </a:cubicBezTo>
                <a:cubicBezTo>
                  <a:pt x="13345" y="15782"/>
                  <a:pt x="13355" y="15739"/>
                  <a:pt x="13370" y="15701"/>
                </a:cubicBezTo>
                <a:cubicBezTo>
                  <a:pt x="13393" y="15644"/>
                  <a:pt x="13427" y="15580"/>
                  <a:pt x="13444" y="15528"/>
                </a:cubicBezTo>
                <a:cubicBezTo>
                  <a:pt x="13456" y="15493"/>
                  <a:pt x="13464" y="15483"/>
                  <a:pt x="13494" y="154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7880" y="5742000"/>
            <a:ext cx="4608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8483" y="15949"/>
                </a:moveTo>
                <a:cubicBezTo>
                  <a:pt x="8474" y="15952"/>
                  <a:pt x="8384" y="16000"/>
                  <a:pt x="8384" y="16024"/>
                </a:cubicBezTo>
                <a:cubicBezTo>
                  <a:pt x="8384" y="16038"/>
                  <a:pt x="8479" y="15957"/>
                  <a:pt x="8483" y="15949"/>
                </a:cubicBezTo>
                <a:cubicBezTo>
                  <a:pt x="8448" y="15949"/>
                  <a:pt x="8435" y="15958"/>
                  <a:pt x="8434" y="15999"/>
                </a:cubicBezTo>
                <a:cubicBezTo>
                  <a:pt x="8480" y="15990"/>
                  <a:pt x="8490" y="15985"/>
                  <a:pt x="8508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87800" y="5581800"/>
            <a:ext cx="330120" cy="177480"/>
          </a:xfrm>
          <a:custGeom>
            <a:avLst/>
            <a:gdLst/>
            <a:ahLst/>
            <a:rect l="l" t="t" r="r" b="b"/>
            <a:pathLst>
              <a:path w="919" h="497">
                <a:moveTo>
                  <a:pt x="8954" y="15726"/>
                </a:moveTo>
                <a:cubicBezTo>
                  <a:pt x="8918" y="15798"/>
                  <a:pt x="8842" y="15936"/>
                  <a:pt x="8880" y="15974"/>
                </a:cubicBezTo>
                <a:cubicBezTo>
                  <a:pt x="8923" y="15838"/>
                  <a:pt x="8977" y="15723"/>
                  <a:pt x="9054" y="15602"/>
                </a:cubicBezTo>
                <a:cubicBezTo>
                  <a:pt x="9070" y="15577"/>
                  <a:pt x="9087" y="15553"/>
                  <a:pt x="9103" y="15528"/>
                </a:cubicBezTo>
                <a:cubicBezTo>
                  <a:pt x="9163" y="15617"/>
                  <a:pt x="9212" y="15740"/>
                  <a:pt x="9227" y="15850"/>
                </a:cubicBezTo>
                <a:cubicBezTo>
                  <a:pt x="9227" y="15933"/>
                  <a:pt x="9227" y="15949"/>
                  <a:pt x="9227" y="15999"/>
                </a:cubicBezTo>
              </a:path>
              <a:path w="919" h="497">
                <a:moveTo>
                  <a:pt x="8905" y="15925"/>
                </a:moveTo>
                <a:cubicBezTo>
                  <a:pt x="8979" y="15919"/>
                  <a:pt x="9084" y="15922"/>
                  <a:pt x="9153" y="15900"/>
                </a:cubicBezTo>
                <a:cubicBezTo>
                  <a:pt x="9170" y="15892"/>
                  <a:pt x="9186" y="15883"/>
                  <a:pt x="9203" y="15875"/>
                </a:cubicBezTo>
              </a:path>
              <a:path w="919" h="497">
                <a:moveTo>
                  <a:pt x="9451" y="15652"/>
                </a:moveTo>
                <a:cubicBezTo>
                  <a:pt x="9451" y="15724"/>
                  <a:pt x="9441" y="15807"/>
                  <a:pt x="9426" y="15875"/>
                </a:cubicBezTo>
                <a:cubicBezTo>
                  <a:pt x="9407" y="15932"/>
                  <a:pt x="9398" y="15975"/>
                  <a:pt x="9401" y="15925"/>
                </a:cubicBezTo>
                <a:cubicBezTo>
                  <a:pt x="9454" y="15793"/>
                  <a:pt x="9458" y="15655"/>
                  <a:pt x="9525" y="15528"/>
                </a:cubicBezTo>
                <a:cubicBezTo>
                  <a:pt x="9533" y="15520"/>
                  <a:pt x="9542" y="15511"/>
                  <a:pt x="9550" y="15503"/>
                </a:cubicBezTo>
                <a:cubicBezTo>
                  <a:pt x="9609" y="15606"/>
                  <a:pt x="9653" y="15717"/>
                  <a:pt x="9699" y="15825"/>
                </a:cubicBezTo>
                <a:cubicBezTo>
                  <a:pt x="9723" y="15880"/>
                  <a:pt x="9728" y="15935"/>
                  <a:pt x="9773" y="15949"/>
                </a:cubicBezTo>
              </a:path>
              <a:path w="919" h="497">
                <a:moveTo>
                  <a:pt x="9451" y="15825"/>
                </a:moveTo>
                <a:cubicBezTo>
                  <a:pt x="9531" y="15825"/>
                  <a:pt x="9553" y="15816"/>
                  <a:pt x="9599" y="158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920" y="4321080"/>
            <a:ext cx="536400" cy="189000"/>
          </a:xfrm>
          <a:custGeom>
            <a:avLst/>
            <a:gdLst/>
            <a:ahLst/>
            <a:rect l="l" t="t" r="r" b="b"/>
            <a:pathLst>
              <a:path w="1490" h="522">
                <a:moveTo>
                  <a:pt x="322" y="12229"/>
                </a:moveTo>
                <a:cubicBezTo>
                  <a:pt x="442" y="12229"/>
                  <a:pt x="553" y="12245"/>
                  <a:pt x="670" y="12254"/>
                </a:cubicBezTo>
                <a:cubicBezTo>
                  <a:pt x="988" y="12277"/>
                  <a:pt x="1317" y="12254"/>
                  <a:pt x="1637" y="12254"/>
                </a:cubicBezTo>
              </a:path>
              <a:path w="1490" h="522">
                <a:moveTo>
                  <a:pt x="1240" y="12005"/>
                </a:moveTo>
                <a:cubicBezTo>
                  <a:pt x="1372" y="12018"/>
                  <a:pt x="1513" y="12056"/>
                  <a:pt x="1637" y="12105"/>
                </a:cubicBezTo>
                <a:cubicBezTo>
                  <a:pt x="1721" y="12138"/>
                  <a:pt x="1798" y="12199"/>
                  <a:pt x="1811" y="12278"/>
                </a:cubicBezTo>
                <a:cubicBezTo>
                  <a:pt x="1826" y="12370"/>
                  <a:pt x="1600" y="12451"/>
                  <a:pt x="1538" y="12477"/>
                </a:cubicBezTo>
                <a:cubicBezTo>
                  <a:pt x="1477" y="12497"/>
                  <a:pt x="1463" y="12495"/>
                  <a:pt x="1439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5303880"/>
            <a:ext cx="598320" cy="277920"/>
          </a:xfrm>
          <a:custGeom>
            <a:avLst/>
            <a:gdLst/>
            <a:ahLst/>
            <a:rect l="l" t="t" r="r" b="b"/>
            <a:pathLst>
              <a:path w="1663" h="770">
                <a:moveTo>
                  <a:pt x="397" y="15056"/>
                </a:moveTo>
                <a:cubicBezTo>
                  <a:pt x="431" y="15042"/>
                  <a:pt x="447" y="15044"/>
                  <a:pt x="521" y="15032"/>
                </a:cubicBezTo>
                <a:cubicBezTo>
                  <a:pt x="641" y="15012"/>
                  <a:pt x="745" y="15007"/>
                  <a:pt x="868" y="15007"/>
                </a:cubicBezTo>
                <a:cubicBezTo>
                  <a:pt x="960" y="15007"/>
                  <a:pt x="1025" y="15032"/>
                  <a:pt x="1116" y="15032"/>
                </a:cubicBezTo>
                <a:cubicBezTo>
                  <a:pt x="1286" y="15032"/>
                  <a:pt x="1450" y="15036"/>
                  <a:pt x="1612" y="15056"/>
                </a:cubicBezTo>
                <a:cubicBezTo>
                  <a:pt x="1669" y="15063"/>
                  <a:pt x="1811" y="15087"/>
                  <a:pt x="1860" y="15081"/>
                </a:cubicBezTo>
                <a:cubicBezTo>
                  <a:pt x="1901" y="15061"/>
                  <a:pt x="1907" y="15052"/>
                  <a:pt x="1935" y="15056"/>
                </a:cubicBezTo>
              </a:path>
              <a:path w="1663" h="770">
                <a:moveTo>
                  <a:pt x="1488" y="14734"/>
                </a:moveTo>
                <a:cubicBezTo>
                  <a:pt x="1593" y="14734"/>
                  <a:pt x="1659" y="14776"/>
                  <a:pt x="1761" y="14808"/>
                </a:cubicBezTo>
                <a:cubicBezTo>
                  <a:pt x="1837" y="14832"/>
                  <a:pt x="1958" y="14860"/>
                  <a:pt x="2009" y="14932"/>
                </a:cubicBezTo>
                <a:cubicBezTo>
                  <a:pt x="2037" y="14971"/>
                  <a:pt x="2079" y="15028"/>
                  <a:pt x="2059" y="15081"/>
                </a:cubicBezTo>
                <a:cubicBezTo>
                  <a:pt x="1998" y="15244"/>
                  <a:pt x="1827" y="15360"/>
                  <a:pt x="1687" y="15453"/>
                </a:cubicBezTo>
                <a:cubicBezTo>
                  <a:pt x="1643" y="15475"/>
                  <a:pt x="1631" y="15478"/>
                  <a:pt x="1612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13200" y="704880"/>
            <a:ext cx="1258920" cy="501480"/>
          </a:xfrm>
          <a:custGeom>
            <a:avLst/>
            <a:gdLst/>
            <a:ahLst/>
            <a:rect l="l" t="t" r="r" b="b"/>
            <a:pathLst>
              <a:path w="3498" h="1390">
                <a:moveTo>
                  <a:pt x="13965" y="2729"/>
                </a:moveTo>
                <a:cubicBezTo>
                  <a:pt x="14020" y="2701"/>
                  <a:pt x="13853" y="2653"/>
                  <a:pt x="13816" y="2654"/>
                </a:cubicBezTo>
                <a:cubicBezTo>
                  <a:pt x="13690" y="2659"/>
                  <a:pt x="13604" y="2756"/>
                  <a:pt x="13543" y="2853"/>
                </a:cubicBezTo>
                <a:cubicBezTo>
                  <a:pt x="13535" y="2869"/>
                  <a:pt x="13527" y="2886"/>
                  <a:pt x="13519" y="2902"/>
                </a:cubicBezTo>
                <a:cubicBezTo>
                  <a:pt x="13597" y="2997"/>
                  <a:pt x="13696" y="2943"/>
                  <a:pt x="13816" y="2977"/>
                </a:cubicBezTo>
                <a:cubicBezTo>
                  <a:pt x="13932" y="3009"/>
                  <a:pt x="14093" y="3082"/>
                  <a:pt x="14015" y="3225"/>
                </a:cubicBezTo>
                <a:cubicBezTo>
                  <a:pt x="13952" y="3339"/>
                  <a:pt x="13714" y="3315"/>
                  <a:pt x="13618" y="3274"/>
                </a:cubicBezTo>
                <a:cubicBezTo>
                  <a:pt x="13576" y="3233"/>
                  <a:pt x="13568" y="3225"/>
                  <a:pt x="13543" y="3200"/>
                </a:cubicBezTo>
              </a:path>
              <a:path w="3498" h="1390">
                <a:moveTo>
                  <a:pt x="14312" y="2778"/>
                </a:moveTo>
                <a:cubicBezTo>
                  <a:pt x="14312" y="2889"/>
                  <a:pt x="14291" y="2991"/>
                  <a:pt x="14288" y="3101"/>
                </a:cubicBezTo>
                <a:cubicBezTo>
                  <a:pt x="14284" y="3232"/>
                  <a:pt x="14314" y="3269"/>
                  <a:pt x="14461" y="3249"/>
                </a:cubicBezTo>
                <a:cubicBezTo>
                  <a:pt x="14551" y="3237"/>
                  <a:pt x="14587" y="3189"/>
                  <a:pt x="14635" y="3125"/>
                </a:cubicBezTo>
              </a:path>
              <a:path w="3498" h="1390">
                <a:moveTo>
                  <a:pt x="14585" y="2704"/>
                </a:moveTo>
                <a:cubicBezTo>
                  <a:pt x="14585" y="2806"/>
                  <a:pt x="14607" y="2899"/>
                  <a:pt x="14610" y="3001"/>
                </a:cubicBezTo>
                <a:cubicBezTo>
                  <a:pt x="14611" y="3051"/>
                  <a:pt x="14575" y="3300"/>
                  <a:pt x="14635" y="3324"/>
                </a:cubicBezTo>
                <a:cubicBezTo>
                  <a:pt x="14694" y="3347"/>
                  <a:pt x="14665" y="3334"/>
                  <a:pt x="14709" y="3349"/>
                </a:cubicBezTo>
              </a:path>
              <a:path w="3498" h="1390">
                <a:moveTo>
                  <a:pt x="15255" y="2803"/>
                </a:moveTo>
                <a:cubicBezTo>
                  <a:pt x="15255" y="2906"/>
                  <a:pt x="15258" y="3039"/>
                  <a:pt x="15230" y="3101"/>
                </a:cubicBezTo>
                <a:cubicBezTo>
                  <a:pt x="15212" y="3142"/>
                  <a:pt x="15254" y="3075"/>
                  <a:pt x="15205" y="3051"/>
                </a:cubicBezTo>
                <a:cubicBezTo>
                  <a:pt x="15173" y="3035"/>
                  <a:pt x="15076" y="3021"/>
                  <a:pt x="15056" y="3001"/>
                </a:cubicBezTo>
                <a:cubicBezTo>
                  <a:pt x="14980" y="2925"/>
                  <a:pt x="15271" y="3001"/>
                  <a:pt x="15379" y="3001"/>
                </a:cubicBezTo>
              </a:path>
              <a:path w="3498" h="1390">
                <a:moveTo>
                  <a:pt x="15776" y="2729"/>
                </a:moveTo>
                <a:cubicBezTo>
                  <a:pt x="15776" y="2665"/>
                  <a:pt x="15848" y="2922"/>
                  <a:pt x="15850" y="2927"/>
                </a:cubicBezTo>
                <a:cubicBezTo>
                  <a:pt x="15876" y="3001"/>
                  <a:pt x="15924" y="3224"/>
                  <a:pt x="15999" y="3274"/>
                </a:cubicBezTo>
                <a:cubicBezTo>
                  <a:pt x="16007" y="3274"/>
                  <a:pt x="16016" y="3274"/>
                  <a:pt x="16024" y="3274"/>
                </a:cubicBezTo>
                <a:cubicBezTo>
                  <a:pt x="16082" y="3159"/>
                  <a:pt x="16119" y="3043"/>
                  <a:pt x="16173" y="2927"/>
                </a:cubicBezTo>
                <a:cubicBezTo>
                  <a:pt x="16203" y="2863"/>
                  <a:pt x="16249" y="2810"/>
                  <a:pt x="16272" y="2753"/>
                </a:cubicBezTo>
              </a:path>
              <a:path w="3498" h="1390">
                <a:moveTo>
                  <a:pt x="16396" y="2704"/>
                </a:moveTo>
                <a:cubicBezTo>
                  <a:pt x="16418" y="2854"/>
                  <a:pt x="16499" y="2883"/>
                  <a:pt x="16570" y="3001"/>
                </a:cubicBezTo>
                <a:cubicBezTo>
                  <a:pt x="16586" y="3028"/>
                  <a:pt x="16611" y="3093"/>
                  <a:pt x="16619" y="3125"/>
                </a:cubicBezTo>
              </a:path>
              <a:path w="3498" h="1390">
                <a:moveTo>
                  <a:pt x="16718" y="2679"/>
                </a:moveTo>
                <a:cubicBezTo>
                  <a:pt x="16649" y="2750"/>
                  <a:pt x="16582" y="2826"/>
                  <a:pt x="16520" y="2902"/>
                </a:cubicBezTo>
                <a:cubicBezTo>
                  <a:pt x="16467" y="2967"/>
                  <a:pt x="16378" y="3070"/>
                  <a:pt x="16346" y="3150"/>
                </a:cubicBezTo>
                <a:cubicBezTo>
                  <a:pt x="16339" y="3167"/>
                  <a:pt x="16346" y="3206"/>
                  <a:pt x="16346" y="3225"/>
                </a:cubicBezTo>
              </a:path>
              <a:path w="3498" h="1390">
                <a:moveTo>
                  <a:pt x="13618" y="2158"/>
                </a:moveTo>
                <a:cubicBezTo>
                  <a:pt x="13595" y="2181"/>
                  <a:pt x="13591" y="2189"/>
                  <a:pt x="13568" y="2183"/>
                </a:cubicBezTo>
                <a:cubicBezTo>
                  <a:pt x="13645" y="2183"/>
                  <a:pt x="13672" y="2222"/>
                  <a:pt x="13767" y="2232"/>
                </a:cubicBezTo>
                <a:cubicBezTo>
                  <a:pt x="13941" y="2251"/>
                  <a:pt x="14119" y="2229"/>
                  <a:pt x="14288" y="2257"/>
                </a:cubicBezTo>
                <a:cubicBezTo>
                  <a:pt x="14353" y="2268"/>
                  <a:pt x="14421" y="2277"/>
                  <a:pt x="14486" y="2282"/>
                </a:cubicBezTo>
                <a:cubicBezTo>
                  <a:pt x="14511" y="2282"/>
                  <a:pt x="14519" y="2282"/>
                  <a:pt x="14536" y="2282"/>
                </a:cubicBezTo>
              </a:path>
              <a:path w="3498" h="1390">
                <a:moveTo>
                  <a:pt x="14436" y="2034"/>
                </a:moveTo>
                <a:cubicBezTo>
                  <a:pt x="14514" y="2082"/>
                  <a:pt x="14562" y="2155"/>
                  <a:pt x="14635" y="2208"/>
                </a:cubicBezTo>
                <a:cubicBezTo>
                  <a:pt x="14651" y="2216"/>
                  <a:pt x="14668" y="2224"/>
                  <a:pt x="14684" y="2232"/>
                </a:cubicBezTo>
                <a:cubicBezTo>
                  <a:pt x="14650" y="2319"/>
                  <a:pt x="14544" y="2404"/>
                  <a:pt x="14461" y="2456"/>
                </a:cubicBezTo>
                <a:cubicBezTo>
                  <a:pt x="14406" y="2490"/>
                  <a:pt x="14322" y="2535"/>
                  <a:pt x="14263" y="2555"/>
                </a:cubicBezTo>
              </a:path>
              <a:path w="3498" h="1390">
                <a:moveTo>
                  <a:pt x="13717" y="1984"/>
                </a:moveTo>
                <a:cubicBezTo>
                  <a:pt x="13648" y="1971"/>
                  <a:pt x="13536" y="2091"/>
                  <a:pt x="13444" y="2133"/>
                </a:cubicBezTo>
                <a:cubicBezTo>
                  <a:pt x="13419" y="2141"/>
                  <a:pt x="13395" y="2150"/>
                  <a:pt x="13370" y="2158"/>
                </a:cubicBezTo>
                <a:cubicBezTo>
                  <a:pt x="13387" y="2208"/>
                  <a:pt x="13511" y="2217"/>
                  <a:pt x="13568" y="2232"/>
                </a:cubicBezTo>
                <a:cubicBezTo>
                  <a:pt x="13634" y="2249"/>
                  <a:pt x="13701" y="2271"/>
                  <a:pt x="13767" y="2282"/>
                </a:cubicBezTo>
              </a:path>
              <a:path w="3498" h="1390">
                <a:moveTo>
                  <a:pt x="13370" y="2232"/>
                </a:moveTo>
                <a:cubicBezTo>
                  <a:pt x="13378" y="2232"/>
                  <a:pt x="13387" y="2232"/>
                  <a:pt x="13395" y="2232"/>
                </a:cubicBezTo>
                <a:cubicBezTo>
                  <a:pt x="13408" y="2285"/>
                  <a:pt x="13437" y="2356"/>
                  <a:pt x="13469" y="2406"/>
                </a:cubicBezTo>
                <a:cubicBezTo>
                  <a:pt x="13500" y="2454"/>
                  <a:pt x="13548" y="2489"/>
                  <a:pt x="13568" y="2530"/>
                </a:cubicBezTo>
              </a:path>
              <a:path w="3498" h="1390">
                <a:moveTo>
                  <a:pt x="15726" y="2232"/>
                </a:moveTo>
                <a:cubicBezTo>
                  <a:pt x="15821" y="2232"/>
                  <a:pt x="15900" y="2266"/>
                  <a:pt x="15999" y="2257"/>
                </a:cubicBezTo>
                <a:cubicBezTo>
                  <a:pt x="16153" y="2243"/>
                  <a:pt x="16342" y="2197"/>
                  <a:pt x="16495" y="2208"/>
                </a:cubicBezTo>
                <a:cubicBezTo>
                  <a:pt x="16536" y="2228"/>
                  <a:pt x="16542" y="2236"/>
                  <a:pt x="16570" y="2232"/>
                </a:cubicBezTo>
              </a:path>
              <a:path w="3498" h="1390">
                <a:moveTo>
                  <a:pt x="16545" y="1984"/>
                </a:moveTo>
                <a:cubicBezTo>
                  <a:pt x="16611" y="2001"/>
                  <a:pt x="16682" y="2067"/>
                  <a:pt x="16743" y="2108"/>
                </a:cubicBezTo>
                <a:cubicBezTo>
                  <a:pt x="16787" y="2137"/>
                  <a:pt x="16855" y="2172"/>
                  <a:pt x="16867" y="2208"/>
                </a:cubicBezTo>
                <a:cubicBezTo>
                  <a:pt x="16760" y="2283"/>
                  <a:pt x="16633" y="2319"/>
                  <a:pt x="16520" y="2381"/>
                </a:cubicBezTo>
                <a:cubicBezTo>
                  <a:pt x="16512" y="2389"/>
                  <a:pt x="16503" y="2398"/>
                  <a:pt x="16495" y="2406"/>
                </a:cubicBezTo>
              </a:path>
              <a:path w="3498" h="1390">
                <a:moveTo>
                  <a:pt x="15776" y="2009"/>
                </a:moveTo>
                <a:cubicBezTo>
                  <a:pt x="15719" y="2100"/>
                  <a:pt x="15638" y="2188"/>
                  <a:pt x="15553" y="2257"/>
                </a:cubicBezTo>
                <a:cubicBezTo>
                  <a:pt x="15458" y="2335"/>
                  <a:pt x="15449" y="2378"/>
                  <a:pt x="15602" y="2431"/>
                </a:cubicBezTo>
                <a:cubicBezTo>
                  <a:pt x="15673" y="2455"/>
                  <a:pt x="15807" y="2484"/>
                  <a:pt x="15850" y="2505"/>
                </a:cubicBezTo>
                <a:cubicBezTo>
                  <a:pt x="15858" y="2505"/>
                  <a:pt x="15867" y="2505"/>
                  <a:pt x="15875" y="25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3880" y="1357200"/>
            <a:ext cx="403200" cy="339840"/>
          </a:xfrm>
          <a:custGeom>
            <a:avLst/>
            <a:gdLst/>
            <a:ahLst/>
            <a:rect l="l" t="t" r="r" b="b"/>
            <a:pathLst>
              <a:path w="1117" h="944">
                <a:moveTo>
                  <a:pt x="14759" y="4341"/>
                </a:moveTo>
                <a:cubicBezTo>
                  <a:pt x="14726" y="4274"/>
                  <a:pt x="14813" y="4284"/>
                  <a:pt x="14883" y="4266"/>
                </a:cubicBezTo>
                <a:cubicBezTo>
                  <a:pt x="14977" y="4242"/>
                  <a:pt x="15060" y="4242"/>
                  <a:pt x="15156" y="4242"/>
                </a:cubicBezTo>
                <a:cubicBezTo>
                  <a:pt x="15133" y="4354"/>
                  <a:pt x="15062" y="4389"/>
                  <a:pt x="14982" y="4465"/>
                </a:cubicBezTo>
                <a:cubicBezTo>
                  <a:pt x="14916" y="4527"/>
                  <a:pt x="14770" y="4659"/>
                  <a:pt x="14784" y="4713"/>
                </a:cubicBezTo>
                <a:cubicBezTo>
                  <a:pt x="14934" y="4659"/>
                  <a:pt x="15078" y="4608"/>
                  <a:pt x="15230" y="4564"/>
                </a:cubicBezTo>
                <a:cubicBezTo>
                  <a:pt x="15255" y="4556"/>
                  <a:pt x="15279" y="4547"/>
                  <a:pt x="15304" y="4539"/>
                </a:cubicBezTo>
              </a:path>
              <a:path w="1117" h="944">
                <a:moveTo>
                  <a:pt x="15329" y="4142"/>
                </a:moveTo>
                <a:cubicBezTo>
                  <a:pt x="15345" y="4190"/>
                  <a:pt x="15428" y="4224"/>
                  <a:pt x="15478" y="4266"/>
                </a:cubicBezTo>
                <a:cubicBezTo>
                  <a:pt x="15517" y="4305"/>
                  <a:pt x="15519" y="4322"/>
                  <a:pt x="15553" y="4316"/>
                </a:cubicBezTo>
              </a:path>
              <a:path w="1117" h="944">
                <a:moveTo>
                  <a:pt x="15602" y="4043"/>
                </a:moveTo>
                <a:cubicBezTo>
                  <a:pt x="15602" y="4168"/>
                  <a:pt x="15649" y="4493"/>
                  <a:pt x="15577" y="4564"/>
                </a:cubicBezTo>
              </a:path>
              <a:path w="1117" h="944">
                <a:moveTo>
                  <a:pt x="14883" y="4093"/>
                </a:moveTo>
                <a:cubicBezTo>
                  <a:pt x="14996" y="4055"/>
                  <a:pt x="15104" y="4017"/>
                  <a:pt x="15230" y="3994"/>
                </a:cubicBezTo>
                <a:cubicBezTo>
                  <a:pt x="15364" y="3970"/>
                  <a:pt x="15491" y="3944"/>
                  <a:pt x="15627" y="3944"/>
                </a:cubicBezTo>
              </a:path>
              <a:path w="1117" h="944">
                <a:moveTo>
                  <a:pt x="15453" y="3770"/>
                </a:moveTo>
                <a:cubicBezTo>
                  <a:pt x="15545" y="3785"/>
                  <a:pt x="15632" y="3832"/>
                  <a:pt x="15726" y="3845"/>
                </a:cubicBezTo>
                <a:cubicBezTo>
                  <a:pt x="15788" y="3845"/>
                  <a:pt x="15803" y="3835"/>
                  <a:pt x="15825" y="3870"/>
                </a:cubicBezTo>
                <a:cubicBezTo>
                  <a:pt x="15839" y="3908"/>
                  <a:pt x="15632" y="4009"/>
                  <a:pt x="15553" y="4043"/>
                </a:cubicBezTo>
                <a:cubicBezTo>
                  <a:pt x="15429" y="4095"/>
                  <a:pt x="15374" y="4139"/>
                  <a:pt x="15304" y="4093"/>
                </a:cubicBezTo>
              </a:path>
              <a:path w="1117" h="944">
                <a:moveTo>
                  <a:pt x="15032" y="3820"/>
                </a:moveTo>
                <a:cubicBezTo>
                  <a:pt x="14984" y="3931"/>
                  <a:pt x="14905" y="4004"/>
                  <a:pt x="14833" y="4093"/>
                </a:cubicBezTo>
                <a:cubicBezTo>
                  <a:pt x="14813" y="4133"/>
                  <a:pt x="14815" y="4149"/>
                  <a:pt x="14784" y="4142"/>
                </a:cubicBezTo>
                <a:cubicBezTo>
                  <a:pt x="14859" y="4200"/>
                  <a:pt x="14941" y="4196"/>
                  <a:pt x="15032" y="4217"/>
                </a:cubicBezTo>
                <a:cubicBezTo>
                  <a:pt x="15121" y="4247"/>
                  <a:pt x="15162" y="4259"/>
                  <a:pt x="15230" y="42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6840" y="1241280"/>
            <a:ext cx="554040" cy="285840"/>
          </a:xfrm>
          <a:custGeom>
            <a:avLst/>
            <a:gdLst/>
            <a:ahLst/>
            <a:rect l="l" t="t" r="r" b="b"/>
            <a:pathLst>
              <a:path w="1539" h="795">
                <a:moveTo>
                  <a:pt x="16644" y="3994"/>
                </a:moveTo>
                <a:cubicBezTo>
                  <a:pt x="16649" y="4023"/>
                  <a:pt x="16731" y="4227"/>
                  <a:pt x="16718" y="4242"/>
                </a:cubicBezTo>
                <a:cubicBezTo>
                  <a:pt x="16702" y="4234"/>
                  <a:pt x="16685" y="4225"/>
                  <a:pt x="16669" y="4217"/>
                </a:cubicBezTo>
              </a:path>
              <a:path w="1539" h="795">
                <a:moveTo>
                  <a:pt x="16520" y="4192"/>
                </a:moveTo>
                <a:cubicBezTo>
                  <a:pt x="16636" y="4147"/>
                  <a:pt x="16748" y="4105"/>
                  <a:pt x="16867" y="4068"/>
                </a:cubicBezTo>
              </a:path>
              <a:path w="1539" h="795">
                <a:moveTo>
                  <a:pt x="17413" y="3671"/>
                </a:moveTo>
                <a:cubicBezTo>
                  <a:pt x="17306" y="3707"/>
                  <a:pt x="17224" y="3792"/>
                  <a:pt x="17140" y="3870"/>
                </a:cubicBezTo>
                <a:cubicBezTo>
                  <a:pt x="17117" y="3892"/>
                  <a:pt x="17109" y="3897"/>
                  <a:pt x="17115" y="3919"/>
                </a:cubicBezTo>
                <a:cubicBezTo>
                  <a:pt x="17204" y="3981"/>
                  <a:pt x="17315" y="4001"/>
                  <a:pt x="17388" y="4093"/>
                </a:cubicBezTo>
                <a:cubicBezTo>
                  <a:pt x="17492" y="4226"/>
                  <a:pt x="17256" y="4240"/>
                  <a:pt x="17190" y="4242"/>
                </a:cubicBezTo>
                <a:cubicBezTo>
                  <a:pt x="17123" y="4242"/>
                  <a:pt x="17098" y="4250"/>
                  <a:pt x="17115" y="4192"/>
                </a:cubicBezTo>
              </a:path>
              <a:path w="1539" h="795">
                <a:moveTo>
                  <a:pt x="17562" y="3770"/>
                </a:moveTo>
                <a:cubicBezTo>
                  <a:pt x="17582" y="3874"/>
                  <a:pt x="17605" y="4017"/>
                  <a:pt x="17636" y="4118"/>
                </a:cubicBezTo>
                <a:cubicBezTo>
                  <a:pt x="17690" y="4292"/>
                  <a:pt x="17844" y="4219"/>
                  <a:pt x="17909" y="4093"/>
                </a:cubicBezTo>
                <a:cubicBezTo>
                  <a:pt x="17939" y="4036"/>
                  <a:pt x="17950" y="3933"/>
                  <a:pt x="17959" y="3870"/>
                </a:cubicBezTo>
                <a:cubicBezTo>
                  <a:pt x="17959" y="3977"/>
                  <a:pt x="17959" y="4085"/>
                  <a:pt x="17959" y="4192"/>
                </a:cubicBezTo>
              </a:path>
              <a:path w="1539" h="795">
                <a:moveTo>
                  <a:pt x="17264" y="3646"/>
                </a:moveTo>
                <a:cubicBezTo>
                  <a:pt x="17289" y="3609"/>
                  <a:pt x="17474" y="3601"/>
                  <a:pt x="17537" y="3597"/>
                </a:cubicBezTo>
                <a:cubicBezTo>
                  <a:pt x="17670" y="3589"/>
                  <a:pt x="17800" y="3572"/>
                  <a:pt x="17934" y="3572"/>
                </a:cubicBezTo>
              </a:path>
              <a:path w="1539" h="795">
                <a:moveTo>
                  <a:pt x="17512" y="3522"/>
                </a:moveTo>
                <a:cubicBezTo>
                  <a:pt x="17693" y="3522"/>
                  <a:pt x="17846" y="3515"/>
                  <a:pt x="18008" y="3572"/>
                </a:cubicBezTo>
                <a:cubicBezTo>
                  <a:pt x="18051" y="3587"/>
                  <a:pt x="18042" y="3550"/>
                  <a:pt x="18058" y="3597"/>
                </a:cubicBezTo>
                <a:cubicBezTo>
                  <a:pt x="18058" y="3694"/>
                  <a:pt x="17939" y="3719"/>
                  <a:pt x="17859" y="3746"/>
                </a:cubicBezTo>
                <a:cubicBezTo>
                  <a:pt x="17747" y="3784"/>
                  <a:pt x="17735" y="3783"/>
                  <a:pt x="17711" y="3696"/>
                </a:cubicBezTo>
              </a:path>
              <a:path w="1539" h="795">
                <a:moveTo>
                  <a:pt x="17388" y="3448"/>
                </a:moveTo>
                <a:cubicBezTo>
                  <a:pt x="17320" y="3522"/>
                  <a:pt x="17196" y="3624"/>
                  <a:pt x="17165" y="3721"/>
                </a:cubicBezTo>
                <a:cubicBezTo>
                  <a:pt x="17131" y="3827"/>
                  <a:pt x="17336" y="3839"/>
                  <a:pt x="17388" y="3845"/>
                </a:cubicBezTo>
                <a:cubicBezTo>
                  <a:pt x="17479" y="3845"/>
                  <a:pt x="17504" y="3845"/>
                  <a:pt x="17562" y="38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9080" y="1044720"/>
            <a:ext cx="1133640" cy="482400"/>
          </a:xfrm>
          <a:custGeom>
            <a:avLst/>
            <a:gdLst/>
            <a:ahLst/>
            <a:rect l="l" t="t" r="r" b="b"/>
            <a:pathLst>
              <a:path w="3151" h="1341">
                <a:moveTo>
                  <a:pt x="19000" y="3795"/>
                </a:moveTo>
                <a:cubicBezTo>
                  <a:pt x="19000" y="3770"/>
                  <a:pt x="19000" y="3762"/>
                  <a:pt x="19000" y="3746"/>
                </a:cubicBezTo>
                <a:cubicBezTo>
                  <a:pt x="19000" y="3864"/>
                  <a:pt x="19039" y="3976"/>
                  <a:pt x="19050" y="4093"/>
                </a:cubicBezTo>
                <a:cubicBezTo>
                  <a:pt x="19050" y="4167"/>
                  <a:pt x="19050" y="4176"/>
                  <a:pt x="19050" y="4217"/>
                </a:cubicBezTo>
              </a:path>
              <a:path w="3151" h="1341">
                <a:moveTo>
                  <a:pt x="18827" y="3770"/>
                </a:moveTo>
                <a:cubicBezTo>
                  <a:pt x="18884" y="3747"/>
                  <a:pt x="19142" y="3611"/>
                  <a:pt x="19149" y="3770"/>
                </a:cubicBezTo>
                <a:cubicBezTo>
                  <a:pt x="19152" y="3846"/>
                  <a:pt x="19091" y="3916"/>
                  <a:pt x="19050" y="3969"/>
                </a:cubicBezTo>
                <a:cubicBezTo>
                  <a:pt x="19115" y="3969"/>
                  <a:pt x="19207" y="3946"/>
                  <a:pt x="19248" y="4018"/>
                </a:cubicBezTo>
                <a:cubicBezTo>
                  <a:pt x="19306" y="4121"/>
                  <a:pt x="19112" y="4264"/>
                  <a:pt x="19025" y="4242"/>
                </a:cubicBezTo>
                <a:cubicBezTo>
                  <a:pt x="19017" y="4225"/>
                  <a:pt x="19008" y="4209"/>
                  <a:pt x="19000" y="4192"/>
                </a:cubicBezTo>
              </a:path>
              <a:path w="3151" h="1341">
                <a:moveTo>
                  <a:pt x="19348" y="3944"/>
                </a:moveTo>
                <a:cubicBezTo>
                  <a:pt x="19392" y="4032"/>
                  <a:pt x="19408" y="4054"/>
                  <a:pt x="19397" y="4118"/>
                </a:cubicBezTo>
                <a:cubicBezTo>
                  <a:pt x="19427" y="4044"/>
                  <a:pt x="19362" y="3899"/>
                  <a:pt x="19372" y="3795"/>
                </a:cubicBezTo>
                <a:cubicBezTo>
                  <a:pt x="19382" y="3691"/>
                  <a:pt x="19423" y="3611"/>
                  <a:pt x="19521" y="3597"/>
                </a:cubicBezTo>
                <a:cubicBezTo>
                  <a:pt x="19549" y="3718"/>
                  <a:pt x="19566" y="3812"/>
                  <a:pt x="19447" y="3894"/>
                </a:cubicBezTo>
                <a:cubicBezTo>
                  <a:pt x="19424" y="3910"/>
                  <a:pt x="19430" y="3867"/>
                  <a:pt x="19447" y="3845"/>
                </a:cubicBezTo>
                <a:cubicBezTo>
                  <a:pt x="19569" y="3845"/>
                  <a:pt x="19681" y="3846"/>
                  <a:pt x="19571" y="3994"/>
                </a:cubicBezTo>
                <a:cubicBezTo>
                  <a:pt x="19487" y="4106"/>
                  <a:pt x="19444" y="4107"/>
                  <a:pt x="19348" y="4068"/>
                </a:cubicBezTo>
              </a:path>
              <a:path w="3151" h="1341">
                <a:moveTo>
                  <a:pt x="19745" y="3894"/>
                </a:moveTo>
                <a:cubicBezTo>
                  <a:pt x="19787" y="4000"/>
                  <a:pt x="19803" y="4022"/>
                  <a:pt x="19794" y="4093"/>
                </a:cubicBezTo>
                <a:cubicBezTo>
                  <a:pt x="19780" y="3965"/>
                  <a:pt x="19749" y="3852"/>
                  <a:pt x="19794" y="3721"/>
                </a:cubicBezTo>
                <a:cubicBezTo>
                  <a:pt x="19835" y="3638"/>
                  <a:pt x="19835" y="3613"/>
                  <a:pt x="19893" y="3597"/>
                </a:cubicBezTo>
                <a:cubicBezTo>
                  <a:pt x="20007" y="3685"/>
                  <a:pt x="20073" y="3814"/>
                  <a:pt x="20067" y="3969"/>
                </a:cubicBezTo>
                <a:cubicBezTo>
                  <a:pt x="20059" y="3977"/>
                  <a:pt x="20050" y="3986"/>
                  <a:pt x="20042" y="3994"/>
                </a:cubicBezTo>
              </a:path>
              <a:path w="3151" h="1341">
                <a:moveTo>
                  <a:pt x="19794" y="3845"/>
                </a:moveTo>
                <a:cubicBezTo>
                  <a:pt x="19927" y="3812"/>
                  <a:pt x="19984" y="3725"/>
                  <a:pt x="20092" y="3646"/>
                </a:cubicBezTo>
                <a:cubicBezTo>
                  <a:pt x="20100" y="3646"/>
                  <a:pt x="20109" y="3646"/>
                  <a:pt x="20117" y="3646"/>
                </a:cubicBezTo>
                <a:cubicBezTo>
                  <a:pt x="20134" y="3770"/>
                  <a:pt x="20169" y="3894"/>
                  <a:pt x="20191" y="4018"/>
                </a:cubicBezTo>
                <a:cubicBezTo>
                  <a:pt x="20191" y="4026"/>
                  <a:pt x="20191" y="4035"/>
                  <a:pt x="20191" y="4043"/>
                </a:cubicBezTo>
                <a:cubicBezTo>
                  <a:pt x="20191" y="3891"/>
                  <a:pt x="20163" y="3717"/>
                  <a:pt x="20216" y="3572"/>
                </a:cubicBezTo>
                <a:cubicBezTo>
                  <a:pt x="20224" y="3564"/>
                  <a:pt x="20233" y="3555"/>
                  <a:pt x="20241" y="3547"/>
                </a:cubicBezTo>
                <a:cubicBezTo>
                  <a:pt x="20358" y="3599"/>
                  <a:pt x="20412" y="3708"/>
                  <a:pt x="20439" y="3845"/>
                </a:cubicBezTo>
                <a:cubicBezTo>
                  <a:pt x="20439" y="3886"/>
                  <a:pt x="20447" y="3902"/>
                  <a:pt x="20414" y="3894"/>
                </a:cubicBezTo>
              </a:path>
              <a:path w="3151" h="1341">
                <a:moveTo>
                  <a:pt x="20265" y="3795"/>
                </a:moveTo>
                <a:cubicBezTo>
                  <a:pt x="20345" y="3779"/>
                  <a:pt x="20389" y="3754"/>
                  <a:pt x="20439" y="3696"/>
                </a:cubicBezTo>
              </a:path>
              <a:path w="3151" h="1341">
                <a:moveTo>
                  <a:pt x="18802" y="3522"/>
                </a:moveTo>
                <a:cubicBezTo>
                  <a:pt x="18900" y="3400"/>
                  <a:pt x="19073" y="3436"/>
                  <a:pt x="19224" y="3423"/>
                </a:cubicBezTo>
                <a:cubicBezTo>
                  <a:pt x="19499" y="3400"/>
                  <a:pt x="19766" y="3373"/>
                  <a:pt x="20042" y="3373"/>
                </a:cubicBezTo>
                <a:cubicBezTo>
                  <a:pt x="20067" y="3373"/>
                  <a:pt x="20075" y="3373"/>
                  <a:pt x="20092" y="3373"/>
                </a:cubicBezTo>
              </a:path>
              <a:path w="3151" h="1341">
                <a:moveTo>
                  <a:pt x="19893" y="3200"/>
                </a:moveTo>
                <a:cubicBezTo>
                  <a:pt x="20036" y="3213"/>
                  <a:pt x="20201" y="3222"/>
                  <a:pt x="20340" y="3249"/>
                </a:cubicBezTo>
                <a:cubicBezTo>
                  <a:pt x="20383" y="3271"/>
                  <a:pt x="20395" y="3275"/>
                  <a:pt x="20414" y="3299"/>
                </a:cubicBezTo>
                <a:cubicBezTo>
                  <a:pt x="20332" y="3423"/>
                  <a:pt x="20243" y="3449"/>
                  <a:pt x="20117" y="3522"/>
                </a:cubicBezTo>
                <a:cubicBezTo>
                  <a:pt x="20016" y="3581"/>
                  <a:pt x="20016" y="3596"/>
                  <a:pt x="19943" y="3522"/>
                </a:cubicBezTo>
              </a:path>
              <a:path w="3151" h="1341">
                <a:moveTo>
                  <a:pt x="19149" y="3200"/>
                </a:moveTo>
                <a:cubicBezTo>
                  <a:pt x="19130" y="3296"/>
                  <a:pt x="19056" y="3368"/>
                  <a:pt x="19000" y="3448"/>
                </a:cubicBezTo>
                <a:cubicBezTo>
                  <a:pt x="18968" y="3494"/>
                  <a:pt x="18938" y="3525"/>
                  <a:pt x="18926" y="3572"/>
                </a:cubicBezTo>
                <a:cubicBezTo>
                  <a:pt x="19010" y="3584"/>
                  <a:pt x="19080" y="3600"/>
                  <a:pt x="19149" y="3646"/>
                </a:cubicBezTo>
              </a:path>
              <a:path w="3151" h="1341">
                <a:moveTo>
                  <a:pt x="20786" y="3497"/>
                </a:moveTo>
                <a:cubicBezTo>
                  <a:pt x="20817" y="3536"/>
                  <a:pt x="20961" y="3695"/>
                  <a:pt x="20935" y="3746"/>
                </a:cubicBezTo>
                <a:cubicBezTo>
                  <a:pt x="20916" y="3784"/>
                  <a:pt x="20852" y="3733"/>
                  <a:pt x="20811" y="3721"/>
                </a:cubicBezTo>
                <a:cubicBezTo>
                  <a:pt x="20819" y="3697"/>
                  <a:pt x="20899" y="3662"/>
                  <a:pt x="20935" y="3646"/>
                </a:cubicBezTo>
                <a:cubicBezTo>
                  <a:pt x="20976" y="3630"/>
                  <a:pt x="21018" y="3613"/>
                  <a:pt x="21059" y="3597"/>
                </a:cubicBezTo>
              </a:path>
              <a:path w="3151" h="1341">
                <a:moveTo>
                  <a:pt x="21282" y="3349"/>
                </a:moveTo>
                <a:cubicBezTo>
                  <a:pt x="21253" y="3369"/>
                  <a:pt x="21161" y="3441"/>
                  <a:pt x="21208" y="3497"/>
                </a:cubicBezTo>
                <a:cubicBezTo>
                  <a:pt x="21294" y="3599"/>
                  <a:pt x="21437" y="3571"/>
                  <a:pt x="21481" y="3696"/>
                </a:cubicBezTo>
                <a:cubicBezTo>
                  <a:pt x="21518" y="3802"/>
                  <a:pt x="21254" y="3867"/>
                  <a:pt x="21208" y="3795"/>
                </a:cubicBezTo>
                <a:cubicBezTo>
                  <a:pt x="21216" y="3770"/>
                  <a:pt x="21225" y="3746"/>
                  <a:pt x="21233" y="3721"/>
                </a:cubicBezTo>
              </a:path>
              <a:path w="3151" h="1341">
                <a:moveTo>
                  <a:pt x="21729" y="3398"/>
                </a:moveTo>
                <a:cubicBezTo>
                  <a:pt x="21811" y="3491"/>
                  <a:pt x="21851" y="3573"/>
                  <a:pt x="21878" y="3696"/>
                </a:cubicBezTo>
                <a:cubicBezTo>
                  <a:pt x="21878" y="3704"/>
                  <a:pt x="21878" y="3713"/>
                  <a:pt x="21878" y="3721"/>
                </a:cubicBezTo>
              </a:path>
              <a:path w="3151" h="1341">
                <a:moveTo>
                  <a:pt x="21530" y="3398"/>
                </a:moveTo>
                <a:cubicBezTo>
                  <a:pt x="21666" y="3398"/>
                  <a:pt x="21793" y="3381"/>
                  <a:pt x="21927" y="3373"/>
                </a:cubicBezTo>
                <a:cubicBezTo>
                  <a:pt x="21935" y="3373"/>
                  <a:pt x="21944" y="3373"/>
                  <a:pt x="21952" y="3373"/>
                </a:cubicBezTo>
              </a:path>
              <a:path w="3151" h="1341">
                <a:moveTo>
                  <a:pt x="20985" y="3051"/>
                </a:moveTo>
                <a:cubicBezTo>
                  <a:pt x="21118" y="3051"/>
                  <a:pt x="21247" y="3074"/>
                  <a:pt x="21382" y="3076"/>
                </a:cubicBezTo>
                <a:cubicBezTo>
                  <a:pt x="21481" y="3078"/>
                  <a:pt x="21580" y="3076"/>
                  <a:pt x="21679" y="3076"/>
                </a:cubicBezTo>
              </a:path>
              <a:path w="3151" h="1341">
                <a:moveTo>
                  <a:pt x="21506" y="2902"/>
                </a:moveTo>
                <a:cubicBezTo>
                  <a:pt x="21630" y="2950"/>
                  <a:pt x="21735" y="3020"/>
                  <a:pt x="21853" y="3076"/>
                </a:cubicBezTo>
                <a:cubicBezTo>
                  <a:pt x="21893" y="3096"/>
                  <a:pt x="21910" y="3094"/>
                  <a:pt x="21903" y="3125"/>
                </a:cubicBezTo>
                <a:cubicBezTo>
                  <a:pt x="21875" y="3190"/>
                  <a:pt x="21748" y="3277"/>
                  <a:pt x="21654" y="3299"/>
                </a:cubicBezTo>
                <a:cubicBezTo>
                  <a:pt x="21621" y="3299"/>
                  <a:pt x="21588" y="3299"/>
                  <a:pt x="21555" y="3299"/>
                </a:cubicBezTo>
              </a:path>
              <a:path w="3151" h="1341">
                <a:moveTo>
                  <a:pt x="21034" y="2927"/>
                </a:moveTo>
                <a:cubicBezTo>
                  <a:pt x="21018" y="3007"/>
                  <a:pt x="20962" y="3086"/>
                  <a:pt x="20910" y="3150"/>
                </a:cubicBezTo>
                <a:cubicBezTo>
                  <a:pt x="20872" y="3189"/>
                  <a:pt x="20855" y="3191"/>
                  <a:pt x="20861" y="3225"/>
                </a:cubicBezTo>
                <a:cubicBezTo>
                  <a:pt x="20955" y="3225"/>
                  <a:pt x="21080" y="3210"/>
                  <a:pt x="21158" y="3274"/>
                </a:cubicBezTo>
                <a:cubicBezTo>
                  <a:pt x="21158" y="3282"/>
                  <a:pt x="21158" y="3291"/>
                  <a:pt x="21158" y="32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88080" y="1741320"/>
            <a:ext cx="1090800" cy="401760"/>
          </a:xfrm>
          <a:custGeom>
            <a:avLst/>
            <a:gdLst/>
            <a:ahLst/>
            <a:rect l="l" t="t" r="r" b="b"/>
            <a:pathLst>
              <a:path w="3027" h="1117">
                <a:moveTo>
                  <a:pt x="18604" y="5383"/>
                </a:moveTo>
                <a:cubicBezTo>
                  <a:pt x="18515" y="5353"/>
                  <a:pt x="18712" y="5337"/>
                  <a:pt x="18728" y="5333"/>
                </a:cubicBezTo>
                <a:cubicBezTo>
                  <a:pt x="18821" y="5311"/>
                  <a:pt x="18905" y="5283"/>
                  <a:pt x="19000" y="5283"/>
                </a:cubicBezTo>
                <a:cubicBezTo>
                  <a:pt x="19000" y="5441"/>
                  <a:pt x="18924" y="5525"/>
                  <a:pt x="18827" y="5655"/>
                </a:cubicBezTo>
                <a:cubicBezTo>
                  <a:pt x="18758" y="5747"/>
                  <a:pt x="18687" y="5830"/>
                  <a:pt x="18628" y="5928"/>
                </a:cubicBezTo>
                <a:cubicBezTo>
                  <a:pt x="18737" y="5928"/>
                  <a:pt x="18821" y="5902"/>
                  <a:pt x="18926" y="5879"/>
                </a:cubicBezTo>
                <a:cubicBezTo>
                  <a:pt x="18934" y="5879"/>
                  <a:pt x="18943" y="5879"/>
                  <a:pt x="18951" y="5879"/>
                </a:cubicBezTo>
              </a:path>
              <a:path w="3027" h="1117">
                <a:moveTo>
                  <a:pt x="19149" y="5283"/>
                </a:moveTo>
                <a:cubicBezTo>
                  <a:pt x="19178" y="5341"/>
                  <a:pt x="19291" y="5403"/>
                  <a:pt x="19348" y="5457"/>
                </a:cubicBezTo>
                <a:cubicBezTo>
                  <a:pt x="19374" y="5481"/>
                  <a:pt x="19519" y="5681"/>
                  <a:pt x="19521" y="5680"/>
                </a:cubicBezTo>
                <a:cubicBezTo>
                  <a:pt x="19521" y="5672"/>
                  <a:pt x="19521" y="5663"/>
                  <a:pt x="19521" y="5655"/>
                </a:cubicBezTo>
              </a:path>
              <a:path w="3027" h="1117">
                <a:moveTo>
                  <a:pt x="19546" y="5209"/>
                </a:moveTo>
                <a:cubicBezTo>
                  <a:pt x="19531" y="5405"/>
                  <a:pt x="19517" y="5609"/>
                  <a:pt x="19496" y="5804"/>
                </a:cubicBezTo>
                <a:cubicBezTo>
                  <a:pt x="19478" y="5895"/>
                  <a:pt x="19470" y="5902"/>
                  <a:pt x="19472" y="5953"/>
                </a:cubicBezTo>
              </a:path>
              <a:path w="3027" h="1117">
                <a:moveTo>
                  <a:pt x="18678" y="5135"/>
                </a:moveTo>
                <a:cubicBezTo>
                  <a:pt x="18797" y="5135"/>
                  <a:pt x="18932" y="5121"/>
                  <a:pt x="19050" y="5110"/>
                </a:cubicBezTo>
                <a:cubicBezTo>
                  <a:pt x="19200" y="5095"/>
                  <a:pt x="19348" y="5081"/>
                  <a:pt x="19496" y="5060"/>
                </a:cubicBezTo>
              </a:path>
              <a:path w="3027" h="1117">
                <a:moveTo>
                  <a:pt x="19273" y="4837"/>
                </a:moveTo>
                <a:cubicBezTo>
                  <a:pt x="19416" y="4855"/>
                  <a:pt x="19564" y="4891"/>
                  <a:pt x="19695" y="4961"/>
                </a:cubicBezTo>
                <a:cubicBezTo>
                  <a:pt x="19745" y="4988"/>
                  <a:pt x="19779" y="5006"/>
                  <a:pt x="19819" y="5035"/>
                </a:cubicBezTo>
                <a:cubicBezTo>
                  <a:pt x="19728" y="5172"/>
                  <a:pt x="19590" y="5255"/>
                  <a:pt x="19422" y="5283"/>
                </a:cubicBezTo>
                <a:cubicBezTo>
                  <a:pt x="19297" y="5283"/>
                  <a:pt x="19270" y="5290"/>
                  <a:pt x="19199" y="5259"/>
                </a:cubicBezTo>
              </a:path>
              <a:path w="3027" h="1117">
                <a:moveTo>
                  <a:pt x="18901" y="4887"/>
                </a:moveTo>
                <a:cubicBezTo>
                  <a:pt x="18883" y="4974"/>
                  <a:pt x="18828" y="5085"/>
                  <a:pt x="18777" y="5159"/>
                </a:cubicBezTo>
                <a:cubicBezTo>
                  <a:pt x="18761" y="5176"/>
                  <a:pt x="18744" y="5192"/>
                  <a:pt x="18728" y="5209"/>
                </a:cubicBezTo>
                <a:cubicBezTo>
                  <a:pt x="18809" y="5250"/>
                  <a:pt x="18892" y="5273"/>
                  <a:pt x="18976" y="5308"/>
                </a:cubicBezTo>
                <a:cubicBezTo>
                  <a:pt x="19019" y="5330"/>
                  <a:pt x="19031" y="5334"/>
                  <a:pt x="19050" y="5358"/>
                </a:cubicBezTo>
              </a:path>
              <a:path w="3027" h="1117">
                <a:moveTo>
                  <a:pt x="20340" y="5531"/>
                </a:moveTo>
                <a:cubicBezTo>
                  <a:pt x="20321" y="5643"/>
                  <a:pt x="20341" y="5803"/>
                  <a:pt x="20290" y="5904"/>
                </a:cubicBezTo>
                <a:cubicBezTo>
                  <a:pt x="20256" y="5971"/>
                  <a:pt x="20226" y="5771"/>
                  <a:pt x="20191" y="5705"/>
                </a:cubicBezTo>
                <a:cubicBezTo>
                  <a:pt x="20183" y="5697"/>
                  <a:pt x="20174" y="5688"/>
                  <a:pt x="20166" y="5680"/>
                </a:cubicBezTo>
                <a:cubicBezTo>
                  <a:pt x="20145" y="5808"/>
                  <a:pt x="20349" y="5688"/>
                  <a:pt x="20439" y="5655"/>
                </a:cubicBezTo>
                <a:cubicBezTo>
                  <a:pt x="20505" y="5630"/>
                  <a:pt x="20572" y="5606"/>
                  <a:pt x="20638" y="5581"/>
                </a:cubicBezTo>
              </a:path>
              <a:path w="3027" h="1117">
                <a:moveTo>
                  <a:pt x="20935" y="5457"/>
                </a:moveTo>
                <a:cubicBezTo>
                  <a:pt x="20831" y="5475"/>
                  <a:pt x="20773" y="5495"/>
                  <a:pt x="20712" y="5581"/>
                </a:cubicBezTo>
                <a:cubicBezTo>
                  <a:pt x="20865" y="5636"/>
                  <a:pt x="20937" y="5659"/>
                  <a:pt x="21010" y="5804"/>
                </a:cubicBezTo>
                <a:cubicBezTo>
                  <a:pt x="20975" y="5844"/>
                  <a:pt x="20755" y="6010"/>
                  <a:pt x="20712" y="5879"/>
                </a:cubicBezTo>
                <a:cubicBezTo>
                  <a:pt x="20720" y="5854"/>
                  <a:pt x="20729" y="5829"/>
                  <a:pt x="20737" y="5804"/>
                </a:cubicBezTo>
              </a:path>
              <a:path w="3027" h="1117">
                <a:moveTo>
                  <a:pt x="21134" y="5407"/>
                </a:moveTo>
                <a:lnTo>
                  <a:pt x="21158" y="5457"/>
                </a:lnTo>
                <a:lnTo>
                  <a:pt x="21158" y="5556"/>
                </a:lnTo>
                <a:lnTo>
                  <a:pt x="21183" y="5705"/>
                </a:lnTo>
                <a:lnTo>
                  <a:pt x="21208" y="5804"/>
                </a:lnTo>
                <a:lnTo>
                  <a:pt x="21233" y="5854"/>
                </a:lnTo>
                <a:lnTo>
                  <a:pt x="21258" y="5854"/>
                </a:lnTo>
                <a:lnTo>
                  <a:pt x="21357" y="5829"/>
                </a:lnTo>
                <a:lnTo>
                  <a:pt x="21431" y="5730"/>
                </a:lnTo>
                <a:lnTo>
                  <a:pt x="21481" y="5606"/>
                </a:lnTo>
                <a:lnTo>
                  <a:pt x="21481" y="5531"/>
                </a:lnTo>
                <a:lnTo>
                  <a:pt x="21481" y="5556"/>
                </a:lnTo>
                <a:lnTo>
                  <a:pt x="21481" y="5631"/>
                </a:lnTo>
                <a:lnTo>
                  <a:pt x="21506" y="5755"/>
                </a:lnTo>
                <a:lnTo>
                  <a:pt x="21530" y="5829"/>
                </a:lnTo>
                <a:lnTo>
                  <a:pt x="21530" y="5829"/>
                </a:lnTo>
              </a:path>
              <a:path w="3027" h="1117">
                <a:moveTo>
                  <a:pt x="20687" y="5283"/>
                </a:moveTo>
                <a:cubicBezTo>
                  <a:pt x="20856" y="5236"/>
                  <a:pt x="21032" y="5199"/>
                  <a:pt x="21208" y="5184"/>
                </a:cubicBezTo>
                <a:cubicBezTo>
                  <a:pt x="21264" y="5179"/>
                  <a:pt x="21325" y="5184"/>
                  <a:pt x="21382" y="5184"/>
                </a:cubicBezTo>
              </a:path>
              <a:path w="3027" h="1117">
                <a:moveTo>
                  <a:pt x="21134" y="4986"/>
                </a:moveTo>
                <a:cubicBezTo>
                  <a:pt x="21245" y="5010"/>
                  <a:pt x="21398" y="5064"/>
                  <a:pt x="21506" y="5110"/>
                </a:cubicBezTo>
                <a:cubicBezTo>
                  <a:pt x="21565" y="5149"/>
                  <a:pt x="21577" y="5153"/>
                  <a:pt x="21605" y="5184"/>
                </a:cubicBezTo>
                <a:cubicBezTo>
                  <a:pt x="21573" y="5280"/>
                  <a:pt x="21517" y="5349"/>
                  <a:pt x="21431" y="5407"/>
                </a:cubicBezTo>
                <a:cubicBezTo>
                  <a:pt x="21332" y="5473"/>
                  <a:pt x="21326" y="5471"/>
                  <a:pt x="21258" y="5383"/>
                </a:cubicBezTo>
              </a:path>
              <a:path w="3027" h="1117">
                <a:moveTo>
                  <a:pt x="20886" y="5035"/>
                </a:moveTo>
                <a:cubicBezTo>
                  <a:pt x="20864" y="5167"/>
                  <a:pt x="20796" y="5244"/>
                  <a:pt x="20687" y="5333"/>
                </a:cubicBezTo>
                <a:cubicBezTo>
                  <a:pt x="20628" y="5373"/>
                  <a:pt x="20617" y="5377"/>
                  <a:pt x="20588" y="5407"/>
                </a:cubicBezTo>
                <a:cubicBezTo>
                  <a:pt x="20685" y="5427"/>
                  <a:pt x="20787" y="5439"/>
                  <a:pt x="20886" y="5457"/>
                </a:cubicBezTo>
                <a:cubicBezTo>
                  <a:pt x="20951" y="5479"/>
                  <a:pt x="20975" y="5478"/>
                  <a:pt x="20960" y="55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71960" y="2320920"/>
            <a:ext cx="544320" cy="33192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12055" y="6474"/>
                </a:moveTo>
                <a:cubicBezTo>
                  <a:pt x="12104" y="6490"/>
                  <a:pt x="12056" y="6713"/>
                  <a:pt x="12055" y="6772"/>
                </a:cubicBezTo>
                <a:cubicBezTo>
                  <a:pt x="12054" y="6807"/>
                  <a:pt x="12030" y="7068"/>
                  <a:pt x="12030" y="7020"/>
                </a:cubicBezTo>
              </a:path>
              <a:path w="1514" h="919">
                <a:moveTo>
                  <a:pt x="12427" y="6449"/>
                </a:moveTo>
                <a:cubicBezTo>
                  <a:pt x="12445" y="6559"/>
                  <a:pt x="12474" y="6658"/>
                  <a:pt x="12477" y="6772"/>
                </a:cubicBezTo>
                <a:cubicBezTo>
                  <a:pt x="12479" y="6846"/>
                  <a:pt x="12477" y="6921"/>
                  <a:pt x="12477" y="6995"/>
                </a:cubicBezTo>
              </a:path>
              <a:path w="1514" h="919">
                <a:moveTo>
                  <a:pt x="12129" y="6772"/>
                </a:moveTo>
                <a:cubicBezTo>
                  <a:pt x="12200" y="6772"/>
                  <a:pt x="12258" y="6750"/>
                  <a:pt x="12328" y="6747"/>
                </a:cubicBezTo>
                <a:cubicBezTo>
                  <a:pt x="12377" y="6745"/>
                  <a:pt x="12428" y="6747"/>
                  <a:pt x="12477" y="6747"/>
                </a:cubicBezTo>
              </a:path>
              <a:path w="1514" h="919">
                <a:moveTo>
                  <a:pt x="11584" y="6573"/>
                </a:moveTo>
                <a:cubicBezTo>
                  <a:pt x="11584" y="6526"/>
                  <a:pt x="11527" y="6736"/>
                  <a:pt x="11509" y="6772"/>
                </a:cubicBezTo>
                <a:cubicBezTo>
                  <a:pt x="11466" y="6859"/>
                  <a:pt x="11351" y="6931"/>
                  <a:pt x="11311" y="6995"/>
                </a:cubicBezTo>
                <a:cubicBezTo>
                  <a:pt x="11311" y="7003"/>
                  <a:pt x="11311" y="7012"/>
                  <a:pt x="11311" y="7020"/>
                </a:cubicBezTo>
                <a:cubicBezTo>
                  <a:pt x="11396" y="7020"/>
                  <a:pt x="11474" y="6998"/>
                  <a:pt x="11559" y="6995"/>
                </a:cubicBezTo>
                <a:cubicBezTo>
                  <a:pt x="11608" y="6993"/>
                  <a:pt x="11658" y="6995"/>
                  <a:pt x="11708" y="6995"/>
                </a:cubicBezTo>
              </a:path>
              <a:path w="1514" h="919">
                <a:moveTo>
                  <a:pt x="12750" y="7020"/>
                </a:moveTo>
                <a:cubicBezTo>
                  <a:pt x="12825" y="7127"/>
                  <a:pt x="12856" y="7230"/>
                  <a:pt x="12750" y="7342"/>
                </a:cubicBezTo>
                <a:cubicBezTo>
                  <a:pt x="12733" y="7350"/>
                  <a:pt x="12717" y="7359"/>
                  <a:pt x="12700" y="73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76840" y="2340000"/>
            <a:ext cx="519120" cy="366840"/>
          </a:xfrm>
          <a:custGeom>
            <a:avLst/>
            <a:gdLst/>
            <a:ahLst/>
            <a:rect l="l" t="t" r="r" b="b"/>
            <a:pathLst>
              <a:path w="1439" h="1018">
                <a:moveTo>
                  <a:pt x="13568" y="6524"/>
                </a:moveTo>
                <a:cubicBezTo>
                  <a:pt x="13611" y="6524"/>
                  <a:pt x="13606" y="6534"/>
                  <a:pt x="13618" y="6499"/>
                </a:cubicBezTo>
                <a:cubicBezTo>
                  <a:pt x="13522" y="6669"/>
                  <a:pt x="13446" y="6841"/>
                  <a:pt x="13320" y="6995"/>
                </a:cubicBezTo>
                <a:cubicBezTo>
                  <a:pt x="13304" y="7012"/>
                  <a:pt x="13287" y="7028"/>
                  <a:pt x="13271" y="7045"/>
                </a:cubicBezTo>
                <a:cubicBezTo>
                  <a:pt x="13372" y="7028"/>
                  <a:pt x="13461" y="6983"/>
                  <a:pt x="13568" y="6995"/>
                </a:cubicBezTo>
                <a:cubicBezTo>
                  <a:pt x="13647" y="7004"/>
                  <a:pt x="13723" y="7028"/>
                  <a:pt x="13791" y="7045"/>
                </a:cubicBezTo>
              </a:path>
              <a:path w="1439" h="1018">
                <a:moveTo>
                  <a:pt x="13915" y="6499"/>
                </a:moveTo>
                <a:cubicBezTo>
                  <a:pt x="13952" y="6663"/>
                  <a:pt x="13975" y="6829"/>
                  <a:pt x="13990" y="6995"/>
                </a:cubicBezTo>
                <a:cubicBezTo>
                  <a:pt x="13990" y="7053"/>
                  <a:pt x="14006" y="7077"/>
                  <a:pt x="13965" y="7069"/>
                </a:cubicBezTo>
              </a:path>
              <a:path w="1439" h="1018">
                <a:moveTo>
                  <a:pt x="14188" y="6623"/>
                </a:moveTo>
                <a:cubicBezTo>
                  <a:pt x="14130" y="6728"/>
                  <a:pt x="13896" y="6921"/>
                  <a:pt x="13990" y="6846"/>
                </a:cubicBezTo>
                <a:cubicBezTo>
                  <a:pt x="13998" y="6838"/>
                  <a:pt x="14007" y="6829"/>
                  <a:pt x="14015" y="6821"/>
                </a:cubicBezTo>
                <a:cubicBezTo>
                  <a:pt x="14153" y="6846"/>
                  <a:pt x="14298" y="6880"/>
                  <a:pt x="14337" y="7045"/>
                </a:cubicBezTo>
                <a:cubicBezTo>
                  <a:pt x="14337" y="7127"/>
                  <a:pt x="14337" y="7144"/>
                  <a:pt x="14337" y="7193"/>
                </a:cubicBezTo>
              </a:path>
              <a:path w="1439" h="1018">
                <a:moveTo>
                  <a:pt x="14709" y="7342"/>
                </a:moveTo>
                <a:cubicBezTo>
                  <a:pt x="14679" y="7449"/>
                  <a:pt x="14690" y="7458"/>
                  <a:pt x="14610" y="75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46800" y="2313000"/>
            <a:ext cx="1009440" cy="339840"/>
          </a:xfrm>
          <a:custGeom>
            <a:avLst/>
            <a:gdLst/>
            <a:ahLst/>
            <a:rect l="l" t="t" r="r" b="b"/>
            <a:pathLst>
              <a:path w="2804" h="944">
                <a:moveTo>
                  <a:pt x="15255" y="6499"/>
                </a:moveTo>
                <a:cubicBezTo>
                  <a:pt x="15300" y="6616"/>
                  <a:pt x="15255" y="6705"/>
                  <a:pt x="15205" y="6821"/>
                </a:cubicBezTo>
                <a:cubicBezTo>
                  <a:pt x="15164" y="6904"/>
                  <a:pt x="15156" y="6921"/>
                  <a:pt x="15131" y="6970"/>
                </a:cubicBezTo>
                <a:cubicBezTo>
                  <a:pt x="15267" y="6970"/>
                  <a:pt x="15394" y="6977"/>
                  <a:pt x="15528" y="6995"/>
                </a:cubicBezTo>
                <a:cubicBezTo>
                  <a:pt x="15536" y="6995"/>
                  <a:pt x="15545" y="6995"/>
                  <a:pt x="15553" y="6995"/>
                </a:cubicBezTo>
              </a:path>
              <a:path w="2804" h="944">
                <a:moveTo>
                  <a:pt x="15528" y="6499"/>
                </a:moveTo>
                <a:cubicBezTo>
                  <a:pt x="15546" y="6605"/>
                  <a:pt x="15589" y="6713"/>
                  <a:pt x="15602" y="6821"/>
                </a:cubicBezTo>
                <a:cubicBezTo>
                  <a:pt x="15614" y="6916"/>
                  <a:pt x="15598" y="6927"/>
                  <a:pt x="15677" y="6945"/>
                </a:cubicBezTo>
                <a:cubicBezTo>
                  <a:pt x="15817" y="6977"/>
                  <a:pt x="15954" y="6970"/>
                  <a:pt x="16098" y="6970"/>
                </a:cubicBezTo>
                <a:cubicBezTo>
                  <a:pt x="16106" y="6970"/>
                  <a:pt x="16115" y="6970"/>
                  <a:pt x="16123" y="6970"/>
                </a:cubicBezTo>
              </a:path>
              <a:path w="2804" h="944">
                <a:moveTo>
                  <a:pt x="16396" y="7144"/>
                </a:moveTo>
                <a:cubicBezTo>
                  <a:pt x="16380" y="7222"/>
                  <a:pt x="16388" y="7334"/>
                  <a:pt x="16321" y="7367"/>
                </a:cubicBezTo>
              </a:path>
              <a:path w="2804" h="944">
                <a:moveTo>
                  <a:pt x="16818" y="6499"/>
                </a:moveTo>
                <a:cubicBezTo>
                  <a:pt x="16842" y="6499"/>
                  <a:pt x="16851" y="6499"/>
                  <a:pt x="16867" y="6499"/>
                </a:cubicBezTo>
                <a:cubicBezTo>
                  <a:pt x="16850" y="6600"/>
                  <a:pt x="16804" y="6689"/>
                  <a:pt x="16743" y="6772"/>
                </a:cubicBezTo>
                <a:cubicBezTo>
                  <a:pt x="16718" y="6806"/>
                  <a:pt x="16704" y="6830"/>
                  <a:pt x="16694" y="6871"/>
                </a:cubicBezTo>
                <a:cubicBezTo>
                  <a:pt x="16773" y="6871"/>
                  <a:pt x="16871" y="6864"/>
                  <a:pt x="16942" y="6871"/>
                </a:cubicBezTo>
                <a:cubicBezTo>
                  <a:pt x="16999" y="6890"/>
                  <a:pt x="17006" y="6899"/>
                  <a:pt x="17041" y="6896"/>
                </a:cubicBezTo>
              </a:path>
              <a:path w="2804" h="944">
                <a:moveTo>
                  <a:pt x="17388" y="6474"/>
                </a:moveTo>
                <a:cubicBezTo>
                  <a:pt x="17388" y="6564"/>
                  <a:pt x="17424" y="6633"/>
                  <a:pt x="17438" y="6722"/>
                </a:cubicBezTo>
                <a:cubicBezTo>
                  <a:pt x="17445" y="6765"/>
                  <a:pt x="17428" y="6833"/>
                  <a:pt x="17462" y="6796"/>
                </a:cubicBezTo>
              </a:path>
              <a:path w="2804" h="944">
                <a:moveTo>
                  <a:pt x="17090" y="6449"/>
                </a:moveTo>
                <a:cubicBezTo>
                  <a:pt x="17227" y="6449"/>
                  <a:pt x="17354" y="6437"/>
                  <a:pt x="17487" y="6424"/>
                </a:cubicBezTo>
                <a:cubicBezTo>
                  <a:pt x="17563" y="6417"/>
                  <a:pt x="17572" y="6416"/>
                  <a:pt x="17587" y="6474"/>
                </a:cubicBezTo>
              </a:path>
              <a:path w="2804" h="944">
                <a:moveTo>
                  <a:pt x="17289" y="6945"/>
                </a:moveTo>
                <a:cubicBezTo>
                  <a:pt x="17438" y="6945"/>
                  <a:pt x="17586" y="6945"/>
                  <a:pt x="17735" y="6945"/>
                </a:cubicBezTo>
              </a:path>
              <a:path w="2804" h="944">
                <a:moveTo>
                  <a:pt x="17934" y="6970"/>
                </a:moveTo>
                <a:cubicBezTo>
                  <a:pt x="17934" y="7123"/>
                  <a:pt x="17924" y="7148"/>
                  <a:pt x="17785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6160" y="2303640"/>
            <a:ext cx="517680" cy="304560"/>
          </a:xfrm>
          <a:custGeom>
            <a:avLst/>
            <a:gdLst/>
            <a:ahLst/>
            <a:rect l="l" t="t" r="r" b="b"/>
            <a:pathLst>
              <a:path w="1440" h="844">
                <a:moveTo>
                  <a:pt x="18628" y="6499"/>
                </a:moveTo>
                <a:cubicBezTo>
                  <a:pt x="18710" y="6552"/>
                  <a:pt x="18544" y="6681"/>
                  <a:pt x="18504" y="6747"/>
                </a:cubicBezTo>
                <a:cubicBezTo>
                  <a:pt x="18468" y="6806"/>
                  <a:pt x="18428" y="6851"/>
                  <a:pt x="18405" y="6896"/>
                </a:cubicBezTo>
                <a:cubicBezTo>
                  <a:pt x="18542" y="6896"/>
                  <a:pt x="18669" y="6892"/>
                  <a:pt x="18802" y="6871"/>
                </a:cubicBezTo>
                <a:cubicBezTo>
                  <a:pt x="18810" y="6871"/>
                  <a:pt x="18819" y="6871"/>
                  <a:pt x="18827" y="6871"/>
                </a:cubicBezTo>
              </a:path>
              <a:path w="1440" h="844">
                <a:moveTo>
                  <a:pt x="19348" y="6449"/>
                </a:moveTo>
                <a:cubicBezTo>
                  <a:pt x="19356" y="6441"/>
                  <a:pt x="19364" y="6432"/>
                  <a:pt x="19372" y="6424"/>
                </a:cubicBezTo>
                <a:cubicBezTo>
                  <a:pt x="19274" y="6400"/>
                  <a:pt x="19263" y="6378"/>
                  <a:pt x="19174" y="6474"/>
                </a:cubicBezTo>
                <a:cubicBezTo>
                  <a:pt x="19081" y="6575"/>
                  <a:pt x="18986" y="6734"/>
                  <a:pt x="19050" y="6871"/>
                </a:cubicBezTo>
                <a:cubicBezTo>
                  <a:pt x="19104" y="6987"/>
                  <a:pt x="19313" y="6941"/>
                  <a:pt x="19397" y="6896"/>
                </a:cubicBezTo>
                <a:cubicBezTo>
                  <a:pt x="19444" y="6849"/>
                  <a:pt x="19458" y="6837"/>
                  <a:pt x="19472" y="6796"/>
                </a:cubicBezTo>
                <a:cubicBezTo>
                  <a:pt x="19419" y="6727"/>
                  <a:pt x="19344" y="6636"/>
                  <a:pt x="19248" y="6697"/>
                </a:cubicBezTo>
                <a:cubicBezTo>
                  <a:pt x="19198" y="6729"/>
                  <a:pt x="19170" y="6757"/>
                  <a:pt x="19199" y="6772"/>
                </a:cubicBezTo>
              </a:path>
              <a:path w="1440" h="844">
                <a:moveTo>
                  <a:pt x="19844" y="6970"/>
                </a:moveTo>
                <a:cubicBezTo>
                  <a:pt x="19806" y="7112"/>
                  <a:pt x="19798" y="7174"/>
                  <a:pt x="19670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86760" y="2303640"/>
            <a:ext cx="366480" cy="295200"/>
          </a:xfrm>
          <a:custGeom>
            <a:avLst/>
            <a:gdLst/>
            <a:ahLst/>
            <a:rect l="l" t="t" r="r" b="b"/>
            <a:pathLst>
              <a:path w="1018" h="819">
                <a:moveTo>
                  <a:pt x="20340" y="6499"/>
                </a:moveTo>
                <a:cubicBezTo>
                  <a:pt x="20399" y="6519"/>
                  <a:pt x="20333" y="6619"/>
                  <a:pt x="20315" y="6672"/>
                </a:cubicBezTo>
                <a:cubicBezTo>
                  <a:pt x="20295" y="6732"/>
                  <a:pt x="20254" y="6790"/>
                  <a:pt x="20241" y="6846"/>
                </a:cubicBezTo>
                <a:cubicBezTo>
                  <a:pt x="20294" y="6887"/>
                  <a:pt x="20343" y="6894"/>
                  <a:pt x="20414" y="6896"/>
                </a:cubicBezTo>
                <a:cubicBezTo>
                  <a:pt x="20480" y="6898"/>
                  <a:pt x="20547" y="6896"/>
                  <a:pt x="20613" y="6896"/>
                </a:cubicBezTo>
              </a:path>
              <a:path w="1018" h="819">
                <a:moveTo>
                  <a:pt x="20910" y="6424"/>
                </a:moveTo>
                <a:cubicBezTo>
                  <a:pt x="20910" y="6416"/>
                  <a:pt x="20910" y="6408"/>
                  <a:pt x="20910" y="6400"/>
                </a:cubicBezTo>
                <a:cubicBezTo>
                  <a:pt x="20955" y="6458"/>
                  <a:pt x="20986" y="6575"/>
                  <a:pt x="21010" y="6648"/>
                </a:cubicBezTo>
                <a:cubicBezTo>
                  <a:pt x="21026" y="6698"/>
                  <a:pt x="21077" y="6863"/>
                  <a:pt x="20985" y="6871"/>
                </a:cubicBezTo>
                <a:cubicBezTo>
                  <a:pt x="20869" y="6881"/>
                  <a:pt x="20809" y="6831"/>
                  <a:pt x="20712" y="6796"/>
                </a:cubicBezTo>
                <a:cubicBezTo>
                  <a:pt x="20704" y="6796"/>
                  <a:pt x="20695" y="6796"/>
                  <a:pt x="20687" y="6796"/>
                </a:cubicBezTo>
              </a:path>
              <a:path w="1018" h="819">
                <a:moveTo>
                  <a:pt x="21258" y="7045"/>
                </a:moveTo>
                <a:cubicBezTo>
                  <a:pt x="21198" y="7152"/>
                  <a:pt x="21172" y="7177"/>
                  <a:pt x="21059" y="72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58080" y="2160720"/>
            <a:ext cx="608040" cy="554040"/>
          </a:xfrm>
          <a:custGeom>
            <a:avLst/>
            <a:gdLst/>
            <a:ahLst/>
            <a:rect l="l" t="t" r="r" b="b"/>
            <a:pathLst>
              <a:path w="1688" h="1539">
                <a:moveTo>
                  <a:pt x="21927" y="6474"/>
                </a:moveTo>
                <a:cubicBezTo>
                  <a:pt x="21940" y="6512"/>
                  <a:pt x="21952" y="6495"/>
                  <a:pt x="21952" y="6548"/>
                </a:cubicBezTo>
                <a:cubicBezTo>
                  <a:pt x="21952" y="6688"/>
                  <a:pt x="21919" y="6777"/>
                  <a:pt x="21853" y="6896"/>
                </a:cubicBezTo>
                <a:cubicBezTo>
                  <a:pt x="21828" y="6942"/>
                  <a:pt x="21828" y="6949"/>
                  <a:pt x="21828" y="6995"/>
                </a:cubicBezTo>
                <a:cubicBezTo>
                  <a:pt x="21913" y="7006"/>
                  <a:pt x="21985" y="7020"/>
                  <a:pt x="22076" y="7020"/>
                </a:cubicBezTo>
                <a:cubicBezTo>
                  <a:pt x="22109" y="7020"/>
                  <a:pt x="22142" y="7020"/>
                  <a:pt x="22175" y="7020"/>
                </a:cubicBezTo>
              </a:path>
              <a:path w="1688" h="1539">
                <a:moveTo>
                  <a:pt x="22200" y="6474"/>
                </a:moveTo>
                <a:cubicBezTo>
                  <a:pt x="22200" y="6449"/>
                  <a:pt x="22200" y="6441"/>
                  <a:pt x="22225" y="6449"/>
                </a:cubicBezTo>
                <a:cubicBezTo>
                  <a:pt x="22225" y="6580"/>
                  <a:pt x="22219" y="6699"/>
                  <a:pt x="22200" y="6821"/>
                </a:cubicBezTo>
                <a:cubicBezTo>
                  <a:pt x="22200" y="6838"/>
                  <a:pt x="22200" y="6854"/>
                  <a:pt x="22200" y="6871"/>
                </a:cubicBezTo>
              </a:path>
              <a:path w="1688" h="1539">
                <a:moveTo>
                  <a:pt x="22200" y="6474"/>
                </a:moveTo>
                <a:cubicBezTo>
                  <a:pt x="22288" y="6526"/>
                  <a:pt x="22335" y="6637"/>
                  <a:pt x="22399" y="6722"/>
                </a:cubicBezTo>
                <a:cubicBezTo>
                  <a:pt x="22433" y="6767"/>
                  <a:pt x="22477" y="6803"/>
                  <a:pt x="22523" y="6821"/>
                </a:cubicBezTo>
                <a:cubicBezTo>
                  <a:pt x="22523" y="6704"/>
                  <a:pt x="22544" y="6591"/>
                  <a:pt x="22547" y="6474"/>
                </a:cubicBezTo>
                <a:cubicBezTo>
                  <a:pt x="22548" y="6425"/>
                  <a:pt x="22547" y="6375"/>
                  <a:pt x="22547" y="6325"/>
                </a:cubicBezTo>
              </a:path>
              <a:path w="1688" h="1539">
                <a:moveTo>
                  <a:pt x="22622" y="7144"/>
                </a:moveTo>
                <a:cubicBezTo>
                  <a:pt x="22566" y="7273"/>
                  <a:pt x="22558" y="7386"/>
                  <a:pt x="22423" y="7491"/>
                </a:cubicBezTo>
                <a:cubicBezTo>
                  <a:pt x="22390" y="7508"/>
                  <a:pt x="22357" y="7524"/>
                  <a:pt x="22324" y="7541"/>
                </a:cubicBezTo>
              </a:path>
              <a:path w="1688" h="1539">
                <a:moveTo>
                  <a:pt x="22920" y="6102"/>
                </a:moveTo>
                <a:cubicBezTo>
                  <a:pt x="22897" y="6195"/>
                  <a:pt x="22867" y="6333"/>
                  <a:pt x="22820" y="6424"/>
                </a:cubicBezTo>
                <a:cubicBezTo>
                  <a:pt x="22759" y="6543"/>
                  <a:pt x="22735" y="6497"/>
                  <a:pt x="22721" y="6598"/>
                </a:cubicBezTo>
                <a:cubicBezTo>
                  <a:pt x="22781" y="6588"/>
                  <a:pt x="22836" y="6554"/>
                  <a:pt x="22895" y="6548"/>
                </a:cubicBezTo>
                <a:cubicBezTo>
                  <a:pt x="22939" y="6544"/>
                  <a:pt x="22955" y="6563"/>
                  <a:pt x="22969" y="6524"/>
                </a:cubicBezTo>
              </a:path>
              <a:path w="1688" h="1539">
                <a:moveTo>
                  <a:pt x="23118" y="6102"/>
                </a:moveTo>
                <a:cubicBezTo>
                  <a:pt x="23118" y="6054"/>
                  <a:pt x="23138" y="6366"/>
                  <a:pt x="23143" y="6400"/>
                </a:cubicBezTo>
                <a:cubicBezTo>
                  <a:pt x="23162" y="6474"/>
                  <a:pt x="23170" y="6481"/>
                  <a:pt x="23168" y="6524"/>
                </a:cubicBezTo>
              </a:path>
              <a:path w="1688" h="1539">
                <a:moveTo>
                  <a:pt x="23118" y="6102"/>
                </a:moveTo>
                <a:cubicBezTo>
                  <a:pt x="23196" y="6165"/>
                  <a:pt x="23211" y="6272"/>
                  <a:pt x="23242" y="6375"/>
                </a:cubicBezTo>
                <a:cubicBezTo>
                  <a:pt x="23263" y="6444"/>
                  <a:pt x="23272" y="6453"/>
                  <a:pt x="23316" y="6499"/>
                </a:cubicBezTo>
                <a:cubicBezTo>
                  <a:pt x="23316" y="6371"/>
                  <a:pt x="23330" y="6253"/>
                  <a:pt x="23341" y="6127"/>
                </a:cubicBezTo>
                <a:cubicBezTo>
                  <a:pt x="23341" y="6061"/>
                  <a:pt x="23341" y="6044"/>
                  <a:pt x="23341" y="6003"/>
                </a:cubicBezTo>
                <a:cubicBezTo>
                  <a:pt x="23391" y="6162"/>
                  <a:pt x="23400" y="6346"/>
                  <a:pt x="23465" y="6499"/>
                </a:cubicBezTo>
                <a:cubicBezTo>
                  <a:pt x="23479" y="6532"/>
                  <a:pt x="23491" y="6540"/>
                  <a:pt x="23515" y="65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7080" y="2759040"/>
            <a:ext cx="473040" cy="330120"/>
          </a:xfrm>
          <a:custGeom>
            <a:avLst/>
            <a:gdLst/>
            <a:ahLst/>
            <a:rect l="l" t="t" r="r" b="b"/>
            <a:pathLst>
              <a:path w="1315" h="918">
                <a:moveTo>
                  <a:pt x="12923" y="7665"/>
                </a:moveTo>
                <a:cubicBezTo>
                  <a:pt x="13004" y="7718"/>
                  <a:pt x="12816" y="7929"/>
                  <a:pt x="12774" y="7987"/>
                </a:cubicBezTo>
                <a:cubicBezTo>
                  <a:pt x="12696" y="8094"/>
                  <a:pt x="12635" y="8161"/>
                  <a:pt x="12601" y="8285"/>
                </a:cubicBezTo>
                <a:cubicBezTo>
                  <a:pt x="12765" y="8267"/>
                  <a:pt x="12910" y="8205"/>
                  <a:pt x="13072" y="8186"/>
                </a:cubicBezTo>
              </a:path>
              <a:path w="1315" h="918">
                <a:moveTo>
                  <a:pt x="13271" y="7714"/>
                </a:moveTo>
                <a:cubicBezTo>
                  <a:pt x="13271" y="7869"/>
                  <a:pt x="13303" y="8008"/>
                  <a:pt x="13320" y="8161"/>
                </a:cubicBezTo>
                <a:cubicBezTo>
                  <a:pt x="13320" y="8219"/>
                  <a:pt x="13320" y="8227"/>
                  <a:pt x="13320" y="8260"/>
                </a:cubicBezTo>
              </a:path>
              <a:path w="1315" h="918">
                <a:moveTo>
                  <a:pt x="13196" y="7813"/>
                </a:moveTo>
                <a:cubicBezTo>
                  <a:pt x="13261" y="7733"/>
                  <a:pt x="13426" y="7684"/>
                  <a:pt x="13543" y="7714"/>
                </a:cubicBezTo>
                <a:cubicBezTo>
                  <a:pt x="13568" y="7731"/>
                  <a:pt x="13593" y="7747"/>
                  <a:pt x="13618" y="7764"/>
                </a:cubicBezTo>
                <a:cubicBezTo>
                  <a:pt x="13588" y="7911"/>
                  <a:pt x="13503" y="7961"/>
                  <a:pt x="13395" y="8062"/>
                </a:cubicBezTo>
                <a:cubicBezTo>
                  <a:pt x="13444" y="8000"/>
                  <a:pt x="13572" y="7923"/>
                  <a:pt x="13667" y="7987"/>
                </a:cubicBezTo>
                <a:cubicBezTo>
                  <a:pt x="13769" y="8056"/>
                  <a:pt x="13594" y="8254"/>
                  <a:pt x="13543" y="8285"/>
                </a:cubicBezTo>
                <a:cubicBezTo>
                  <a:pt x="13429" y="8353"/>
                  <a:pt x="13308" y="8409"/>
                  <a:pt x="13196" y="8334"/>
                </a:cubicBezTo>
              </a:path>
              <a:path w="1315" h="918">
                <a:moveTo>
                  <a:pt x="13915" y="8310"/>
                </a:moveTo>
                <a:cubicBezTo>
                  <a:pt x="13902" y="8480"/>
                  <a:pt x="13914" y="8537"/>
                  <a:pt x="13767" y="85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76880" y="2741760"/>
            <a:ext cx="509400" cy="374400"/>
          </a:xfrm>
          <a:custGeom>
            <a:avLst/>
            <a:gdLst/>
            <a:ahLst/>
            <a:rect l="l" t="t" r="r" b="b"/>
            <a:pathLst>
              <a:path w="1414" h="1043">
                <a:moveTo>
                  <a:pt x="14982" y="7714"/>
                </a:moveTo>
                <a:cubicBezTo>
                  <a:pt x="14903" y="7850"/>
                  <a:pt x="14866" y="7988"/>
                  <a:pt x="14759" y="8111"/>
                </a:cubicBezTo>
                <a:cubicBezTo>
                  <a:pt x="14694" y="8186"/>
                  <a:pt x="14654" y="8173"/>
                  <a:pt x="14684" y="8235"/>
                </a:cubicBezTo>
                <a:cubicBezTo>
                  <a:pt x="14828" y="8183"/>
                  <a:pt x="14985" y="8159"/>
                  <a:pt x="15131" y="8111"/>
                </a:cubicBezTo>
                <a:cubicBezTo>
                  <a:pt x="15147" y="8103"/>
                  <a:pt x="15164" y="8094"/>
                  <a:pt x="15180" y="8086"/>
                </a:cubicBezTo>
              </a:path>
              <a:path w="1414" h="1043">
                <a:moveTo>
                  <a:pt x="15553" y="7689"/>
                </a:moveTo>
                <a:cubicBezTo>
                  <a:pt x="15569" y="7697"/>
                  <a:pt x="15586" y="7706"/>
                  <a:pt x="15602" y="7714"/>
                </a:cubicBezTo>
                <a:cubicBezTo>
                  <a:pt x="15602" y="7637"/>
                  <a:pt x="15564" y="7587"/>
                  <a:pt x="15478" y="7640"/>
                </a:cubicBezTo>
                <a:cubicBezTo>
                  <a:pt x="15363" y="7711"/>
                  <a:pt x="15250" y="7988"/>
                  <a:pt x="15354" y="8111"/>
                </a:cubicBezTo>
                <a:cubicBezTo>
                  <a:pt x="15453" y="8227"/>
                  <a:pt x="15599" y="8126"/>
                  <a:pt x="15701" y="8086"/>
                </a:cubicBezTo>
              </a:path>
              <a:path w="1414" h="1043">
                <a:moveTo>
                  <a:pt x="16073" y="8458"/>
                </a:moveTo>
                <a:cubicBezTo>
                  <a:pt x="16002" y="8576"/>
                  <a:pt x="15983" y="8613"/>
                  <a:pt x="15900" y="86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0200" y="2724120"/>
            <a:ext cx="507960" cy="312840"/>
          </a:xfrm>
          <a:custGeom>
            <a:avLst/>
            <a:gdLst/>
            <a:ahLst/>
            <a:rect l="l" t="t" r="r" b="b"/>
            <a:pathLst>
              <a:path w="1414" h="870">
                <a:moveTo>
                  <a:pt x="16942" y="7739"/>
                </a:moveTo>
                <a:cubicBezTo>
                  <a:pt x="16966" y="7714"/>
                  <a:pt x="16974" y="7705"/>
                  <a:pt x="16991" y="7689"/>
                </a:cubicBezTo>
                <a:cubicBezTo>
                  <a:pt x="16954" y="7820"/>
                  <a:pt x="16883" y="7932"/>
                  <a:pt x="16793" y="8037"/>
                </a:cubicBezTo>
                <a:cubicBezTo>
                  <a:pt x="16730" y="8099"/>
                  <a:pt x="16712" y="8109"/>
                  <a:pt x="16694" y="8161"/>
                </a:cubicBezTo>
                <a:cubicBezTo>
                  <a:pt x="16779" y="8139"/>
                  <a:pt x="16869" y="8097"/>
                  <a:pt x="16966" y="8086"/>
                </a:cubicBezTo>
                <a:cubicBezTo>
                  <a:pt x="17028" y="8086"/>
                  <a:pt x="17043" y="8077"/>
                  <a:pt x="17066" y="8111"/>
                </a:cubicBezTo>
              </a:path>
              <a:path w="1414" h="870">
                <a:moveTo>
                  <a:pt x="17289" y="7565"/>
                </a:moveTo>
                <a:cubicBezTo>
                  <a:pt x="17289" y="7747"/>
                  <a:pt x="17289" y="8244"/>
                  <a:pt x="17289" y="8062"/>
                </a:cubicBezTo>
                <a:cubicBezTo>
                  <a:pt x="17289" y="7923"/>
                  <a:pt x="17272" y="7792"/>
                  <a:pt x="17338" y="7665"/>
                </a:cubicBezTo>
                <a:cubicBezTo>
                  <a:pt x="17386" y="7574"/>
                  <a:pt x="17530" y="7697"/>
                  <a:pt x="17562" y="7739"/>
                </a:cubicBezTo>
                <a:cubicBezTo>
                  <a:pt x="17638" y="7838"/>
                  <a:pt x="17678" y="7989"/>
                  <a:pt x="17686" y="8111"/>
                </a:cubicBezTo>
                <a:cubicBezTo>
                  <a:pt x="17686" y="8119"/>
                  <a:pt x="17686" y="8128"/>
                  <a:pt x="17686" y="8136"/>
                </a:cubicBezTo>
              </a:path>
              <a:path w="1414" h="870">
                <a:moveTo>
                  <a:pt x="17338" y="7987"/>
                </a:moveTo>
                <a:cubicBezTo>
                  <a:pt x="17418" y="7952"/>
                  <a:pt x="17504" y="7926"/>
                  <a:pt x="17587" y="7913"/>
                </a:cubicBezTo>
                <a:cubicBezTo>
                  <a:pt x="17603" y="7913"/>
                  <a:pt x="17620" y="7913"/>
                  <a:pt x="17636" y="7913"/>
                </a:cubicBezTo>
              </a:path>
              <a:path w="1414" h="870">
                <a:moveTo>
                  <a:pt x="18107" y="8235"/>
                </a:moveTo>
                <a:cubicBezTo>
                  <a:pt x="18098" y="8379"/>
                  <a:pt x="18124" y="8387"/>
                  <a:pt x="18008" y="84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24800" y="2678040"/>
            <a:ext cx="392040" cy="196920"/>
          </a:xfrm>
          <a:custGeom>
            <a:avLst/>
            <a:gdLst/>
            <a:ahLst/>
            <a:rect l="l" t="t" r="r" b="b"/>
            <a:pathLst>
              <a:path w="1092" h="547">
                <a:moveTo>
                  <a:pt x="18802" y="7615"/>
                </a:moveTo>
                <a:cubicBezTo>
                  <a:pt x="18861" y="7635"/>
                  <a:pt x="18821" y="7790"/>
                  <a:pt x="18802" y="7838"/>
                </a:cubicBezTo>
                <a:cubicBezTo>
                  <a:pt x="18778" y="7899"/>
                  <a:pt x="18723" y="7942"/>
                  <a:pt x="18678" y="7987"/>
                </a:cubicBezTo>
                <a:cubicBezTo>
                  <a:pt x="18766" y="7987"/>
                  <a:pt x="18840" y="7971"/>
                  <a:pt x="18926" y="7962"/>
                </a:cubicBezTo>
                <a:cubicBezTo>
                  <a:pt x="18984" y="7962"/>
                  <a:pt x="18992" y="7962"/>
                  <a:pt x="19025" y="7962"/>
                </a:cubicBezTo>
              </a:path>
              <a:path w="1092" h="547">
                <a:moveTo>
                  <a:pt x="19273" y="7441"/>
                </a:moveTo>
                <a:cubicBezTo>
                  <a:pt x="19316" y="7549"/>
                  <a:pt x="19362" y="7665"/>
                  <a:pt x="19397" y="7789"/>
                </a:cubicBezTo>
                <a:cubicBezTo>
                  <a:pt x="19422" y="7880"/>
                  <a:pt x="19454" y="7890"/>
                  <a:pt x="19372" y="7863"/>
                </a:cubicBezTo>
              </a:path>
              <a:path w="1092" h="547">
                <a:moveTo>
                  <a:pt x="19100" y="7441"/>
                </a:moveTo>
                <a:cubicBezTo>
                  <a:pt x="19294" y="7441"/>
                  <a:pt x="19409" y="7453"/>
                  <a:pt x="19596" y="7516"/>
                </a:cubicBezTo>
                <a:cubicBezTo>
                  <a:pt x="19750" y="7568"/>
                  <a:pt x="19845" y="7712"/>
                  <a:pt x="19720" y="7863"/>
                </a:cubicBezTo>
                <a:cubicBezTo>
                  <a:pt x="19644" y="7955"/>
                  <a:pt x="19497" y="8037"/>
                  <a:pt x="19447" y="79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5040" y="3170160"/>
            <a:ext cx="1420920" cy="419040"/>
          </a:xfrm>
          <a:custGeom>
            <a:avLst/>
            <a:gdLst/>
            <a:ahLst/>
            <a:rect l="l" t="t" r="r" b="b"/>
            <a:pathLst>
              <a:path w="3945" h="1166">
                <a:moveTo>
                  <a:pt x="14585" y="8905"/>
                </a:moveTo>
                <a:cubicBezTo>
                  <a:pt x="14474" y="9098"/>
                  <a:pt x="14291" y="9234"/>
                  <a:pt x="14114" y="9376"/>
                </a:cubicBezTo>
                <a:cubicBezTo>
                  <a:pt x="14042" y="9431"/>
                  <a:pt x="14009" y="9422"/>
                  <a:pt x="14015" y="9475"/>
                </a:cubicBezTo>
                <a:cubicBezTo>
                  <a:pt x="14163" y="9451"/>
                  <a:pt x="14278" y="9389"/>
                  <a:pt x="14436" y="9376"/>
                </a:cubicBezTo>
                <a:cubicBezTo>
                  <a:pt x="14542" y="9367"/>
                  <a:pt x="14653" y="9351"/>
                  <a:pt x="14759" y="9351"/>
                </a:cubicBezTo>
              </a:path>
              <a:path w="3945" h="1166">
                <a:moveTo>
                  <a:pt x="14982" y="9029"/>
                </a:moveTo>
                <a:cubicBezTo>
                  <a:pt x="14982" y="9126"/>
                  <a:pt x="14995" y="9209"/>
                  <a:pt x="15007" y="9302"/>
                </a:cubicBezTo>
                <a:cubicBezTo>
                  <a:pt x="15007" y="9318"/>
                  <a:pt x="15007" y="9335"/>
                  <a:pt x="15007" y="9351"/>
                </a:cubicBezTo>
              </a:path>
              <a:path w="3945" h="1166">
                <a:moveTo>
                  <a:pt x="14784" y="8930"/>
                </a:moveTo>
                <a:cubicBezTo>
                  <a:pt x="14963" y="8864"/>
                  <a:pt x="15116" y="8891"/>
                  <a:pt x="15280" y="9004"/>
                </a:cubicBezTo>
                <a:cubicBezTo>
                  <a:pt x="15466" y="9132"/>
                  <a:pt x="15453" y="9279"/>
                  <a:pt x="15280" y="9401"/>
                </a:cubicBezTo>
                <a:cubicBezTo>
                  <a:pt x="15146" y="9495"/>
                  <a:pt x="15135" y="9433"/>
                  <a:pt x="15106" y="9327"/>
                </a:cubicBezTo>
              </a:path>
              <a:path w="3945" h="1166">
                <a:moveTo>
                  <a:pt x="15677" y="8905"/>
                </a:moveTo>
                <a:cubicBezTo>
                  <a:pt x="15702" y="8982"/>
                  <a:pt x="15801" y="9065"/>
                  <a:pt x="15801" y="9153"/>
                </a:cubicBezTo>
                <a:cubicBezTo>
                  <a:pt x="15801" y="9218"/>
                  <a:pt x="15686" y="9106"/>
                  <a:pt x="15627" y="9079"/>
                </a:cubicBezTo>
                <a:cubicBezTo>
                  <a:pt x="15610" y="9071"/>
                  <a:pt x="15594" y="9062"/>
                  <a:pt x="15577" y="9054"/>
                </a:cubicBezTo>
                <a:cubicBezTo>
                  <a:pt x="15585" y="9062"/>
                  <a:pt x="15594" y="9071"/>
                  <a:pt x="15602" y="9079"/>
                </a:cubicBezTo>
                <a:cubicBezTo>
                  <a:pt x="15717" y="9043"/>
                  <a:pt x="15834" y="9015"/>
                  <a:pt x="15949" y="8979"/>
                </a:cubicBezTo>
              </a:path>
              <a:path w="3945" h="1166">
                <a:moveTo>
                  <a:pt x="16619" y="8830"/>
                </a:moveTo>
                <a:cubicBezTo>
                  <a:pt x="16603" y="9008"/>
                  <a:pt x="16538" y="9091"/>
                  <a:pt x="16421" y="9227"/>
                </a:cubicBezTo>
                <a:cubicBezTo>
                  <a:pt x="16379" y="9269"/>
                  <a:pt x="16371" y="9277"/>
                  <a:pt x="16346" y="9302"/>
                </a:cubicBezTo>
                <a:cubicBezTo>
                  <a:pt x="16421" y="9321"/>
                  <a:pt x="16501" y="9314"/>
                  <a:pt x="16594" y="9302"/>
                </a:cubicBezTo>
                <a:cubicBezTo>
                  <a:pt x="16714" y="9287"/>
                  <a:pt x="16822" y="9277"/>
                  <a:pt x="16942" y="9277"/>
                </a:cubicBezTo>
                <a:cubicBezTo>
                  <a:pt x="16966" y="9277"/>
                  <a:pt x="16975" y="9277"/>
                  <a:pt x="16991" y="9277"/>
                </a:cubicBezTo>
              </a:path>
              <a:path w="3945" h="1166">
                <a:moveTo>
                  <a:pt x="17090" y="8979"/>
                </a:moveTo>
                <a:cubicBezTo>
                  <a:pt x="17111" y="9083"/>
                  <a:pt x="17137" y="9164"/>
                  <a:pt x="17140" y="9277"/>
                </a:cubicBezTo>
                <a:cubicBezTo>
                  <a:pt x="17142" y="9335"/>
                  <a:pt x="17140" y="9409"/>
                  <a:pt x="17140" y="9351"/>
                </a:cubicBezTo>
                <a:cubicBezTo>
                  <a:pt x="17108" y="9184"/>
                  <a:pt x="17119" y="9087"/>
                  <a:pt x="17190" y="8930"/>
                </a:cubicBezTo>
                <a:cubicBezTo>
                  <a:pt x="17231" y="8847"/>
                  <a:pt x="17230" y="8821"/>
                  <a:pt x="17289" y="8806"/>
                </a:cubicBezTo>
                <a:cubicBezTo>
                  <a:pt x="17388" y="8892"/>
                  <a:pt x="17423" y="9016"/>
                  <a:pt x="17438" y="9153"/>
                </a:cubicBezTo>
                <a:cubicBezTo>
                  <a:pt x="17448" y="9242"/>
                  <a:pt x="17430" y="9304"/>
                  <a:pt x="17388" y="9376"/>
                </a:cubicBezTo>
              </a:path>
              <a:path w="3945" h="1166">
                <a:moveTo>
                  <a:pt x="17115" y="9203"/>
                </a:moveTo>
                <a:cubicBezTo>
                  <a:pt x="17241" y="9155"/>
                  <a:pt x="17364" y="9108"/>
                  <a:pt x="17487" y="9054"/>
                </a:cubicBezTo>
              </a:path>
              <a:path w="3945" h="1166">
                <a:moveTo>
                  <a:pt x="17934" y="9004"/>
                </a:moveTo>
                <a:cubicBezTo>
                  <a:pt x="17877" y="9052"/>
                  <a:pt x="17847" y="9089"/>
                  <a:pt x="17934" y="9103"/>
                </a:cubicBezTo>
                <a:cubicBezTo>
                  <a:pt x="18006" y="9080"/>
                  <a:pt x="17922" y="9040"/>
                  <a:pt x="17884" y="9029"/>
                </a:cubicBezTo>
              </a:path>
              <a:path w="3945" h="1166">
                <a:moveTo>
                  <a:pt x="17959" y="9525"/>
                </a:moveTo>
                <a:cubicBezTo>
                  <a:pt x="17951" y="9717"/>
                  <a:pt x="17964" y="9938"/>
                  <a:pt x="17711" y="9971"/>
                </a:cubicBezTo>
                <a:cubicBezTo>
                  <a:pt x="17678" y="9963"/>
                  <a:pt x="17644" y="9955"/>
                  <a:pt x="1761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3081240"/>
            <a:ext cx="1233360" cy="436680"/>
          </a:xfrm>
          <a:custGeom>
            <a:avLst/>
            <a:gdLst/>
            <a:ahLst/>
            <a:rect l="l" t="t" r="r" b="b"/>
            <a:pathLst>
              <a:path w="3424" h="1216">
                <a:moveTo>
                  <a:pt x="19075" y="8905"/>
                </a:moveTo>
                <a:cubicBezTo>
                  <a:pt x="19088" y="8865"/>
                  <a:pt x="19087" y="8895"/>
                  <a:pt x="19100" y="8855"/>
                </a:cubicBezTo>
                <a:cubicBezTo>
                  <a:pt x="19058" y="8939"/>
                  <a:pt x="18951" y="9047"/>
                  <a:pt x="18876" y="9128"/>
                </a:cubicBezTo>
                <a:cubicBezTo>
                  <a:pt x="18798" y="9212"/>
                  <a:pt x="18717" y="9243"/>
                  <a:pt x="18628" y="9302"/>
                </a:cubicBezTo>
                <a:cubicBezTo>
                  <a:pt x="18741" y="9279"/>
                  <a:pt x="18857" y="9270"/>
                  <a:pt x="18976" y="9252"/>
                </a:cubicBezTo>
                <a:cubicBezTo>
                  <a:pt x="19058" y="9239"/>
                  <a:pt x="19171" y="9291"/>
                  <a:pt x="19224" y="9227"/>
                </a:cubicBezTo>
                <a:cubicBezTo>
                  <a:pt x="19224" y="9203"/>
                  <a:pt x="19224" y="9195"/>
                  <a:pt x="19248" y="9203"/>
                </a:cubicBezTo>
              </a:path>
              <a:path w="3424" h="1216">
                <a:moveTo>
                  <a:pt x="19546" y="8756"/>
                </a:moveTo>
                <a:cubicBezTo>
                  <a:pt x="19546" y="8687"/>
                  <a:pt x="19590" y="8836"/>
                  <a:pt x="19596" y="8905"/>
                </a:cubicBezTo>
                <a:cubicBezTo>
                  <a:pt x="19602" y="8966"/>
                  <a:pt x="19543" y="9183"/>
                  <a:pt x="19596" y="9203"/>
                </a:cubicBezTo>
                <a:cubicBezTo>
                  <a:pt x="19709" y="9246"/>
                  <a:pt x="19825" y="9185"/>
                  <a:pt x="19943" y="9178"/>
                </a:cubicBezTo>
                <a:cubicBezTo>
                  <a:pt x="19951" y="9178"/>
                  <a:pt x="19960" y="9178"/>
                  <a:pt x="19968" y="9178"/>
                </a:cubicBezTo>
              </a:path>
              <a:path w="3424" h="1216">
                <a:moveTo>
                  <a:pt x="20216" y="8830"/>
                </a:moveTo>
                <a:cubicBezTo>
                  <a:pt x="20265" y="8867"/>
                  <a:pt x="20348" y="8958"/>
                  <a:pt x="20290" y="8979"/>
                </a:cubicBezTo>
                <a:cubicBezTo>
                  <a:pt x="20222" y="8979"/>
                  <a:pt x="20203" y="8982"/>
                  <a:pt x="20166" y="8954"/>
                </a:cubicBezTo>
                <a:cubicBezTo>
                  <a:pt x="20107" y="8954"/>
                  <a:pt x="20250" y="8936"/>
                  <a:pt x="20265" y="8930"/>
                </a:cubicBezTo>
                <a:cubicBezTo>
                  <a:pt x="20298" y="8913"/>
                  <a:pt x="20332" y="8897"/>
                  <a:pt x="20365" y="8880"/>
                </a:cubicBezTo>
              </a:path>
              <a:path w="3424" h="1216">
                <a:moveTo>
                  <a:pt x="20737" y="8706"/>
                </a:moveTo>
                <a:cubicBezTo>
                  <a:pt x="20737" y="8840"/>
                  <a:pt x="20698" y="8910"/>
                  <a:pt x="20638" y="9029"/>
                </a:cubicBezTo>
                <a:cubicBezTo>
                  <a:pt x="20576" y="9153"/>
                  <a:pt x="20578" y="9090"/>
                  <a:pt x="20563" y="9178"/>
                </a:cubicBezTo>
                <a:cubicBezTo>
                  <a:pt x="20684" y="9198"/>
                  <a:pt x="20810" y="9217"/>
                  <a:pt x="20935" y="9227"/>
                </a:cubicBezTo>
                <a:cubicBezTo>
                  <a:pt x="20975" y="9230"/>
                  <a:pt x="21018" y="9227"/>
                  <a:pt x="21059" y="9227"/>
                </a:cubicBezTo>
              </a:path>
              <a:path w="3424" h="1216">
                <a:moveTo>
                  <a:pt x="21134" y="8979"/>
                </a:moveTo>
                <a:cubicBezTo>
                  <a:pt x="21134" y="8957"/>
                  <a:pt x="21134" y="8797"/>
                  <a:pt x="21134" y="8855"/>
                </a:cubicBezTo>
                <a:cubicBezTo>
                  <a:pt x="21134" y="8872"/>
                  <a:pt x="21134" y="8888"/>
                  <a:pt x="21134" y="8905"/>
                </a:cubicBezTo>
                <a:cubicBezTo>
                  <a:pt x="21119" y="8983"/>
                  <a:pt x="21121" y="9141"/>
                  <a:pt x="21084" y="9178"/>
                </a:cubicBezTo>
                <a:cubicBezTo>
                  <a:pt x="21084" y="9052"/>
                  <a:pt x="21107" y="8953"/>
                  <a:pt x="21134" y="8830"/>
                </a:cubicBezTo>
                <a:cubicBezTo>
                  <a:pt x="21161" y="8706"/>
                  <a:pt x="21155" y="8709"/>
                  <a:pt x="21233" y="8632"/>
                </a:cubicBezTo>
                <a:cubicBezTo>
                  <a:pt x="21363" y="8783"/>
                  <a:pt x="21400" y="8877"/>
                  <a:pt x="21406" y="9079"/>
                </a:cubicBezTo>
                <a:cubicBezTo>
                  <a:pt x="21406" y="9140"/>
                  <a:pt x="21415" y="9155"/>
                  <a:pt x="21382" y="9178"/>
                </a:cubicBezTo>
                <a:cubicBezTo>
                  <a:pt x="21298" y="9022"/>
                  <a:pt x="21294" y="8947"/>
                  <a:pt x="21357" y="8781"/>
                </a:cubicBezTo>
                <a:cubicBezTo>
                  <a:pt x="21393" y="8686"/>
                  <a:pt x="21418" y="8632"/>
                  <a:pt x="21481" y="8558"/>
                </a:cubicBezTo>
                <a:cubicBezTo>
                  <a:pt x="21592" y="8641"/>
                  <a:pt x="21656" y="8789"/>
                  <a:pt x="21679" y="8930"/>
                </a:cubicBezTo>
                <a:cubicBezTo>
                  <a:pt x="21689" y="8992"/>
                  <a:pt x="21670" y="9273"/>
                  <a:pt x="21679" y="9252"/>
                </a:cubicBezTo>
                <a:cubicBezTo>
                  <a:pt x="21687" y="9236"/>
                  <a:pt x="21696" y="9219"/>
                  <a:pt x="21704" y="9203"/>
                </a:cubicBezTo>
              </a:path>
              <a:path w="3424" h="1216">
                <a:moveTo>
                  <a:pt x="22051" y="8954"/>
                </a:moveTo>
                <a:cubicBezTo>
                  <a:pt x="22020" y="8959"/>
                  <a:pt x="21947" y="9003"/>
                  <a:pt x="21952" y="9054"/>
                </a:cubicBezTo>
                <a:cubicBezTo>
                  <a:pt x="21960" y="9062"/>
                  <a:pt x="21969" y="9071"/>
                  <a:pt x="21977" y="9079"/>
                </a:cubicBezTo>
                <a:cubicBezTo>
                  <a:pt x="21983" y="9031"/>
                  <a:pt x="22027" y="8937"/>
                  <a:pt x="21927" y="8954"/>
                </a:cubicBezTo>
                <a:cubicBezTo>
                  <a:pt x="21919" y="8962"/>
                  <a:pt x="21911" y="8971"/>
                  <a:pt x="21903" y="8979"/>
                </a:cubicBezTo>
              </a:path>
              <a:path w="3424" h="1216">
                <a:moveTo>
                  <a:pt x="22027" y="9451"/>
                </a:moveTo>
                <a:cubicBezTo>
                  <a:pt x="21948" y="9638"/>
                  <a:pt x="21920" y="9701"/>
                  <a:pt x="21729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48120" y="3456000"/>
            <a:ext cx="1197000" cy="295200"/>
          </a:xfrm>
          <a:custGeom>
            <a:avLst/>
            <a:gdLst/>
            <a:ahLst/>
            <a:rect l="l" t="t" r="r" b="b"/>
            <a:pathLst>
              <a:path w="3325" h="820">
                <a:moveTo>
                  <a:pt x="14064" y="9699"/>
                </a:moveTo>
                <a:cubicBezTo>
                  <a:pt x="14113" y="9699"/>
                  <a:pt x="13940" y="9803"/>
                  <a:pt x="13915" y="9823"/>
                </a:cubicBezTo>
                <a:cubicBezTo>
                  <a:pt x="13776" y="9933"/>
                  <a:pt x="13620" y="10039"/>
                  <a:pt x="13469" y="10120"/>
                </a:cubicBezTo>
                <a:cubicBezTo>
                  <a:pt x="13568" y="10145"/>
                  <a:pt x="13629" y="10128"/>
                  <a:pt x="13742" y="10120"/>
                </a:cubicBezTo>
                <a:cubicBezTo>
                  <a:pt x="13815" y="10115"/>
                  <a:pt x="13891" y="10120"/>
                  <a:pt x="13965" y="10120"/>
                </a:cubicBezTo>
              </a:path>
              <a:path w="3325" h="820">
                <a:moveTo>
                  <a:pt x="14263" y="9748"/>
                </a:moveTo>
                <a:cubicBezTo>
                  <a:pt x="14323" y="9768"/>
                  <a:pt x="14308" y="9779"/>
                  <a:pt x="14288" y="9872"/>
                </a:cubicBezTo>
                <a:cubicBezTo>
                  <a:pt x="14266" y="9974"/>
                  <a:pt x="14205" y="10044"/>
                  <a:pt x="14188" y="10145"/>
                </a:cubicBezTo>
                <a:cubicBezTo>
                  <a:pt x="14280" y="10191"/>
                  <a:pt x="14360" y="10158"/>
                  <a:pt x="14461" y="10145"/>
                </a:cubicBezTo>
                <a:cubicBezTo>
                  <a:pt x="14503" y="10145"/>
                  <a:pt x="14511" y="10145"/>
                  <a:pt x="14536" y="10145"/>
                </a:cubicBezTo>
              </a:path>
              <a:path w="3325" h="820">
                <a:moveTo>
                  <a:pt x="14337" y="9922"/>
                </a:moveTo>
                <a:cubicBezTo>
                  <a:pt x="14410" y="9885"/>
                  <a:pt x="14492" y="9876"/>
                  <a:pt x="14560" y="9847"/>
                </a:cubicBezTo>
                <a:cubicBezTo>
                  <a:pt x="14568" y="9839"/>
                  <a:pt x="14577" y="9831"/>
                  <a:pt x="14585" y="9823"/>
                </a:cubicBezTo>
              </a:path>
              <a:path w="3325" h="820">
                <a:moveTo>
                  <a:pt x="14362" y="9649"/>
                </a:moveTo>
                <a:cubicBezTo>
                  <a:pt x="14399" y="9576"/>
                  <a:pt x="14478" y="9599"/>
                  <a:pt x="14560" y="9599"/>
                </a:cubicBezTo>
                <a:cubicBezTo>
                  <a:pt x="14568" y="9599"/>
                  <a:pt x="14577" y="9599"/>
                  <a:pt x="14585" y="9599"/>
                </a:cubicBezTo>
              </a:path>
              <a:path w="3325" h="820">
                <a:moveTo>
                  <a:pt x="14784" y="10195"/>
                </a:moveTo>
                <a:cubicBezTo>
                  <a:pt x="14784" y="10154"/>
                  <a:pt x="14796" y="10183"/>
                  <a:pt x="14808" y="10145"/>
                </a:cubicBezTo>
              </a:path>
              <a:path w="3325" h="820">
                <a:moveTo>
                  <a:pt x="15056" y="9798"/>
                </a:moveTo>
                <a:cubicBezTo>
                  <a:pt x="15058" y="9830"/>
                  <a:pt x="15111" y="10038"/>
                  <a:pt x="15032" y="10021"/>
                </a:cubicBezTo>
                <a:cubicBezTo>
                  <a:pt x="14943" y="10002"/>
                  <a:pt x="14892" y="9944"/>
                  <a:pt x="14808" y="9971"/>
                </a:cubicBezTo>
                <a:cubicBezTo>
                  <a:pt x="14800" y="9971"/>
                  <a:pt x="14792" y="9971"/>
                  <a:pt x="14784" y="9971"/>
                </a:cubicBezTo>
                <a:cubicBezTo>
                  <a:pt x="14866" y="10012"/>
                  <a:pt x="15062" y="9927"/>
                  <a:pt x="15180" y="9897"/>
                </a:cubicBezTo>
                <a:cubicBezTo>
                  <a:pt x="15221" y="9889"/>
                  <a:pt x="15263" y="9880"/>
                  <a:pt x="15304" y="9872"/>
                </a:cubicBezTo>
              </a:path>
              <a:path w="3325" h="820">
                <a:moveTo>
                  <a:pt x="15627" y="9773"/>
                </a:moveTo>
                <a:cubicBezTo>
                  <a:pt x="15627" y="9811"/>
                  <a:pt x="15648" y="9698"/>
                  <a:pt x="15602" y="9823"/>
                </a:cubicBezTo>
                <a:cubicBezTo>
                  <a:pt x="15579" y="9887"/>
                  <a:pt x="15551" y="10030"/>
                  <a:pt x="15503" y="10071"/>
                </a:cubicBezTo>
                <a:cubicBezTo>
                  <a:pt x="15477" y="10093"/>
                  <a:pt x="15372" y="10090"/>
                  <a:pt x="15329" y="10120"/>
                </a:cubicBezTo>
                <a:cubicBezTo>
                  <a:pt x="15304" y="10145"/>
                  <a:pt x="15296" y="10153"/>
                  <a:pt x="15280" y="10170"/>
                </a:cubicBezTo>
                <a:cubicBezTo>
                  <a:pt x="15394" y="10193"/>
                  <a:pt x="15507" y="10158"/>
                  <a:pt x="15627" y="10145"/>
                </a:cubicBezTo>
                <a:cubicBezTo>
                  <a:pt x="15685" y="10145"/>
                  <a:pt x="15693" y="10145"/>
                  <a:pt x="15726" y="10145"/>
                </a:cubicBezTo>
              </a:path>
              <a:path w="3325" h="820">
                <a:moveTo>
                  <a:pt x="15900" y="9823"/>
                </a:moveTo>
                <a:cubicBezTo>
                  <a:pt x="15913" y="9923"/>
                  <a:pt x="15849" y="10112"/>
                  <a:pt x="15949" y="10120"/>
                </a:cubicBezTo>
                <a:cubicBezTo>
                  <a:pt x="16066" y="10130"/>
                  <a:pt x="15907" y="9890"/>
                  <a:pt x="15900" y="9773"/>
                </a:cubicBezTo>
                <a:cubicBezTo>
                  <a:pt x="15894" y="9671"/>
                  <a:pt x="16060" y="9679"/>
                  <a:pt x="16123" y="9674"/>
                </a:cubicBezTo>
                <a:cubicBezTo>
                  <a:pt x="16184" y="9669"/>
                  <a:pt x="16219" y="9686"/>
                  <a:pt x="16247" y="9723"/>
                </a:cubicBezTo>
              </a:path>
              <a:path w="3325" h="820">
                <a:moveTo>
                  <a:pt x="15949" y="9947"/>
                </a:moveTo>
                <a:cubicBezTo>
                  <a:pt x="16009" y="9940"/>
                  <a:pt x="16063" y="9929"/>
                  <a:pt x="16123" y="9922"/>
                </a:cubicBezTo>
              </a:path>
              <a:path w="3325" h="820">
                <a:moveTo>
                  <a:pt x="16594" y="9872"/>
                </a:moveTo>
                <a:cubicBezTo>
                  <a:pt x="16594" y="9864"/>
                  <a:pt x="16594" y="9855"/>
                  <a:pt x="16594" y="9847"/>
                </a:cubicBezTo>
              </a:path>
              <a:path w="3325" h="820">
                <a:moveTo>
                  <a:pt x="16793" y="10319"/>
                </a:moveTo>
                <a:cubicBezTo>
                  <a:pt x="16704" y="10429"/>
                  <a:pt x="16737" y="10414"/>
                  <a:pt x="16594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97760" y="3500280"/>
            <a:ext cx="1054080" cy="304920"/>
          </a:xfrm>
          <a:custGeom>
            <a:avLst/>
            <a:gdLst/>
            <a:ahLst/>
            <a:rect l="l" t="t" r="r" b="b"/>
            <a:pathLst>
              <a:path w="2928" h="845">
                <a:moveTo>
                  <a:pt x="17562" y="9798"/>
                </a:moveTo>
                <a:cubicBezTo>
                  <a:pt x="17492" y="9885"/>
                  <a:pt x="17423" y="9945"/>
                  <a:pt x="17338" y="10021"/>
                </a:cubicBezTo>
                <a:cubicBezTo>
                  <a:pt x="17276" y="10084"/>
                  <a:pt x="17266" y="10102"/>
                  <a:pt x="17214" y="10120"/>
                </a:cubicBezTo>
                <a:cubicBezTo>
                  <a:pt x="17342" y="10120"/>
                  <a:pt x="17487" y="10117"/>
                  <a:pt x="17611" y="10145"/>
                </a:cubicBezTo>
                <a:cubicBezTo>
                  <a:pt x="17661" y="10156"/>
                  <a:pt x="17663" y="10170"/>
                  <a:pt x="17711" y="10170"/>
                </a:cubicBezTo>
              </a:path>
              <a:path w="2928" h="845">
                <a:moveTo>
                  <a:pt x="18008" y="9798"/>
                </a:moveTo>
                <a:cubicBezTo>
                  <a:pt x="18008" y="9723"/>
                  <a:pt x="18001" y="9898"/>
                  <a:pt x="17983" y="9971"/>
                </a:cubicBezTo>
                <a:cubicBezTo>
                  <a:pt x="17968" y="10032"/>
                  <a:pt x="17959" y="10060"/>
                  <a:pt x="17959" y="10120"/>
                </a:cubicBezTo>
              </a:path>
              <a:path w="2928" h="845">
                <a:moveTo>
                  <a:pt x="18281" y="9723"/>
                </a:moveTo>
                <a:cubicBezTo>
                  <a:pt x="18293" y="9845"/>
                  <a:pt x="18327" y="9949"/>
                  <a:pt x="18281" y="10071"/>
                </a:cubicBezTo>
                <a:cubicBezTo>
                  <a:pt x="18273" y="10079"/>
                  <a:pt x="18264" y="10088"/>
                  <a:pt x="18256" y="10096"/>
                </a:cubicBezTo>
              </a:path>
              <a:path w="2928" h="845">
                <a:moveTo>
                  <a:pt x="18008" y="9996"/>
                </a:moveTo>
                <a:cubicBezTo>
                  <a:pt x="18117" y="9985"/>
                  <a:pt x="18224" y="9961"/>
                  <a:pt x="18331" y="9947"/>
                </a:cubicBezTo>
                <a:cubicBezTo>
                  <a:pt x="18347" y="9947"/>
                  <a:pt x="18364" y="9947"/>
                  <a:pt x="18380" y="9947"/>
                </a:cubicBezTo>
              </a:path>
              <a:path w="2928" h="845">
                <a:moveTo>
                  <a:pt x="18703" y="10319"/>
                </a:moveTo>
                <a:cubicBezTo>
                  <a:pt x="18651" y="10390"/>
                  <a:pt x="18626" y="10423"/>
                  <a:pt x="18554" y="10468"/>
                </a:cubicBezTo>
              </a:path>
              <a:path w="2928" h="845">
                <a:moveTo>
                  <a:pt x="18628" y="9872"/>
                </a:moveTo>
                <a:cubicBezTo>
                  <a:pt x="18655" y="9926"/>
                  <a:pt x="18696" y="10052"/>
                  <a:pt x="18678" y="10120"/>
                </a:cubicBezTo>
                <a:cubicBezTo>
                  <a:pt x="18670" y="10128"/>
                  <a:pt x="18661" y="10137"/>
                  <a:pt x="18653" y="10145"/>
                </a:cubicBezTo>
                <a:cubicBezTo>
                  <a:pt x="18615" y="10107"/>
                  <a:pt x="18572" y="10031"/>
                  <a:pt x="18529" y="10021"/>
                </a:cubicBezTo>
                <a:cubicBezTo>
                  <a:pt x="18521" y="10021"/>
                  <a:pt x="18512" y="10021"/>
                  <a:pt x="18504" y="10021"/>
                </a:cubicBezTo>
                <a:cubicBezTo>
                  <a:pt x="18469" y="10144"/>
                  <a:pt x="18594" y="10099"/>
                  <a:pt x="18703" y="10071"/>
                </a:cubicBezTo>
                <a:cubicBezTo>
                  <a:pt x="18753" y="10054"/>
                  <a:pt x="18802" y="10038"/>
                  <a:pt x="18852" y="10021"/>
                </a:cubicBezTo>
              </a:path>
              <a:path w="2928" h="845">
                <a:moveTo>
                  <a:pt x="19273" y="9897"/>
                </a:moveTo>
                <a:cubicBezTo>
                  <a:pt x="19273" y="9864"/>
                  <a:pt x="19128" y="10030"/>
                  <a:pt x="19075" y="10071"/>
                </a:cubicBezTo>
                <a:cubicBezTo>
                  <a:pt x="18979" y="10143"/>
                  <a:pt x="18950" y="10166"/>
                  <a:pt x="18876" y="10195"/>
                </a:cubicBezTo>
                <a:cubicBezTo>
                  <a:pt x="18994" y="10215"/>
                  <a:pt x="19102" y="10220"/>
                  <a:pt x="19224" y="10220"/>
                </a:cubicBezTo>
                <a:cubicBezTo>
                  <a:pt x="19240" y="10220"/>
                  <a:pt x="19257" y="10220"/>
                  <a:pt x="19273" y="10220"/>
                </a:cubicBezTo>
              </a:path>
              <a:path w="2928" h="845">
                <a:moveTo>
                  <a:pt x="19571" y="9897"/>
                </a:moveTo>
                <a:cubicBezTo>
                  <a:pt x="19571" y="9991"/>
                  <a:pt x="19551" y="10077"/>
                  <a:pt x="19546" y="10170"/>
                </a:cubicBezTo>
                <a:cubicBezTo>
                  <a:pt x="19546" y="10178"/>
                  <a:pt x="19546" y="10187"/>
                  <a:pt x="19546" y="10195"/>
                </a:cubicBezTo>
              </a:path>
              <a:path w="2928" h="845">
                <a:moveTo>
                  <a:pt x="19869" y="9798"/>
                </a:moveTo>
                <a:cubicBezTo>
                  <a:pt x="19852" y="9814"/>
                  <a:pt x="19836" y="9831"/>
                  <a:pt x="19819" y="9847"/>
                </a:cubicBezTo>
              </a:path>
              <a:path w="2928" h="845">
                <a:moveTo>
                  <a:pt x="19323" y="9897"/>
                </a:moveTo>
                <a:cubicBezTo>
                  <a:pt x="19425" y="9876"/>
                  <a:pt x="19537" y="9854"/>
                  <a:pt x="19645" y="9847"/>
                </a:cubicBezTo>
                <a:cubicBezTo>
                  <a:pt x="19740" y="9841"/>
                  <a:pt x="19784" y="9858"/>
                  <a:pt x="19869" y="9872"/>
                </a:cubicBezTo>
              </a:path>
              <a:path w="2928" h="845">
                <a:moveTo>
                  <a:pt x="19348" y="10220"/>
                </a:moveTo>
                <a:cubicBezTo>
                  <a:pt x="19482" y="10268"/>
                  <a:pt x="19604" y="10270"/>
                  <a:pt x="19745" y="10244"/>
                </a:cubicBezTo>
                <a:cubicBezTo>
                  <a:pt x="19802" y="10225"/>
                  <a:pt x="19809" y="10217"/>
                  <a:pt x="19844" y="10220"/>
                </a:cubicBezTo>
              </a:path>
              <a:path w="2928" h="845">
                <a:moveTo>
                  <a:pt x="20067" y="9872"/>
                </a:moveTo>
                <a:cubicBezTo>
                  <a:pt x="20055" y="9921"/>
                  <a:pt x="20026" y="9955"/>
                  <a:pt x="20092" y="9922"/>
                </a:cubicBezTo>
              </a:path>
              <a:path w="2928" h="845">
                <a:moveTo>
                  <a:pt x="20141" y="10368"/>
                </a:moveTo>
                <a:cubicBezTo>
                  <a:pt x="20053" y="10516"/>
                  <a:pt x="20055" y="10513"/>
                  <a:pt x="19893" y="105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02680" y="3490920"/>
            <a:ext cx="965160" cy="206280"/>
          </a:xfrm>
          <a:custGeom>
            <a:avLst/>
            <a:gdLst/>
            <a:ahLst/>
            <a:rect l="l" t="t" r="r" b="b"/>
            <a:pathLst>
              <a:path w="2680" h="571">
                <a:moveTo>
                  <a:pt x="20786" y="9723"/>
                </a:moveTo>
                <a:cubicBezTo>
                  <a:pt x="20875" y="9666"/>
                  <a:pt x="20746" y="9930"/>
                  <a:pt x="20737" y="9947"/>
                </a:cubicBezTo>
                <a:cubicBezTo>
                  <a:pt x="20688" y="10045"/>
                  <a:pt x="20637" y="10096"/>
                  <a:pt x="20563" y="10170"/>
                </a:cubicBezTo>
                <a:cubicBezTo>
                  <a:pt x="20640" y="10170"/>
                  <a:pt x="20862" y="10131"/>
                  <a:pt x="20910" y="10145"/>
                </a:cubicBezTo>
                <a:cubicBezTo>
                  <a:pt x="20910" y="10153"/>
                  <a:pt x="20910" y="10162"/>
                  <a:pt x="20910" y="10170"/>
                </a:cubicBezTo>
              </a:path>
              <a:path w="2680" h="571">
                <a:moveTo>
                  <a:pt x="21357" y="9847"/>
                </a:moveTo>
                <a:cubicBezTo>
                  <a:pt x="21357" y="9990"/>
                  <a:pt x="21365" y="10094"/>
                  <a:pt x="21307" y="10220"/>
                </a:cubicBezTo>
              </a:path>
              <a:path w="2680" h="571">
                <a:moveTo>
                  <a:pt x="21158" y="9823"/>
                </a:moveTo>
                <a:cubicBezTo>
                  <a:pt x="21319" y="9790"/>
                  <a:pt x="21432" y="9740"/>
                  <a:pt x="21555" y="9847"/>
                </a:cubicBezTo>
                <a:cubicBezTo>
                  <a:pt x="21486" y="9951"/>
                  <a:pt x="21419" y="9990"/>
                  <a:pt x="21307" y="10046"/>
                </a:cubicBezTo>
                <a:cubicBezTo>
                  <a:pt x="21352" y="10037"/>
                  <a:pt x="21595" y="10014"/>
                  <a:pt x="21580" y="10120"/>
                </a:cubicBezTo>
                <a:cubicBezTo>
                  <a:pt x="21564" y="10234"/>
                  <a:pt x="21343" y="10317"/>
                  <a:pt x="21258" y="10244"/>
                </a:cubicBezTo>
                <a:cubicBezTo>
                  <a:pt x="21258" y="10185"/>
                  <a:pt x="21261" y="10159"/>
                  <a:pt x="21282" y="10120"/>
                </a:cubicBezTo>
              </a:path>
              <a:path w="2680" h="571">
                <a:moveTo>
                  <a:pt x="21927" y="9947"/>
                </a:moveTo>
                <a:cubicBezTo>
                  <a:pt x="21940" y="9998"/>
                  <a:pt x="21952" y="10034"/>
                  <a:pt x="21952" y="10096"/>
                </a:cubicBezTo>
                <a:cubicBezTo>
                  <a:pt x="21876" y="10096"/>
                  <a:pt x="21824" y="10077"/>
                  <a:pt x="21754" y="10046"/>
                </a:cubicBezTo>
                <a:cubicBezTo>
                  <a:pt x="21853" y="10074"/>
                  <a:pt x="21944" y="10071"/>
                  <a:pt x="22051" y="10071"/>
                </a:cubicBezTo>
              </a:path>
              <a:path w="2680" h="571">
                <a:moveTo>
                  <a:pt x="22498" y="9872"/>
                </a:moveTo>
                <a:cubicBezTo>
                  <a:pt x="22506" y="9864"/>
                  <a:pt x="22515" y="9855"/>
                  <a:pt x="22523" y="9847"/>
                </a:cubicBezTo>
                <a:cubicBezTo>
                  <a:pt x="22501" y="9982"/>
                  <a:pt x="22421" y="10009"/>
                  <a:pt x="22324" y="10096"/>
                </a:cubicBezTo>
                <a:cubicBezTo>
                  <a:pt x="22266" y="10154"/>
                  <a:pt x="22258" y="10162"/>
                  <a:pt x="22225" y="10195"/>
                </a:cubicBezTo>
                <a:cubicBezTo>
                  <a:pt x="22327" y="10208"/>
                  <a:pt x="22447" y="10196"/>
                  <a:pt x="22547" y="10220"/>
                </a:cubicBezTo>
                <a:cubicBezTo>
                  <a:pt x="22555" y="10228"/>
                  <a:pt x="22564" y="10236"/>
                  <a:pt x="22572" y="10244"/>
                </a:cubicBezTo>
              </a:path>
              <a:path w="2680" h="571">
                <a:moveTo>
                  <a:pt x="23019" y="9897"/>
                </a:moveTo>
                <a:cubicBezTo>
                  <a:pt x="23062" y="9875"/>
                  <a:pt x="22943" y="9834"/>
                  <a:pt x="22870" y="9897"/>
                </a:cubicBezTo>
                <a:cubicBezTo>
                  <a:pt x="22761" y="9991"/>
                  <a:pt x="22676" y="10215"/>
                  <a:pt x="22895" y="10244"/>
                </a:cubicBezTo>
                <a:cubicBezTo>
                  <a:pt x="23006" y="10258"/>
                  <a:pt x="23145" y="10185"/>
                  <a:pt x="23242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26000" y="400068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2874" y="11112"/>
                </a:moveTo>
                <a:cubicBezTo>
                  <a:pt x="12866" y="11120"/>
                  <a:pt x="12857" y="11129"/>
                  <a:pt x="12849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angles and their relationships to one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ector:  A ray that divides (bisects) an angle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es on both sides of a bisector must be eq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562720" y="2590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029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562720" y="3200400"/>
            <a:ext cx="1828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200" y="1187280"/>
            <a:ext cx="1965600" cy="777960"/>
          </a:xfrm>
          <a:custGeom>
            <a:avLst/>
            <a:gdLst/>
            <a:ahLst/>
            <a:rect l="l" t="t" r="r" b="b"/>
            <a:pathLst>
              <a:path w="5459" h="2159">
                <a:moveTo>
                  <a:pt x="595" y="3473"/>
                </a:moveTo>
                <a:cubicBezTo>
                  <a:pt x="731" y="3499"/>
                  <a:pt x="700" y="3614"/>
                  <a:pt x="744" y="3721"/>
                </a:cubicBezTo>
                <a:cubicBezTo>
                  <a:pt x="810" y="3851"/>
                  <a:pt x="820" y="3887"/>
                  <a:pt x="893" y="3944"/>
                </a:cubicBezTo>
              </a:path>
              <a:path w="5459" h="2159">
                <a:moveTo>
                  <a:pt x="446" y="3398"/>
                </a:moveTo>
                <a:cubicBezTo>
                  <a:pt x="657" y="3346"/>
                  <a:pt x="851" y="3253"/>
                  <a:pt x="1042" y="3349"/>
                </a:cubicBezTo>
                <a:cubicBezTo>
                  <a:pt x="1022" y="3468"/>
                  <a:pt x="982" y="3508"/>
                  <a:pt x="893" y="3597"/>
                </a:cubicBezTo>
                <a:cubicBezTo>
                  <a:pt x="922" y="3510"/>
                  <a:pt x="1095" y="3586"/>
                  <a:pt x="1141" y="3646"/>
                </a:cubicBezTo>
                <a:cubicBezTo>
                  <a:pt x="1230" y="3763"/>
                  <a:pt x="1150" y="3911"/>
                  <a:pt x="1042" y="3969"/>
                </a:cubicBezTo>
                <a:cubicBezTo>
                  <a:pt x="969" y="4009"/>
                  <a:pt x="930" y="3994"/>
                  <a:pt x="893" y="3944"/>
                </a:cubicBezTo>
              </a:path>
              <a:path w="5459" h="2159">
                <a:moveTo>
                  <a:pt x="1414" y="3795"/>
                </a:moveTo>
                <a:cubicBezTo>
                  <a:pt x="1414" y="3875"/>
                  <a:pt x="1428" y="3954"/>
                  <a:pt x="1389" y="4018"/>
                </a:cubicBezTo>
              </a:path>
              <a:path w="5459" h="2159">
                <a:moveTo>
                  <a:pt x="1240" y="3423"/>
                </a:moveTo>
                <a:cubicBezTo>
                  <a:pt x="1248" y="3423"/>
                  <a:pt x="1257" y="3423"/>
                  <a:pt x="1265" y="3423"/>
                </a:cubicBezTo>
              </a:path>
              <a:path w="5459" h="2159">
                <a:moveTo>
                  <a:pt x="1736" y="3770"/>
                </a:moveTo>
                <a:cubicBezTo>
                  <a:pt x="1787" y="3720"/>
                  <a:pt x="1805" y="3704"/>
                  <a:pt x="1860" y="3721"/>
                </a:cubicBezTo>
              </a:path>
              <a:path w="5459" h="2159">
                <a:moveTo>
                  <a:pt x="1836" y="3870"/>
                </a:moveTo>
                <a:cubicBezTo>
                  <a:pt x="1898" y="3901"/>
                  <a:pt x="1929" y="3909"/>
                  <a:pt x="1984" y="3894"/>
                </a:cubicBezTo>
              </a:path>
              <a:path w="5459" h="2159">
                <a:moveTo>
                  <a:pt x="967" y="4713"/>
                </a:moveTo>
                <a:cubicBezTo>
                  <a:pt x="885" y="4671"/>
                  <a:pt x="806" y="4764"/>
                  <a:pt x="744" y="4837"/>
                </a:cubicBezTo>
                <a:cubicBezTo>
                  <a:pt x="685" y="4916"/>
                  <a:pt x="660" y="4925"/>
                  <a:pt x="670" y="4986"/>
                </a:cubicBezTo>
                <a:cubicBezTo>
                  <a:pt x="786" y="5007"/>
                  <a:pt x="1003" y="5047"/>
                  <a:pt x="1091" y="5135"/>
                </a:cubicBezTo>
                <a:cubicBezTo>
                  <a:pt x="1099" y="5160"/>
                  <a:pt x="1108" y="5184"/>
                  <a:pt x="1116" y="5209"/>
                </a:cubicBezTo>
                <a:cubicBezTo>
                  <a:pt x="1019" y="5315"/>
                  <a:pt x="904" y="5433"/>
                  <a:pt x="744" y="5358"/>
                </a:cubicBezTo>
                <a:cubicBezTo>
                  <a:pt x="728" y="5341"/>
                  <a:pt x="711" y="5325"/>
                  <a:pt x="695" y="5308"/>
                </a:cubicBezTo>
              </a:path>
              <a:path w="5459" h="2159">
                <a:moveTo>
                  <a:pt x="1315" y="4986"/>
                </a:moveTo>
                <a:cubicBezTo>
                  <a:pt x="1373" y="4986"/>
                  <a:pt x="1381" y="4986"/>
                  <a:pt x="1414" y="4986"/>
                </a:cubicBezTo>
                <a:cubicBezTo>
                  <a:pt x="1393" y="4973"/>
                  <a:pt x="1247" y="4850"/>
                  <a:pt x="1240" y="4862"/>
                </a:cubicBezTo>
                <a:cubicBezTo>
                  <a:pt x="1171" y="4985"/>
                  <a:pt x="1201" y="5206"/>
                  <a:pt x="1364" y="5234"/>
                </a:cubicBezTo>
                <a:cubicBezTo>
                  <a:pt x="1389" y="5226"/>
                  <a:pt x="1414" y="5217"/>
                  <a:pt x="1439" y="5209"/>
                </a:cubicBezTo>
              </a:path>
              <a:path w="5459" h="2159">
                <a:moveTo>
                  <a:pt x="1761" y="4787"/>
                </a:moveTo>
                <a:cubicBezTo>
                  <a:pt x="1770" y="4821"/>
                  <a:pt x="1766" y="4852"/>
                  <a:pt x="1786" y="4812"/>
                </a:cubicBezTo>
                <a:cubicBezTo>
                  <a:pt x="1724" y="4750"/>
                  <a:pt x="1714" y="4695"/>
                  <a:pt x="1637" y="4812"/>
                </a:cubicBezTo>
                <a:cubicBezTo>
                  <a:pt x="1563" y="4924"/>
                  <a:pt x="1439" y="5235"/>
                  <a:pt x="1687" y="5209"/>
                </a:cubicBezTo>
                <a:cubicBezTo>
                  <a:pt x="1864" y="5158"/>
                  <a:pt x="1925" y="5138"/>
                  <a:pt x="1984" y="5011"/>
                </a:cubicBezTo>
              </a:path>
              <a:path w="5459" h="2159">
                <a:moveTo>
                  <a:pt x="2034" y="4490"/>
                </a:moveTo>
                <a:cubicBezTo>
                  <a:pt x="2078" y="4686"/>
                  <a:pt x="2136" y="4886"/>
                  <a:pt x="2158" y="5085"/>
                </a:cubicBezTo>
                <a:cubicBezTo>
                  <a:pt x="2168" y="5173"/>
                  <a:pt x="2181" y="5216"/>
                  <a:pt x="2133" y="5184"/>
                </a:cubicBezTo>
              </a:path>
              <a:path w="5459" h="2159">
                <a:moveTo>
                  <a:pt x="1860" y="4887"/>
                </a:moveTo>
                <a:cubicBezTo>
                  <a:pt x="2012" y="4887"/>
                  <a:pt x="2157" y="4871"/>
                  <a:pt x="2307" y="4862"/>
                </a:cubicBezTo>
              </a:path>
              <a:path w="5459" h="2159">
                <a:moveTo>
                  <a:pt x="2654" y="4961"/>
                </a:moveTo>
                <a:cubicBezTo>
                  <a:pt x="2739" y="4950"/>
                  <a:pt x="2817" y="4941"/>
                  <a:pt x="2902" y="4936"/>
                </a:cubicBezTo>
              </a:path>
              <a:path w="5459" h="2159">
                <a:moveTo>
                  <a:pt x="2753" y="5135"/>
                </a:moveTo>
                <a:cubicBezTo>
                  <a:pt x="2864" y="5135"/>
                  <a:pt x="2908" y="5131"/>
                  <a:pt x="2977" y="5085"/>
                </a:cubicBezTo>
              </a:path>
              <a:path w="5459" h="2159">
                <a:moveTo>
                  <a:pt x="2828" y="3398"/>
                </a:moveTo>
                <a:cubicBezTo>
                  <a:pt x="2828" y="3318"/>
                  <a:pt x="2859" y="3310"/>
                  <a:pt x="2952" y="3299"/>
                </a:cubicBezTo>
                <a:cubicBezTo>
                  <a:pt x="3042" y="3299"/>
                  <a:pt x="3068" y="3292"/>
                  <a:pt x="3101" y="3349"/>
                </a:cubicBezTo>
                <a:cubicBezTo>
                  <a:pt x="3015" y="3605"/>
                  <a:pt x="2877" y="3690"/>
                  <a:pt x="2679" y="3870"/>
                </a:cubicBezTo>
                <a:cubicBezTo>
                  <a:pt x="2599" y="3943"/>
                  <a:pt x="2548" y="3956"/>
                  <a:pt x="2580" y="4018"/>
                </a:cubicBezTo>
                <a:cubicBezTo>
                  <a:pt x="2687" y="3993"/>
                  <a:pt x="2795" y="3969"/>
                  <a:pt x="2902" y="3944"/>
                </a:cubicBezTo>
              </a:path>
              <a:path w="5459" h="2159">
                <a:moveTo>
                  <a:pt x="4068" y="3373"/>
                </a:moveTo>
                <a:cubicBezTo>
                  <a:pt x="3967" y="3474"/>
                  <a:pt x="3881" y="3758"/>
                  <a:pt x="3870" y="3919"/>
                </a:cubicBezTo>
                <a:cubicBezTo>
                  <a:pt x="3854" y="4143"/>
                  <a:pt x="3952" y="4089"/>
                  <a:pt x="4093" y="4068"/>
                </a:cubicBezTo>
              </a:path>
              <a:path w="5459" h="2159">
                <a:moveTo>
                  <a:pt x="4440" y="3621"/>
                </a:moveTo>
                <a:cubicBezTo>
                  <a:pt x="4447" y="3752"/>
                  <a:pt x="4500" y="3885"/>
                  <a:pt x="4415" y="3969"/>
                </a:cubicBezTo>
              </a:path>
              <a:path w="5459" h="2159">
                <a:moveTo>
                  <a:pt x="4217" y="3696"/>
                </a:moveTo>
                <a:cubicBezTo>
                  <a:pt x="4339" y="3696"/>
                  <a:pt x="4500" y="3710"/>
                  <a:pt x="4614" y="3696"/>
                </a:cubicBezTo>
                <a:cubicBezTo>
                  <a:pt x="4665" y="3690"/>
                  <a:pt x="4660" y="3756"/>
                  <a:pt x="4663" y="3845"/>
                </a:cubicBezTo>
                <a:cubicBezTo>
                  <a:pt x="4666" y="3941"/>
                  <a:pt x="4658" y="3951"/>
                  <a:pt x="4713" y="4018"/>
                </a:cubicBezTo>
                <a:cubicBezTo>
                  <a:pt x="4829" y="3941"/>
                  <a:pt x="4871" y="3851"/>
                  <a:pt x="4936" y="3721"/>
                </a:cubicBezTo>
                <a:cubicBezTo>
                  <a:pt x="4926" y="3796"/>
                  <a:pt x="4878" y="3929"/>
                  <a:pt x="4986" y="3969"/>
                </a:cubicBezTo>
                <a:cubicBezTo>
                  <a:pt x="5071" y="4000"/>
                  <a:pt x="5336" y="3937"/>
                  <a:pt x="5283" y="3795"/>
                </a:cubicBezTo>
                <a:cubicBezTo>
                  <a:pt x="5253" y="3715"/>
                  <a:pt x="5152" y="3686"/>
                  <a:pt x="5085" y="3671"/>
                </a:cubicBezTo>
              </a:path>
              <a:path w="5459" h="2159">
                <a:moveTo>
                  <a:pt x="5531" y="3696"/>
                </a:moveTo>
                <a:cubicBezTo>
                  <a:pt x="5412" y="3768"/>
                  <a:pt x="5390" y="3767"/>
                  <a:pt x="5358" y="3894"/>
                </a:cubicBezTo>
                <a:cubicBezTo>
                  <a:pt x="5447" y="3942"/>
                  <a:pt x="5612" y="4039"/>
                  <a:pt x="5655" y="3870"/>
                </a:cubicBezTo>
                <a:cubicBezTo>
                  <a:pt x="5691" y="3728"/>
                  <a:pt x="5619" y="3676"/>
                  <a:pt x="5531" y="3597"/>
                </a:cubicBezTo>
              </a:path>
              <a:path w="5459" h="2159">
                <a:moveTo>
                  <a:pt x="5705" y="3373"/>
                </a:moveTo>
                <a:cubicBezTo>
                  <a:pt x="5834" y="3588"/>
                  <a:pt x="5906" y="3718"/>
                  <a:pt x="5879" y="3969"/>
                </a:cubicBezTo>
                <a:cubicBezTo>
                  <a:pt x="5707" y="4004"/>
                  <a:pt x="5616" y="4008"/>
                  <a:pt x="5482" y="3969"/>
                </a:cubicBezTo>
              </a:path>
              <a:path w="5459" h="2159">
                <a:moveTo>
                  <a:pt x="4564" y="3423"/>
                </a:moveTo>
                <a:cubicBezTo>
                  <a:pt x="4503" y="3513"/>
                  <a:pt x="4517" y="3629"/>
                  <a:pt x="4465" y="3721"/>
                </a:cubicBezTo>
                <a:cubicBezTo>
                  <a:pt x="4457" y="3721"/>
                  <a:pt x="4448" y="3721"/>
                  <a:pt x="4440" y="3721"/>
                </a:cubicBezTo>
              </a:path>
              <a:path w="5459" h="2159">
                <a:moveTo>
                  <a:pt x="3522" y="4787"/>
                </a:moveTo>
                <a:cubicBezTo>
                  <a:pt x="3564" y="5008"/>
                  <a:pt x="3588" y="5211"/>
                  <a:pt x="3572" y="5432"/>
                </a:cubicBezTo>
                <a:cubicBezTo>
                  <a:pt x="3572" y="5457"/>
                  <a:pt x="3572" y="5465"/>
                  <a:pt x="3572" y="5432"/>
                </a:cubicBezTo>
              </a:path>
              <a:path w="5459" h="2159">
                <a:moveTo>
                  <a:pt x="3423" y="4787"/>
                </a:moveTo>
                <a:cubicBezTo>
                  <a:pt x="3584" y="4776"/>
                  <a:pt x="4010" y="4717"/>
                  <a:pt x="4043" y="4986"/>
                </a:cubicBezTo>
                <a:cubicBezTo>
                  <a:pt x="4064" y="5155"/>
                  <a:pt x="3748" y="5288"/>
                  <a:pt x="3621" y="5234"/>
                </a:cubicBezTo>
                <a:cubicBezTo>
                  <a:pt x="3605" y="5209"/>
                  <a:pt x="3588" y="5184"/>
                  <a:pt x="3572" y="5159"/>
                </a:cubicBezTo>
              </a:path>
              <a:path w="5459" h="2159">
                <a:moveTo>
                  <a:pt x="4514" y="4986"/>
                </a:moveTo>
                <a:cubicBezTo>
                  <a:pt x="4499" y="4910"/>
                  <a:pt x="4461" y="4838"/>
                  <a:pt x="4366" y="4862"/>
                </a:cubicBezTo>
                <a:cubicBezTo>
                  <a:pt x="4201" y="4904"/>
                  <a:pt x="4140" y="5065"/>
                  <a:pt x="4118" y="5209"/>
                </a:cubicBezTo>
                <a:cubicBezTo>
                  <a:pt x="4273" y="5209"/>
                  <a:pt x="4348" y="5166"/>
                  <a:pt x="4440" y="5035"/>
                </a:cubicBezTo>
                <a:cubicBezTo>
                  <a:pt x="4440" y="5027"/>
                  <a:pt x="4440" y="5019"/>
                  <a:pt x="4440" y="5011"/>
                </a:cubicBezTo>
                <a:cubicBezTo>
                  <a:pt x="4445" y="5027"/>
                  <a:pt x="4504" y="5184"/>
                  <a:pt x="4539" y="5184"/>
                </a:cubicBezTo>
                <a:cubicBezTo>
                  <a:pt x="4564" y="5176"/>
                  <a:pt x="4589" y="5167"/>
                  <a:pt x="4614" y="5159"/>
                </a:cubicBezTo>
              </a:path>
              <a:path w="5459" h="2159">
                <a:moveTo>
                  <a:pt x="4738" y="5135"/>
                </a:moveTo>
                <a:cubicBezTo>
                  <a:pt x="4746" y="5151"/>
                  <a:pt x="4754" y="5168"/>
                  <a:pt x="4762" y="5184"/>
                </a:cubicBezTo>
                <a:cubicBezTo>
                  <a:pt x="4806" y="5052"/>
                  <a:pt x="4835" y="4950"/>
                  <a:pt x="4986" y="4936"/>
                </a:cubicBezTo>
                <a:cubicBezTo>
                  <a:pt x="5019" y="4936"/>
                  <a:pt x="5052" y="4936"/>
                  <a:pt x="5085" y="4936"/>
                </a:cubicBezTo>
              </a:path>
              <a:path w="5459" h="2159">
                <a:moveTo>
                  <a:pt x="5209" y="4564"/>
                </a:moveTo>
                <a:cubicBezTo>
                  <a:pt x="5209" y="4749"/>
                  <a:pt x="5223" y="4927"/>
                  <a:pt x="5234" y="5110"/>
                </a:cubicBezTo>
                <a:cubicBezTo>
                  <a:pt x="5239" y="5187"/>
                  <a:pt x="5256" y="5218"/>
                  <a:pt x="5209" y="5234"/>
                </a:cubicBezTo>
              </a:path>
              <a:path w="5459" h="2159">
                <a:moveTo>
                  <a:pt x="4911" y="4911"/>
                </a:moveTo>
                <a:cubicBezTo>
                  <a:pt x="5095" y="4890"/>
                  <a:pt x="5271" y="4887"/>
                  <a:pt x="5457" y="4887"/>
                </a:cubicBezTo>
                <a:cubicBezTo>
                  <a:pt x="5465" y="4887"/>
                  <a:pt x="5474" y="4887"/>
                  <a:pt x="5482" y="4887"/>
                </a:cubicBezTo>
              </a:path>
              <a:path w="5459" h="2159">
                <a:moveTo>
                  <a:pt x="5829" y="4911"/>
                </a:moveTo>
                <a:lnTo>
                  <a:pt x="5829" y="491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09880" y="3214800"/>
            <a:ext cx="2365200" cy="1608120"/>
          </a:xfrm>
          <a:custGeom>
            <a:avLst/>
            <a:gdLst/>
            <a:ahLst/>
            <a:rect l="l" t="t" r="r" b="b"/>
            <a:pathLst>
              <a:path w="6574" h="4466">
                <a:moveTo>
                  <a:pt x="5581" y="9302"/>
                </a:moveTo>
                <a:cubicBezTo>
                  <a:pt x="5663" y="9269"/>
                  <a:pt x="5758" y="9244"/>
                  <a:pt x="5854" y="9227"/>
                </a:cubicBezTo>
                <a:cubicBezTo>
                  <a:pt x="6152" y="9173"/>
                  <a:pt x="6449" y="9132"/>
                  <a:pt x="6747" y="9079"/>
                </a:cubicBezTo>
                <a:cubicBezTo>
                  <a:pt x="7053" y="9024"/>
                  <a:pt x="7354" y="8961"/>
                  <a:pt x="7665" y="8954"/>
                </a:cubicBezTo>
                <a:cubicBezTo>
                  <a:pt x="7768" y="8952"/>
                  <a:pt x="7746" y="8950"/>
                  <a:pt x="7813" y="8930"/>
                </a:cubicBezTo>
              </a:path>
              <a:path w="6574" h="4466">
                <a:moveTo>
                  <a:pt x="6598" y="13370"/>
                </a:moveTo>
                <a:cubicBezTo>
                  <a:pt x="6740" y="13387"/>
                  <a:pt x="6875" y="13395"/>
                  <a:pt x="7020" y="13395"/>
                </a:cubicBezTo>
                <a:cubicBezTo>
                  <a:pt x="7190" y="13395"/>
                  <a:pt x="7350" y="13359"/>
                  <a:pt x="7516" y="13345"/>
                </a:cubicBezTo>
                <a:cubicBezTo>
                  <a:pt x="8216" y="13288"/>
                  <a:pt x="8975" y="13326"/>
                  <a:pt x="9674" y="13370"/>
                </a:cubicBezTo>
                <a:cubicBezTo>
                  <a:pt x="9864" y="13382"/>
                  <a:pt x="10055" y="13383"/>
                  <a:pt x="10244" y="13395"/>
                </a:cubicBezTo>
                <a:cubicBezTo>
                  <a:pt x="10542" y="13413"/>
                  <a:pt x="10842" y="13384"/>
                  <a:pt x="11137" y="13370"/>
                </a:cubicBezTo>
                <a:cubicBezTo>
                  <a:pt x="11345" y="13360"/>
                  <a:pt x="11551" y="13369"/>
                  <a:pt x="11757" y="13345"/>
                </a:cubicBezTo>
                <a:cubicBezTo>
                  <a:pt x="11842" y="13335"/>
                  <a:pt x="11919" y="13322"/>
                  <a:pt x="12005" y="13320"/>
                </a:cubicBezTo>
                <a:cubicBezTo>
                  <a:pt x="12063" y="13319"/>
                  <a:pt x="12071" y="13320"/>
                  <a:pt x="12129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0" y="4670280"/>
            <a:ext cx="347400" cy="384480"/>
          </a:xfrm>
          <a:custGeom>
            <a:avLst/>
            <a:gdLst/>
            <a:ahLst/>
            <a:rect l="l" t="t" r="r" b="b"/>
            <a:pathLst>
              <a:path w="968" h="1067">
                <a:moveTo>
                  <a:pt x="15453" y="12998"/>
                </a:moveTo>
                <a:cubicBezTo>
                  <a:pt x="15453" y="12973"/>
                  <a:pt x="15453" y="12965"/>
                  <a:pt x="15429" y="12973"/>
                </a:cubicBezTo>
                <a:cubicBezTo>
                  <a:pt x="15535" y="12993"/>
                  <a:pt x="15624" y="13020"/>
                  <a:pt x="15726" y="13047"/>
                </a:cubicBezTo>
                <a:cubicBezTo>
                  <a:pt x="15843" y="13078"/>
                  <a:pt x="15924" y="13110"/>
                  <a:pt x="16024" y="13171"/>
                </a:cubicBezTo>
                <a:cubicBezTo>
                  <a:pt x="16078" y="13204"/>
                  <a:pt x="16143" y="13194"/>
                  <a:pt x="16197" y="13221"/>
                </a:cubicBezTo>
                <a:cubicBezTo>
                  <a:pt x="16238" y="13242"/>
                  <a:pt x="16226" y="13239"/>
                  <a:pt x="16272" y="13246"/>
                </a:cubicBezTo>
                <a:cubicBezTo>
                  <a:pt x="16298" y="13375"/>
                  <a:pt x="16335" y="13511"/>
                  <a:pt x="16346" y="13643"/>
                </a:cubicBezTo>
                <a:cubicBezTo>
                  <a:pt x="16356" y="13768"/>
                  <a:pt x="16371" y="13889"/>
                  <a:pt x="16371" y="14015"/>
                </a:cubicBezTo>
                <a:cubicBezTo>
                  <a:pt x="16371" y="14055"/>
                  <a:pt x="16392" y="14036"/>
                  <a:pt x="16321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69120" y="2482920"/>
            <a:ext cx="1098720" cy="696960"/>
          </a:xfrm>
          <a:custGeom>
            <a:avLst/>
            <a:gdLst/>
            <a:ahLst/>
            <a:rect l="l" t="t" r="r" b="b"/>
            <a:pathLst>
              <a:path w="3052" h="1935">
                <a:moveTo>
                  <a:pt x="20513" y="8186"/>
                </a:moveTo>
                <a:cubicBezTo>
                  <a:pt x="20632" y="8381"/>
                  <a:pt x="20724" y="8506"/>
                  <a:pt x="20786" y="8731"/>
                </a:cubicBezTo>
                <a:cubicBezTo>
                  <a:pt x="20805" y="8789"/>
                  <a:pt x="20814" y="8795"/>
                  <a:pt x="20811" y="8830"/>
                </a:cubicBezTo>
              </a:path>
              <a:path w="3052" h="1935">
                <a:moveTo>
                  <a:pt x="20191" y="8210"/>
                </a:moveTo>
                <a:cubicBezTo>
                  <a:pt x="20315" y="8132"/>
                  <a:pt x="20675" y="7821"/>
                  <a:pt x="20836" y="7962"/>
                </a:cubicBezTo>
                <a:cubicBezTo>
                  <a:pt x="20940" y="8054"/>
                  <a:pt x="20776" y="8259"/>
                  <a:pt x="20737" y="8334"/>
                </a:cubicBezTo>
                <a:cubicBezTo>
                  <a:pt x="20720" y="8351"/>
                  <a:pt x="20704" y="8367"/>
                  <a:pt x="20687" y="8384"/>
                </a:cubicBezTo>
                <a:cubicBezTo>
                  <a:pt x="20750" y="8281"/>
                  <a:pt x="20874" y="8209"/>
                  <a:pt x="21010" y="8235"/>
                </a:cubicBezTo>
                <a:cubicBezTo>
                  <a:pt x="21035" y="8252"/>
                  <a:pt x="21059" y="8268"/>
                  <a:pt x="21084" y="8285"/>
                </a:cubicBezTo>
                <a:cubicBezTo>
                  <a:pt x="21058" y="8503"/>
                  <a:pt x="20992" y="8588"/>
                  <a:pt x="20786" y="8682"/>
                </a:cubicBezTo>
                <a:cubicBezTo>
                  <a:pt x="20721" y="8703"/>
                  <a:pt x="20696" y="8721"/>
                  <a:pt x="20712" y="8657"/>
                </a:cubicBezTo>
              </a:path>
              <a:path w="3052" h="1935">
                <a:moveTo>
                  <a:pt x="21134" y="8186"/>
                </a:moveTo>
                <a:cubicBezTo>
                  <a:pt x="21202" y="8300"/>
                  <a:pt x="21292" y="8410"/>
                  <a:pt x="21258" y="8533"/>
                </a:cubicBezTo>
              </a:path>
              <a:path w="3052" h="1935">
                <a:moveTo>
                  <a:pt x="21084" y="8062"/>
                </a:moveTo>
                <a:cubicBezTo>
                  <a:pt x="21084" y="8054"/>
                  <a:pt x="21084" y="8045"/>
                  <a:pt x="21084" y="8037"/>
                </a:cubicBezTo>
              </a:path>
              <a:path w="3052" h="1935">
                <a:moveTo>
                  <a:pt x="21456" y="7913"/>
                </a:moveTo>
                <a:cubicBezTo>
                  <a:pt x="21419" y="7979"/>
                  <a:pt x="21382" y="8030"/>
                  <a:pt x="21332" y="8086"/>
                </a:cubicBezTo>
                <a:cubicBezTo>
                  <a:pt x="21465" y="8118"/>
                  <a:pt x="21601" y="8139"/>
                  <a:pt x="21729" y="8186"/>
                </a:cubicBezTo>
                <a:cubicBezTo>
                  <a:pt x="21635" y="8333"/>
                  <a:pt x="21567" y="8350"/>
                  <a:pt x="21406" y="8310"/>
                </a:cubicBezTo>
              </a:path>
              <a:path w="3052" h="1935">
                <a:moveTo>
                  <a:pt x="21754" y="7987"/>
                </a:moveTo>
                <a:cubicBezTo>
                  <a:pt x="21790" y="7946"/>
                  <a:pt x="21865" y="7882"/>
                  <a:pt x="21828" y="7863"/>
                </a:cubicBezTo>
                <a:cubicBezTo>
                  <a:pt x="21714" y="7863"/>
                  <a:pt x="21676" y="8018"/>
                  <a:pt x="21754" y="8136"/>
                </a:cubicBezTo>
                <a:cubicBezTo>
                  <a:pt x="21838" y="8193"/>
                  <a:pt x="21875" y="8207"/>
                  <a:pt x="21952" y="8161"/>
                </a:cubicBezTo>
              </a:path>
              <a:path w="3052" h="1935">
                <a:moveTo>
                  <a:pt x="22175" y="7590"/>
                </a:moveTo>
                <a:cubicBezTo>
                  <a:pt x="22195" y="7651"/>
                  <a:pt x="22163" y="7596"/>
                  <a:pt x="22101" y="7565"/>
                </a:cubicBezTo>
                <a:cubicBezTo>
                  <a:pt x="22072" y="7665"/>
                  <a:pt x="21990" y="7892"/>
                  <a:pt x="22126" y="7962"/>
                </a:cubicBezTo>
                <a:cubicBezTo>
                  <a:pt x="22308" y="8056"/>
                  <a:pt x="22408" y="7690"/>
                  <a:pt x="22448" y="7615"/>
                </a:cubicBezTo>
              </a:path>
              <a:path w="3052" h="1935">
                <a:moveTo>
                  <a:pt x="22349" y="7094"/>
                </a:moveTo>
                <a:cubicBezTo>
                  <a:pt x="22341" y="7086"/>
                  <a:pt x="22332" y="7077"/>
                  <a:pt x="22324" y="7069"/>
                </a:cubicBezTo>
                <a:cubicBezTo>
                  <a:pt x="22368" y="7222"/>
                  <a:pt x="22468" y="7363"/>
                  <a:pt x="22523" y="7516"/>
                </a:cubicBezTo>
                <a:cubicBezTo>
                  <a:pt x="22543" y="7598"/>
                  <a:pt x="22551" y="7614"/>
                  <a:pt x="22547" y="7665"/>
                </a:cubicBezTo>
              </a:path>
              <a:path w="3052" h="1935">
                <a:moveTo>
                  <a:pt x="22200" y="7466"/>
                </a:moveTo>
                <a:cubicBezTo>
                  <a:pt x="22354" y="7432"/>
                  <a:pt x="22433" y="7291"/>
                  <a:pt x="22572" y="7218"/>
                </a:cubicBezTo>
                <a:cubicBezTo>
                  <a:pt x="22646" y="7199"/>
                  <a:pt x="22679" y="7217"/>
                  <a:pt x="22671" y="7169"/>
                </a:cubicBezTo>
                <a:cubicBezTo>
                  <a:pt x="22641" y="7260"/>
                  <a:pt x="22576" y="7301"/>
                  <a:pt x="22671" y="7367"/>
                </a:cubicBezTo>
                <a:cubicBezTo>
                  <a:pt x="22788" y="7448"/>
                  <a:pt x="22890" y="7301"/>
                  <a:pt x="22944" y="7218"/>
                </a:cubicBezTo>
                <a:cubicBezTo>
                  <a:pt x="22859" y="7189"/>
                  <a:pt x="22835" y="7195"/>
                  <a:pt x="22746" y="7218"/>
                </a:cubicBezTo>
              </a:path>
              <a:path w="3052" h="1935">
                <a:moveTo>
                  <a:pt x="22994" y="7193"/>
                </a:moveTo>
                <a:cubicBezTo>
                  <a:pt x="23040" y="7234"/>
                  <a:pt x="23086" y="7300"/>
                  <a:pt x="23093" y="7268"/>
                </a:cubicBezTo>
                <a:cubicBezTo>
                  <a:pt x="23123" y="7138"/>
                  <a:pt x="23173" y="7006"/>
                  <a:pt x="23242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633096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3597" y="17587"/>
                </a:moveTo>
                <a:cubicBezTo>
                  <a:pt x="3597" y="17603"/>
                  <a:pt x="3597" y="17620"/>
                  <a:pt x="3597" y="176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identify angles and their relationships to one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ay be more than one ray that divides an angle, but there is only one possible bisector for each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952520" y="2514600"/>
            <a:ext cx="12956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248520" y="2590920"/>
            <a:ext cx="12189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6920" y="2575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05880" y="455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04200" y="49449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244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1480" y="38098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41972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isecto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248520" y="3580920"/>
            <a:ext cx="2133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7880" y="3821040"/>
            <a:ext cx="1117440" cy="385920"/>
          </a:xfrm>
          <a:custGeom>
            <a:avLst/>
            <a:gdLst/>
            <a:ahLst/>
            <a:rect l="l" t="t" r="r" b="b"/>
            <a:pathLst>
              <a:path w="3102" h="1068">
                <a:moveTo>
                  <a:pt x="1885" y="11187"/>
                </a:moveTo>
                <a:cubicBezTo>
                  <a:pt x="1910" y="11336"/>
                  <a:pt x="1955" y="11485"/>
                  <a:pt x="1984" y="11633"/>
                </a:cubicBezTo>
                <a:cubicBezTo>
                  <a:pt x="1984" y="11650"/>
                  <a:pt x="1984" y="11666"/>
                  <a:pt x="1984" y="11683"/>
                </a:cubicBezTo>
                <a:cubicBezTo>
                  <a:pt x="1984" y="11530"/>
                  <a:pt x="1910" y="11391"/>
                  <a:pt x="1910" y="11237"/>
                </a:cubicBezTo>
                <a:cubicBezTo>
                  <a:pt x="1910" y="11029"/>
                  <a:pt x="2195" y="11069"/>
                  <a:pt x="2307" y="11137"/>
                </a:cubicBezTo>
                <a:cubicBezTo>
                  <a:pt x="2419" y="11205"/>
                  <a:pt x="2480" y="11311"/>
                  <a:pt x="2480" y="11435"/>
                </a:cubicBezTo>
                <a:cubicBezTo>
                  <a:pt x="2455" y="11331"/>
                  <a:pt x="2424" y="11278"/>
                  <a:pt x="2431" y="11162"/>
                </a:cubicBezTo>
                <a:cubicBezTo>
                  <a:pt x="2521" y="11071"/>
                  <a:pt x="2672" y="11150"/>
                  <a:pt x="2753" y="11261"/>
                </a:cubicBezTo>
                <a:cubicBezTo>
                  <a:pt x="2821" y="11353"/>
                  <a:pt x="2803" y="11455"/>
                  <a:pt x="2803" y="11559"/>
                </a:cubicBezTo>
              </a:path>
              <a:path w="3102" h="1068">
                <a:moveTo>
                  <a:pt x="3175" y="10815"/>
                </a:moveTo>
                <a:cubicBezTo>
                  <a:pt x="3199" y="10958"/>
                  <a:pt x="3188" y="11072"/>
                  <a:pt x="3125" y="11212"/>
                </a:cubicBezTo>
                <a:cubicBezTo>
                  <a:pt x="3066" y="11310"/>
                  <a:pt x="3055" y="11325"/>
                  <a:pt x="3026" y="11385"/>
                </a:cubicBezTo>
                <a:cubicBezTo>
                  <a:pt x="3107" y="11446"/>
                  <a:pt x="3229" y="11404"/>
                  <a:pt x="3324" y="11385"/>
                </a:cubicBezTo>
                <a:cubicBezTo>
                  <a:pt x="3398" y="11367"/>
                  <a:pt x="3405" y="11359"/>
                  <a:pt x="3448" y="11361"/>
                </a:cubicBezTo>
              </a:path>
              <a:path w="3102" h="1068">
                <a:moveTo>
                  <a:pt x="3746" y="10765"/>
                </a:moveTo>
                <a:cubicBezTo>
                  <a:pt x="3806" y="10971"/>
                  <a:pt x="3847" y="11184"/>
                  <a:pt x="3919" y="11385"/>
                </a:cubicBezTo>
              </a:path>
              <a:path w="3102" h="1068">
                <a:moveTo>
                  <a:pt x="3522" y="10765"/>
                </a:moveTo>
                <a:cubicBezTo>
                  <a:pt x="3672" y="10700"/>
                  <a:pt x="3913" y="10568"/>
                  <a:pt x="4118" y="10641"/>
                </a:cubicBezTo>
                <a:cubicBezTo>
                  <a:pt x="4151" y="10674"/>
                  <a:pt x="4184" y="10707"/>
                  <a:pt x="4217" y="10740"/>
                </a:cubicBezTo>
                <a:cubicBezTo>
                  <a:pt x="4128" y="10903"/>
                  <a:pt x="4051" y="11030"/>
                  <a:pt x="3919" y="11162"/>
                </a:cubicBezTo>
                <a:cubicBezTo>
                  <a:pt x="4044" y="11019"/>
                  <a:pt x="4185" y="11047"/>
                  <a:pt x="4366" y="11063"/>
                </a:cubicBezTo>
                <a:cubicBezTo>
                  <a:pt x="4330" y="11280"/>
                  <a:pt x="4199" y="11482"/>
                  <a:pt x="3944" y="11509"/>
                </a:cubicBezTo>
                <a:cubicBezTo>
                  <a:pt x="3927" y="11493"/>
                  <a:pt x="3911" y="11476"/>
                  <a:pt x="3894" y="11460"/>
                </a:cubicBezTo>
              </a:path>
              <a:path w="3102" h="1068">
                <a:moveTo>
                  <a:pt x="4638" y="10616"/>
                </a:moveTo>
                <a:cubicBezTo>
                  <a:pt x="4792" y="10647"/>
                  <a:pt x="4602" y="10590"/>
                  <a:pt x="4539" y="10691"/>
                </a:cubicBezTo>
                <a:cubicBezTo>
                  <a:pt x="4469" y="10803"/>
                  <a:pt x="4330" y="11305"/>
                  <a:pt x="4638" y="11261"/>
                </a:cubicBezTo>
                <a:cubicBezTo>
                  <a:pt x="4836" y="11174"/>
                  <a:pt x="4888" y="11159"/>
                  <a:pt x="4986" y="11063"/>
                </a:cubicBezTo>
              </a:path>
              <a:path w="3102" h="1068">
                <a:moveTo>
                  <a:pt x="3522" y="11088"/>
                </a:moveTo>
                <a:cubicBezTo>
                  <a:pt x="3493" y="11059"/>
                  <a:pt x="3477" y="11015"/>
                  <a:pt x="3448" y="11013"/>
                </a:cubicBezTo>
                <a:cubicBezTo>
                  <a:pt x="3337" y="11004"/>
                  <a:pt x="3396" y="11350"/>
                  <a:pt x="3398" y="11385"/>
                </a:cubicBezTo>
                <a:cubicBezTo>
                  <a:pt x="3406" y="11451"/>
                  <a:pt x="3415" y="11518"/>
                  <a:pt x="3423" y="11584"/>
                </a:cubicBezTo>
                <a:cubicBezTo>
                  <a:pt x="3423" y="11609"/>
                  <a:pt x="3423" y="11633"/>
                  <a:pt x="3423" y="11658"/>
                </a:cubicBezTo>
                <a:cubicBezTo>
                  <a:pt x="3466" y="11552"/>
                  <a:pt x="3387" y="11243"/>
                  <a:pt x="3373" y="11112"/>
                </a:cubicBezTo>
                <a:cubicBezTo>
                  <a:pt x="3352" y="10914"/>
                  <a:pt x="3344" y="10865"/>
                  <a:pt x="3349" y="10740"/>
                </a:cubicBezTo>
                <a:cubicBezTo>
                  <a:pt x="3467" y="10718"/>
                  <a:pt x="3584" y="11081"/>
                  <a:pt x="3621" y="11187"/>
                </a:cubicBezTo>
                <a:cubicBezTo>
                  <a:pt x="3657" y="11290"/>
                  <a:pt x="3699" y="11427"/>
                  <a:pt x="3721" y="11534"/>
                </a:cubicBezTo>
              </a:path>
              <a:path w="3102" h="1068">
                <a:moveTo>
                  <a:pt x="3497" y="11361"/>
                </a:moveTo>
                <a:cubicBezTo>
                  <a:pt x="3631" y="11280"/>
                  <a:pt x="3681" y="11249"/>
                  <a:pt x="3770" y="111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63800" y="3867120"/>
            <a:ext cx="171360" cy="13356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5457" y="10840"/>
                </a:moveTo>
                <a:cubicBezTo>
                  <a:pt x="5594" y="10826"/>
                  <a:pt x="5746" y="10804"/>
                  <a:pt x="5879" y="10765"/>
                </a:cubicBezTo>
                <a:cubicBezTo>
                  <a:pt x="5895" y="10757"/>
                  <a:pt x="5912" y="10748"/>
                  <a:pt x="5928" y="10740"/>
                </a:cubicBezTo>
              </a:path>
              <a:path w="472" h="373">
                <a:moveTo>
                  <a:pt x="5606" y="11112"/>
                </a:moveTo>
                <a:cubicBezTo>
                  <a:pt x="5754" y="11053"/>
                  <a:pt x="5820" y="11028"/>
                  <a:pt x="5928" y="109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7000" y="3652920"/>
            <a:ext cx="606240" cy="438120"/>
          </a:xfrm>
          <a:custGeom>
            <a:avLst/>
            <a:gdLst/>
            <a:ahLst/>
            <a:rect l="l" t="t" r="r" b="b"/>
            <a:pathLst>
              <a:path w="1688" h="1217">
                <a:moveTo>
                  <a:pt x="6573" y="10517"/>
                </a:moveTo>
                <a:cubicBezTo>
                  <a:pt x="6590" y="10766"/>
                  <a:pt x="6619" y="11011"/>
                  <a:pt x="6623" y="11261"/>
                </a:cubicBezTo>
                <a:cubicBezTo>
                  <a:pt x="6623" y="11294"/>
                  <a:pt x="6623" y="11328"/>
                  <a:pt x="6623" y="11361"/>
                </a:cubicBezTo>
              </a:path>
              <a:path w="1688" h="1217">
                <a:moveTo>
                  <a:pt x="6896" y="10492"/>
                </a:moveTo>
                <a:cubicBezTo>
                  <a:pt x="7151" y="10480"/>
                  <a:pt x="7344" y="10583"/>
                  <a:pt x="7417" y="10864"/>
                </a:cubicBezTo>
                <a:cubicBezTo>
                  <a:pt x="7476" y="11092"/>
                  <a:pt x="7291" y="11358"/>
                  <a:pt x="7045" y="11261"/>
                </a:cubicBezTo>
                <a:cubicBezTo>
                  <a:pt x="7020" y="11236"/>
                  <a:pt x="6995" y="11212"/>
                  <a:pt x="6970" y="11187"/>
                </a:cubicBezTo>
                <a:cubicBezTo>
                  <a:pt x="7068" y="10978"/>
                  <a:pt x="7194" y="10969"/>
                  <a:pt x="7417" y="11063"/>
                </a:cubicBezTo>
                <a:cubicBezTo>
                  <a:pt x="7476" y="11102"/>
                  <a:pt x="7488" y="11106"/>
                  <a:pt x="7516" y="11137"/>
                </a:cubicBezTo>
              </a:path>
              <a:path w="1688" h="1217">
                <a:moveTo>
                  <a:pt x="7615" y="10567"/>
                </a:moveTo>
                <a:cubicBezTo>
                  <a:pt x="7549" y="10781"/>
                  <a:pt x="7534" y="10847"/>
                  <a:pt x="7590" y="11063"/>
                </a:cubicBezTo>
                <a:cubicBezTo>
                  <a:pt x="7821" y="11106"/>
                  <a:pt x="8026" y="11056"/>
                  <a:pt x="8062" y="10765"/>
                </a:cubicBezTo>
                <a:cubicBezTo>
                  <a:pt x="8096" y="10497"/>
                  <a:pt x="7841" y="10530"/>
                  <a:pt x="7689" y="10468"/>
                </a:cubicBezTo>
                <a:cubicBezTo>
                  <a:pt x="7689" y="10460"/>
                  <a:pt x="7689" y="10451"/>
                  <a:pt x="7689" y="10443"/>
                </a:cubicBezTo>
              </a:path>
              <a:path w="1688" h="1217">
                <a:moveTo>
                  <a:pt x="8086" y="10170"/>
                </a:moveTo>
                <a:cubicBezTo>
                  <a:pt x="8021" y="10289"/>
                  <a:pt x="8067" y="10328"/>
                  <a:pt x="8186" y="10393"/>
                </a:cubicBezTo>
                <a:cubicBezTo>
                  <a:pt x="8238" y="10318"/>
                  <a:pt x="8334" y="10124"/>
                  <a:pt x="8136" y="10145"/>
                </a:cubicBezTo>
                <a:cubicBezTo>
                  <a:pt x="8095" y="10162"/>
                  <a:pt x="8053" y="10178"/>
                  <a:pt x="8012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9880" y="495612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2580" y="13791"/>
                </a:moveTo>
                <a:cubicBezTo>
                  <a:pt x="2610" y="13702"/>
                  <a:pt x="2567" y="13903"/>
                  <a:pt x="2530" y="13990"/>
                </a:cubicBezTo>
                <a:cubicBezTo>
                  <a:pt x="2474" y="14119"/>
                  <a:pt x="2404" y="14242"/>
                  <a:pt x="2332" y="14362"/>
                </a:cubicBezTo>
                <a:cubicBezTo>
                  <a:pt x="2434" y="14362"/>
                  <a:pt x="2534" y="14322"/>
                  <a:pt x="2629" y="14288"/>
                </a:cubicBezTo>
                <a:cubicBezTo>
                  <a:pt x="2704" y="14261"/>
                  <a:pt x="2896" y="14130"/>
                  <a:pt x="2828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33760" y="4741920"/>
            <a:ext cx="598320" cy="465120"/>
          </a:xfrm>
          <a:custGeom>
            <a:avLst/>
            <a:gdLst/>
            <a:ahLst/>
            <a:rect l="l" t="t" r="r" b="b"/>
            <a:pathLst>
              <a:path w="1663" h="1291">
                <a:moveTo>
                  <a:pt x="8359" y="13816"/>
                </a:moveTo>
                <a:cubicBezTo>
                  <a:pt x="8359" y="13781"/>
                  <a:pt x="8368" y="13768"/>
                  <a:pt x="8409" y="13767"/>
                </a:cubicBezTo>
                <a:cubicBezTo>
                  <a:pt x="8472" y="13930"/>
                  <a:pt x="8479" y="14097"/>
                  <a:pt x="8533" y="14263"/>
                </a:cubicBezTo>
                <a:cubicBezTo>
                  <a:pt x="8555" y="14306"/>
                  <a:pt x="8568" y="14327"/>
                  <a:pt x="8533" y="14288"/>
                </a:cubicBezTo>
              </a:path>
              <a:path w="1663" h="1291">
                <a:moveTo>
                  <a:pt x="8086" y="13767"/>
                </a:moveTo>
                <a:cubicBezTo>
                  <a:pt x="8322" y="13741"/>
                  <a:pt x="8619" y="13691"/>
                  <a:pt x="8830" y="13841"/>
                </a:cubicBezTo>
                <a:cubicBezTo>
                  <a:pt x="8965" y="13937"/>
                  <a:pt x="9043" y="14173"/>
                  <a:pt x="8930" y="14312"/>
                </a:cubicBezTo>
                <a:cubicBezTo>
                  <a:pt x="8828" y="14438"/>
                  <a:pt x="8714" y="14398"/>
                  <a:pt x="8582" y="14387"/>
                </a:cubicBezTo>
                <a:cubicBezTo>
                  <a:pt x="8574" y="14387"/>
                  <a:pt x="8566" y="14387"/>
                  <a:pt x="8558" y="14387"/>
                </a:cubicBezTo>
              </a:path>
              <a:path w="1663" h="1291">
                <a:moveTo>
                  <a:pt x="7491" y="13866"/>
                </a:moveTo>
                <a:cubicBezTo>
                  <a:pt x="7575" y="13970"/>
                  <a:pt x="7558" y="14157"/>
                  <a:pt x="7565" y="14288"/>
                </a:cubicBezTo>
                <a:cubicBezTo>
                  <a:pt x="7569" y="14354"/>
                  <a:pt x="7565" y="14453"/>
                  <a:pt x="7565" y="14387"/>
                </a:cubicBezTo>
              </a:path>
              <a:path w="1663" h="1291">
                <a:moveTo>
                  <a:pt x="7317" y="13866"/>
                </a:moveTo>
                <a:cubicBezTo>
                  <a:pt x="7500" y="13820"/>
                  <a:pt x="7618" y="13787"/>
                  <a:pt x="7813" y="13816"/>
                </a:cubicBezTo>
                <a:cubicBezTo>
                  <a:pt x="8071" y="13854"/>
                  <a:pt x="7807" y="14045"/>
                  <a:pt x="7714" y="14114"/>
                </a:cubicBezTo>
                <a:cubicBezTo>
                  <a:pt x="7689" y="14130"/>
                  <a:pt x="7665" y="14147"/>
                  <a:pt x="7640" y="14163"/>
                </a:cubicBezTo>
                <a:cubicBezTo>
                  <a:pt x="7605" y="14163"/>
                  <a:pt x="7601" y="14154"/>
                  <a:pt x="7640" y="14114"/>
                </a:cubicBezTo>
                <a:cubicBezTo>
                  <a:pt x="7772" y="14085"/>
                  <a:pt x="7812" y="14094"/>
                  <a:pt x="7938" y="14139"/>
                </a:cubicBezTo>
                <a:cubicBezTo>
                  <a:pt x="7948" y="14272"/>
                  <a:pt x="7877" y="14369"/>
                  <a:pt x="7739" y="14436"/>
                </a:cubicBezTo>
                <a:cubicBezTo>
                  <a:pt x="7594" y="14507"/>
                  <a:pt x="7468" y="14403"/>
                  <a:pt x="7367" y="14312"/>
                </a:cubicBezTo>
              </a:path>
              <a:path w="1663" h="1291">
                <a:moveTo>
                  <a:pt x="7665" y="13469"/>
                </a:moveTo>
                <a:cubicBezTo>
                  <a:pt x="7811" y="13448"/>
                  <a:pt x="7963" y="13426"/>
                  <a:pt x="8111" y="13419"/>
                </a:cubicBezTo>
                <a:cubicBezTo>
                  <a:pt x="8300" y="13410"/>
                  <a:pt x="8492" y="13419"/>
                  <a:pt x="8682" y="13419"/>
                </a:cubicBezTo>
              </a:path>
              <a:path w="1663" h="1291">
                <a:moveTo>
                  <a:pt x="8409" y="13171"/>
                </a:moveTo>
                <a:cubicBezTo>
                  <a:pt x="8536" y="13257"/>
                  <a:pt x="8634" y="13278"/>
                  <a:pt x="8781" y="13320"/>
                </a:cubicBezTo>
                <a:cubicBezTo>
                  <a:pt x="8848" y="13343"/>
                  <a:pt x="8866" y="13348"/>
                  <a:pt x="8905" y="13370"/>
                </a:cubicBezTo>
                <a:cubicBezTo>
                  <a:pt x="8875" y="13502"/>
                  <a:pt x="8774" y="13590"/>
                  <a:pt x="8657" y="13667"/>
                </a:cubicBezTo>
                <a:cubicBezTo>
                  <a:pt x="8574" y="13722"/>
                  <a:pt x="8529" y="13776"/>
                  <a:pt x="8607" y="137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8880" y="5589720"/>
            <a:ext cx="1224000" cy="250560"/>
          </a:xfrm>
          <a:custGeom>
            <a:avLst/>
            <a:gdLst/>
            <a:ahLst/>
            <a:rect l="l" t="t" r="r" b="b"/>
            <a:pathLst>
              <a:path w="3400" h="695">
                <a:moveTo>
                  <a:pt x="2108" y="15825"/>
                </a:moveTo>
                <a:cubicBezTo>
                  <a:pt x="2125" y="15930"/>
                  <a:pt x="2138" y="16044"/>
                  <a:pt x="2158" y="16148"/>
                </a:cubicBezTo>
                <a:cubicBezTo>
                  <a:pt x="2166" y="16173"/>
                  <a:pt x="2175" y="16197"/>
                  <a:pt x="2183" y="16222"/>
                </a:cubicBezTo>
                <a:cubicBezTo>
                  <a:pt x="2161" y="16094"/>
                  <a:pt x="2131" y="15996"/>
                  <a:pt x="2208" y="15875"/>
                </a:cubicBezTo>
                <a:cubicBezTo>
                  <a:pt x="2319" y="15701"/>
                  <a:pt x="2547" y="15848"/>
                  <a:pt x="2654" y="15949"/>
                </a:cubicBezTo>
                <a:cubicBezTo>
                  <a:pt x="2798" y="16085"/>
                  <a:pt x="2705" y="16147"/>
                  <a:pt x="2753" y="15949"/>
                </a:cubicBezTo>
                <a:cubicBezTo>
                  <a:pt x="2761" y="15924"/>
                  <a:pt x="2770" y="15900"/>
                  <a:pt x="2778" y="15875"/>
                </a:cubicBezTo>
                <a:cubicBezTo>
                  <a:pt x="2931" y="15862"/>
                  <a:pt x="2996" y="15919"/>
                  <a:pt x="3101" y="16049"/>
                </a:cubicBezTo>
                <a:cubicBezTo>
                  <a:pt x="3142" y="16099"/>
                  <a:pt x="3133" y="16271"/>
                  <a:pt x="3175" y="16222"/>
                </a:cubicBezTo>
                <a:cubicBezTo>
                  <a:pt x="3183" y="16206"/>
                  <a:pt x="3192" y="16189"/>
                  <a:pt x="3200" y="16173"/>
                </a:cubicBezTo>
              </a:path>
              <a:path w="3400" h="695">
                <a:moveTo>
                  <a:pt x="3621" y="15726"/>
                </a:moveTo>
                <a:cubicBezTo>
                  <a:pt x="3568" y="15896"/>
                  <a:pt x="3517" y="15966"/>
                  <a:pt x="3373" y="16073"/>
                </a:cubicBezTo>
                <a:cubicBezTo>
                  <a:pt x="3496" y="16053"/>
                  <a:pt x="3621" y="16015"/>
                  <a:pt x="3746" y="15999"/>
                </a:cubicBezTo>
                <a:cubicBezTo>
                  <a:pt x="3787" y="15999"/>
                  <a:pt x="3795" y="15999"/>
                  <a:pt x="3820" y="15999"/>
                </a:cubicBezTo>
              </a:path>
              <a:path w="3400" h="695">
                <a:moveTo>
                  <a:pt x="4068" y="15726"/>
                </a:moveTo>
                <a:cubicBezTo>
                  <a:pt x="4068" y="15860"/>
                  <a:pt x="4037" y="15968"/>
                  <a:pt x="4018" y="16098"/>
                </a:cubicBezTo>
                <a:cubicBezTo>
                  <a:pt x="4018" y="16115"/>
                  <a:pt x="4018" y="16131"/>
                  <a:pt x="4018" y="16148"/>
                </a:cubicBezTo>
                <a:cubicBezTo>
                  <a:pt x="4018" y="16031"/>
                  <a:pt x="4019" y="15888"/>
                  <a:pt x="4043" y="15776"/>
                </a:cubicBezTo>
                <a:cubicBezTo>
                  <a:pt x="4071" y="15646"/>
                  <a:pt x="4099" y="15598"/>
                  <a:pt x="4192" y="15528"/>
                </a:cubicBezTo>
                <a:cubicBezTo>
                  <a:pt x="4295" y="15659"/>
                  <a:pt x="4364" y="15802"/>
                  <a:pt x="4390" y="15974"/>
                </a:cubicBezTo>
                <a:cubicBezTo>
                  <a:pt x="4390" y="15999"/>
                  <a:pt x="4390" y="16024"/>
                  <a:pt x="4390" y="16049"/>
                </a:cubicBezTo>
              </a:path>
              <a:path w="3400" h="695">
                <a:moveTo>
                  <a:pt x="4167" y="15875"/>
                </a:moveTo>
                <a:cubicBezTo>
                  <a:pt x="4280" y="15875"/>
                  <a:pt x="4380" y="15859"/>
                  <a:pt x="4490" y="15850"/>
                </a:cubicBezTo>
              </a:path>
              <a:path w="3400" h="695">
                <a:moveTo>
                  <a:pt x="4713" y="15751"/>
                </a:moveTo>
                <a:cubicBezTo>
                  <a:pt x="4745" y="15834"/>
                  <a:pt x="4770" y="15930"/>
                  <a:pt x="4812" y="15999"/>
                </a:cubicBezTo>
                <a:cubicBezTo>
                  <a:pt x="4778" y="15882"/>
                  <a:pt x="4742" y="15782"/>
                  <a:pt x="4762" y="15652"/>
                </a:cubicBezTo>
                <a:cubicBezTo>
                  <a:pt x="4786" y="15580"/>
                  <a:pt x="4792" y="15557"/>
                  <a:pt x="4837" y="15528"/>
                </a:cubicBezTo>
                <a:cubicBezTo>
                  <a:pt x="4936" y="15559"/>
                  <a:pt x="5134" y="15601"/>
                  <a:pt x="5011" y="15751"/>
                </a:cubicBezTo>
                <a:cubicBezTo>
                  <a:pt x="4987" y="15781"/>
                  <a:pt x="4924" y="15816"/>
                  <a:pt x="4887" y="15825"/>
                </a:cubicBezTo>
                <a:cubicBezTo>
                  <a:pt x="4963" y="15825"/>
                  <a:pt x="5038" y="15831"/>
                  <a:pt x="5085" y="15900"/>
                </a:cubicBezTo>
                <a:cubicBezTo>
                  <a:pt x="5189" y="16052"/>
                  <a:pt x="4958" y="16085"/>
                  <a:pt x="4862" y="16073"/>
                </a:cubicBezTo>
                <a:cubicBezTo>
                  <a:pt x="4689" y="16051"/>
                  <a:pt x="4768" y="15983"/>
                  <a:pt x="4812" y="15875"/>
                </a:cubicBezTo>
              </a:path>
              <a:path w="3400" h="695">
                <a:moveTo>
                  <a:pt x="5333" y="15627"/>
                </a:moveTo>
                <a:cubicBezTo>
                  <a:pt x="5383" y="15661"/>
                  <a:pt x="5383" y="15682"/>
                  <a:pt x="5383" y="15652"/>
                </a:cubicBezTo>
                <a:cubicBezTo>
                  <a:pt x="5308" y="15577"/>
                  <a:pt x="5289" y="15589"/>
                  <a:pt x="5209" y="15677"/>
                </a:cubicBezTo>
                <a:cubicBezTo>
                  <a:pt x="5107" y="15789"/>
                  <a:pt x="5098" y="15834"/>
                  <a:pt x="5085" y="15974"/>
                </a:cubicBezTo>
                <a:cubicBezTo>
                  <a:pt x="5259" y="16003"/>
                  <a:pt x="5345" y="15986"/>
                  <a:pt x="5507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0080" y="5680080"/>
            <a:ext cx="98280" cy="61920"/>
          </a:xfrm>
          <a:custGeom>
            <a:avLst/>
            <a:gdLst/>
            <a:ahLst/>
            <a:rect l="l" t="t" r="r" b="b"/>
            <a:pathLst>
              <a:path w="273" h="174">
                <a:moveTo>
                  <a:pt x="6028" y="15850"/>
                </a:moveTo>
                <a:cubicBezTo>
                  <a:pt x="6071" y="15793"/>
                  <a:pt x="6167" y="15780"/>
                  <a:pt x="6251" y="15776"/>
                </a:cubicBezTo>
                <a:cubicBezTo>
                  <a:pt x="6267" y="15776"/>
                  <a:pt x="6284" y="15776"/>
                  <a:pt x="6300" y="15776"/>
                </a:cubicBezTo>
              </a:path>
              <a:path w="273" h="174">
                <a:moveTo>
                  <a:pt x="6052" y="15949"/>
                </a:moveTo>
                <a:cubicBezTo>
                  <a:pt x="6121" y="15949"/>
                  <a:pt x="6183" y="15934"/>
                  <a:pt x="6251" y="159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9200" y="5392800"/>
            <a:ext cx="669960" cy="341280"/>
          </a:xfrm>
          <a:custGeom>
            <a:avLst/>
            <a:gdLst/>
            <a:ahLst/>
            <a:rect l="l" t="t" r="r" b="b"/>
            <a:pathLst>
              <a:path w="1861" h="944">
                <a:moveTo>
                  <a:pt x="6722" y="15478"/>
                </a:moveTo>
                <a:cubicBezTo>
                  <a:pt x="6773" y="15616"/>
                  <a:pt x="6816" y="15756"/>
                  <a:pt x="6846" y="15900"/>
                </a:cubicBezTo>
                <a:cubicBezTo>
                  <a:pt x="6846" y="15908"/>
                  <a:pt x="6846" y="15917"/>
                  <a:pt x="6846" y="15925"/>
                </a:cubicBezTo>
              </a:path>
              <a:path w="1861" h="944">
                <a:moveTo>
                  <a:pt x="7020" y="15379"/>
                </a:moveTo>
                <a:cubicBezTo>
                  <a:pt x="7206" y="15396"/>
                  <a:pt x="7478" y="15415"/>
                  <a:pt x="7466" y="15677"/>
                </a:cubicBezTo>
                <a:cubicBezTo>
                  <a:pt x="7458" y="15852"/>
                  <a:pt x="7258" y="15860"/>
                  <a:pt x="7144" y="15825"/>
                </a:cubicBezTo>
                <a:cubicBezTo>
                  <a:pt x="7222" y="15682"/>
                  <a:pt x="7308" y="15663"/>
                  <a:pt x="7466" y="15751"/>
                </a:cubicBezTo>
                <a:cubicBezTo>
                  <a:pt x="7505" y="15790"/>
                  <a:pt x="7507" y="15807"/>
                  <a:pt x="7541" y="15801"/>
                </a:cubicBezTo>
              </a:path>
              <a:path w="1861" h="944">
                <a:moveTo>
                  <a:pt x="7764" y="15379"/>
                </a:moveTo>
                <a:cubicBezTo>
                  <a:pt x="7684" y="15530"/>
                  <a:pt x="7655" y="15586"/>
                  <a:pt x="7665" y="15751"/>
                </a:cubicBezTo>
                <a:cubicBezTo>
                  <a:pt x="7823" y="15795"/>
                  <a:pt x="8057" y="15812"/>
                  <a:pt x="8136" y="15602"/>
                </a:cubicBezTo>
                <a:cubicBezTo>
                  <a:pt x="8223" y="15370"/>
                  <a:pt x="7966" y="15410"/>
                  <a:pt x="7863" y="15354"/>
                </a:cubicBezTo>
                <a:cubicBezTo>
                  <a:pt x="7863" y="15346"/>
                  <a:pt x="7863" y="15337"/>
                  <a:pt x="7863" y="15329"/>
                </a:cubicBezTo>
              </a:path>
              <a:path w="1861" h="944">
                <a:moveTo>
                  <a:pt x="8359" y="14982"/>
                </a:moveTo>
                <a:cubicBezTo>
                  <a:pt x="8309" y="15033"/>
                  <a:pt x="8293" y="15051"/>
                  <a:pt x="8310" y="15106"/>
                </a:cubicBezTo>
                <a:cubicBezTo>
                  <a:pt x="8392" y="15131"/>
                  <a:pt x="8594" y="15132"/>
                  <a:pt x="8582" y="14982"/>
                </a:cubicBezTo>
                <a:cubicBezTo>
                  <a:pt x="8499" y="14982"/>
                  <a:pt x="8449" y="14988"/>
                  <a:pt x="8384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4160" y="5919840"/>
            <a:ext cx="1204920" cy="268200"/>
          </a:xfrm>
          <a:custGeom>
            <a:avLst/>
            <a:gdLst/>
            <a:ahLst/>
            <a:rect l="l" t="t" r="r" b="b"/>
            <a:pathLst>
              <a:path w="3349" h="745">
                <a:moveTo>
                  <a:pt x="2456" y="16793"/>
                </a:moveTo>
                <a:cubicBezTo>
                  <a:pt x="2472" y="16927"/>
                  <a:pt x="2495" y="17062"/>
                  <a:pt x="2530" y="17190"/>
                </a:cubicBezTo>
                <a:cubicBezTo>
                  <a:pt x="2530" y="17087"/>
                  <a:pt x="2525" y="16992"/>
                  <a:pt x="2555" y="16892"/>
                </a:cubicBezTo>
                <a:cubicBezTo>
                  <a:pt x="2563" y="16875"/>
                  <a:pt x="2572" y="16859"/>
                  <a:pt x="2580" y="16842"/>
                </a:cubicBezTo>
                <a:cubicBezTo>
                  <a:pt x="2772" y="16899"/>
                  <a:pt x="2848" y="16961"/>
                  <a:pt x="2977" y="17115"/>
                </a:cubicBezTo>
                <a:cubicBezTo>
                  <a:pt x="2985" y="17123"/>
                  <a:pt x="2993" y="17132"/>
                  <a:pt x="3001" y="17140"/>
                </a:cubicBezTo>
                <a:cubicBezTo>
                  <a:pt x="2978" y="17044"/>
                  <a:pt x="2954" y="16966"/>
                  <a:pt x="3026" y="16867"/>
                </a:cubicBezTo>
                <a:cubicBezTo>
                  <a:pt x="3126" y="16729"/>
                  <a:pt x="3261" y="16960"/>
                  <a:pt x="3299" y="17016"/>
                </a:cubicBezTo>
                <a:cubicBezTo>
                  <a:pt x="3335" y="17069"/>
                  <a:pt x="3309" y="17140"/>
                  <a:pt x="3373" y="17140"/>
                </a:cubicBezTo>
              </a:path>
              <a:path w="3349" h="745">
                <a:moveTo>
                  <a:pt x="3646" y="16644"/>
                </a:moveTo>
                <a:cubicBezTo>
                  <a:pt x="3698" y="16713"/>
                  <a:pt x="3672" y="16794"/>
                  <a:pt x="3621" y="16867"/>
                </a:cubicBezTo>
                <a:cubicBezTo>
                  <a:pt x="3559" y="16930"/>
                  <a:pt x="3542" y="16940"/>
                  <a:pt x="3522" y="16991"/>
                </a:cubicBezTo>
                <a:cubicBezTo>
                  <a:pt x="3609" y="16991"/>
                  <a:pt x="3685" y="16955"/>
                  <a:pt x="3770" y="16942"/>
                </a:cubicBezTo>
                <a:cubicBezTo>
                  <a:pt x="3812" y="16942"/>
                  <a:pt x="3820" y="16942"/>
                  <a:pt x="3845" y="16942"/>
                </a:cubicBezTo>
              </a:path>
              <a:path w="3349" h="745">
                <a:moveTo>
                  <a:pt x="4167" y="16594"/>
                </a:moveTo>
                <a:cubicBezTo>
                  <a:pt x="4074" y="16535"/>
                  <a:pt x="4213" y="16845"/>
                  <a:pt x="4217" y="16867"/>
                </a:cubicBezTo>
                <a:cubicBezTo>
                  <a:pt x="4217" y="16945"/>
                  <a:pt x="4202" y="16963"/>
                  <a:pt x="4242" y="16991"/>
                </a:cubicBezTo>
                <a:cubicBezTo>
                  <a:pt x="4220" y="16841"/>
                  <a:pt x="4175" y="16724"/>
                  <a:pt x="4217" y="16570"/>
                </a:cubicBezTo>
                <a:cubicBezTo>
                  <a:pt x="4258" y="16487"/>
                  <a:pt x="4257" y="16461"/>
                  <a:pt x="4316" y="16446"/>
                </a:cubicBezTo>
                <a:cubicBezTo>
                  <a:pt x="4478" y="16512"/>
                  <a:pt x="4658" y="16629"/>
                  <a:pt x="4713" y="16818"/>
                </a:cubicBezTo>
                <a:cubicBezTo>
                  <a:pt x="4731" y="16881"/>
                  <a:pt x="4713" y="17032"/>
                  <a:pt x="4713" y="16966"/>
                </a:cubicBezTo>
              </a:path>
              <a:path w="3349" h="745">
                <a:moveTo>
                  <a:pt x="4291" y="16768"/>
                </a:moveTo>
                <a:cubicBezTo>
                  <a:pt x="4433" y="16721"/>
                  <a:pt x="4573" y="16672"/>
                  <a:pt x="4713" y="16619"/>
                </a:cubicBezTo>
              </a:path>
              <a:path w="3349" h="745">
                <a:moveTo>
                  <a:pt x="4862" y="16545"/>
                </a:moveTo>
                <a:cubicBezTo>
                  <a:pt x="4896" y="16661"/>
                  <a:pt x="4928" y="16790"/>
                  <a:pt x="4986" y="16892"/>
                </a:cubicBezTo>
                <a:cubicBezTo>
                  <a:pt x="4941" y="16790"/>
                  <a:pt x="4862" y="16657"/>
                  <a:pt x="4862" y="16545"/>
                </a:cubicBezTo>
                <a:cubicBezTo>
                  <a:pt x="4862" y="16402"/>
                  <a:pt x="5035" y="16400"/>
                  <a:pt x="5085" y="16520"/>
                </a:cubicBezTo>
                <a:cubicBezTo>
                  <a:pt x="5085" y="16596"/>
                  <a:pt x="5084" y="16622"/>
                  <a:pt x="5060" y="16669"/>
                </a:cubicBezTo>
                <a:cubicBezTo>
                  <a:pt x="5044" y="16677"/>
                  <a:pt x="5027" y="16686"/>
                  <a:pt x="5011" y="16694"/>
                </a:cubicBezTo>
                <a:cubicBezTo>
                  <a:pt x="5120" y="16657"/>
                  <a:pt x="5234" y="16669"/>
                  <a:pt x="5259" y="16818"/>
                </a:cubicBezTo>
                <a:cubicBezTo>
                  <a:pt x="5276" y="16922"/>
                  <a:pt x="5031" y="17013"/>
                  <a:pt x="4961" y="16966"/>
                </a:cubicBezTo>
                <a:cubicBezTo>
                  <a:pt x="4953" y="16941"/>
                  <a:pt x="4944" y="16917"/>
                  <a:pt x="4936" y="16892"/>
                </a:cubicBezTo>
              </a:path>
              <a:path w="3349" h="745">
                <a:moveTo>
                  <a:pt x="5407" y="16545"/>
                </a:moveTo>
                <a:cubicBezTo>
                  <a:pt x="5434" y="16653"/>
                  <a:pt x="5486" y="16761"/>
                  <a:pt x="5507" y="16867"/>
                </a:cubicBezTo>
              </a:path>
              <a:path w="3349" h="745">
                <a:moveTo>
                  <a:pt x="5209" y="16446"/>
                </a:moveTo>
                <a:cubicBezTo>
                  <a:pt x="5410" y="16462"/>
                  <a:pt x="5629" y="16477"/>
                  <a:pt x="5755" y="16669"/>
                </a:cubicBezTo>
                <a:cubicBezTo>
                  <a:pt x="5861" y="16831"/>
                  <a:pt x="5719" y="16942"/>
                  <a:pt x="5556" y="16942"/>
                </a:cubicBezTo>
                <a:cubicBezTo>
                  <a:pt x="5437" y="16918"/>
                  <a:pt x="5398" y="16915"/>
                  <a:pt x="5383" y="168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59000" y="5956200"/>
            <a:ext cx="11592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6276" y="16619"/>
                </a:moveTo>
                <a:cubicBezTo>
                  <a:pt x="6366" y="16586"/>
                  <a:pt x="6510" y="16506"/>
                  <a:pt x="6573" y="16570"/>
                </a:cubicBezTo>
              </a:path>
              <a:path w="323" h="249">
                <a:moveTo>
                  <a:pt x="6300" y="16793"/>
                </a:moveTo>
                <a:cubicBezTo>
                  <a:pt x="6406" y="16778"/>
                  <a:pt x="6492" y="16768"/>
                  <a:pt x="6598" y="167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8200" y="5776920"/>
            <a:ext cx="419040" cy="358920"/>
          </a:xfrm>
          <a:custGeom>
            <a:avLst/>
            <a:gdLst/>
            <a:ahLst/>
            <a:rect l="l" t="t" r="r" b="b"/>
            <a:pathLst>
              <a:path w="1167" h="993">
                <a:moveTo>
                  <a:pt x="7342" y="16421"/>
                </a:moveTo>
                <a:cubicBezTo>
                  <a:pt x="7308" y="16558"/>
                  <a:pt x="7251" y="16673"/>
                  <a:pt x="7243" y="16818"/>
                </a:cubicBezTo>
                <a:cubicBezTo>
                  <a:pt x="7233" y="17007"/>
                  <a:pt x="7367" y="16986"/>
                  <a:pt x="7516" y="16942"/>
                </a:cubicBezTo>
                <a:cubicBezTo>
                  <a:pt x="7655" y="16901"/>
                  <a:pt x="7734" y="16828"/>
                  <a:pt x="7764" y="16694"/>
                </a:cubicBezTo>
                <a:cubicBezTo>
                  <a:pt x="7685" y="16678"/>
                  <a:pt x="7639" y="16678"/>
                  <a:pt x="7590" y="16768"/>
                </a:cubicBezTo>
                <a:cubicBezTo>
                  <a:pt x="7526" y="16886"/>
                  <a:pt x="7484" y="16964"/>
                  <a:pt x="7590" y="17041"/>
                </a:cubicBezTo>
              </a:path>
              <a:path w="1167" h="993">
                <a:moveTo>
                  <a:pt x="8136" y="16421"/>
                </a:moveTo>
                <a:cubicBezTo>
                  <a:pt x="7986" y="16496"/>
                  <a:pt x="7907" y="16587"/>
                  <a:pt x="7838" y="16743"/>
                </a:cubicBezTo>
                <a:cubicBezTo>
                  <a:pt x="7813" y="16818"/>
                  <a:pt x="7805" y="16842"/>
                  <a:pt x="7838" y="16892"/>
                </a:cubicBezTo>
                <a:cubicBezTo>
                  <a:pt x="7974" y="16906"/>
                  <a:pt x="8228" y="16923"/>
                  <a:pt x="8260" y="16718"/>
                </a:cubicBezTo>
                <a:cubicBezTo>
                  <a:pt x="8290" y="16528"/>
                  <a:pt x="8093" y="16489"/>
                  <a:pt x="7962" y="16470"/>
                </a:cubicBezTo>
              </a:path>
              <a:path w="1167" h="993">
                <a:moveTo>
                  <a:pt x="8384" y="16049"/>
                </a:moveTo>
                <a:cubicBezTo>
                  <a:pt x="8357" y="16071"/>
                  <a:pt x="8187" y="16197"/>
                  <a:pt x="8285" y="16247"/>
                </a:cubicBezTo>
                <a:cubicBezTo>
                  <a:pt x="8333" y="16271"/>
                  <a:pt x="8378" y="16222"/>
                  <a:pt x="8409" y="16197"/>
                </a:cubicBezTo>
                <a:cubicBezTo>
                  <a:pt x="8347" y="16136"/>
                  <a:pt x="8334" y="16148"/>
                  <a:pt x="8235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3080" y="6259680"/>
            <a:ext cx="1465200" cy="250560"/>
          </a:xfrm>
          <a:custGeom>
            <a:avLst/>
            <a:gdLst/>
            <a:ahLst/>
            <a:rect l="l" t="t" r="r" b="b"/>
            <a:pathLst>
              <a:path w="4069" h="696">
                <a:moveTo>
                  <a:pt x="2729" y="17711"/>
                </a:moveTo>
                <a:cubicBezTo>
                  <a:pt x="2702" y="17764"/>
                  <a:pt x="2735" y="17879"/>
                  <a:pt x="2753" y="17959"/>
                </a:cubicBezTo>
                <a:cubicBezTo>
                  <a:pt x="2772" y="18033"/>
                  <a:pt x="2780" y="18040"/>
                  <a:pt x="2778" y="18083"/>
                </a:cubicBezTo>
                <a:cubicBezTo>
                  <a:pt x="2778" y="17979"/>
                  <a:pt x="2766" y="17817"/>
                  <a:pt x="2853" y="17735"/>
                </a:cubicBezTo>
                <a:cubicBezTo>
                  <a:pt x="2969" y="17625"/>
                  <a:pt x="3152" y="17777"/>
                  <a:pt x="3225" y="17859"/>
                </a:cubicBezTo>
                <a:cubicBezTo>
                  <a:pt x="3267" y="17923"/>
                  <a:pt x="3283" y="17934"/>
                  <a:pt x="3274" y="17983"/>
                </a:cubicBezTo>
                <a:cubicBezTo>
                  <a:pt x="3282" y="17851"/>
                  <a:pt x="3296" y="17681"/>
                  <a:pt x="3473" y="17661"/>
                </a:cubicBezTo>
                <a:cubicBezTo>
                  <a:pt x="3645" y="17641"/>
                  <a:pt x="3641" y="17874"/>
                  <a:pt x="3646" y="17983"/>
                </a:cubicBezTo>
                <a:cubicBezTo>
                  <a:pt x="3646" y="17991"/>
                  <a:pt x="3646" y="18000"/>
                  <a:pt x="3646" y="18008"/>
                </a:cubicBezTo>
              </a:path>
              <a:path w="4069" h="696">
                <a:moveTo>
                  <a:pt x="4018" y="17487"/>
                </a:moveTo>
                <a:cubicBezTo>
                  <a:pt x="4004" y="17631"/>
                  <a:pt x="3966" y="17689"/>
                  <a:pt x="3894" y="17810"/>
                </a:cubicBezTo>
                <a:cubicBezTo>
                  <a:pt x="3886" y="17826"/>
                  <a:pt x="3878" y="17843"/>
                  <a:pt x="3870" y="17859"/>
                </a:cubicBezTo>
                <a:cubicBezTo>
                  <a:pt x="3946" y="17911"/>
                  <a:pt x="3999" y="17909"/>
                  <a:pt x="4093" y="17909"/>
                </a:cubicBezTo>
                <a:cubicBezTo>
                  <a:pt x="4101" y="17909"/>
                  <a:pt x="4110" y="17909"/>
                  <a:pt x="4118" y="17909"/>
                </a:cubicBezTo>
              </a:path>
              <a:path w="4069" h="696">
                <a:moveTo>
                  <a:pt x="4638" y="17587"/>
                </a:moveTo>
                <a:cubicBezTo>
                  <a:pt x="4638" y="17562"/>
                  <a:pt x="4638" y="17554"/>
                  <a:pt x="4614" y="17562"/>
                </a:cubicBezTo>
                <a:cubicBezTo>
                  <a:pt x="4614" y="17461"/>
                  <a:pt x="4625" y="17710"/>
                  <a:pt x="4638" y="17810"/>
                </a:cubicBezTo>
                <a:cubicBezTo>
                  <a:pt x="4658" y="17909"/>
                  <a:pt x="4666" y="17924"/>
                  <a:pt x="4663" y="17983"/>
                </a:cubicBezTo>
              </a:path>
              <a:path w="4069" h="696">
                <a:moveTo>
                  <a:pt x="4440" y="17512"/>
                </a:moveTo>
                <a:cubicBezTo>
                  <a:pt x="4628" y="17550"/>
                  <a:pt x="4889" y="17586"/>
                  <a:pt x="5011" y="17760"/>
                </a:cubicBezTo>
                <a:cubicBezTo>
                  <a:pt x="5126" y="17925"/>
                  <a:pt x="4879" y="17952"/>
                  <a:pt x="4787" y="17934"/>
                </a:cubicBezTo>
                <a:cubicBezTo>
                  <a:pt x="4699" y="17917"/>
                  <a:pt x="4713" y="17919"/>
                  <a:pt x="4713" y="17859"/>
                </a:cubicBezTo>
              </a:path>
              <a:path w="4069" h="696">
                <a:moveTo>
                  <a:pt x="5159" y="17587"/>
                </a:moveTo>
                <a:cubicBezTo>
                  <a:pt x="5167" y="17613"/>
                  <a:pt x="5263" y="17939"/>
                  <a:pt x="5283" y="17934"/>
                </a:cubicBezTo>
                <a:cubicBezTo>
                  <a:pt x="5283" y="17917"/>
                  <a:pt x="5283" y="17901"/>
                  <a:pt x="5283" y="17884"/>
                </a:cubicBezTo>
              </a:path>
              <a:path w="4069" h="696">
                <a:moveTo>
                  <a:pt x="4936" y="17438"/>
                </a:moveTo>
                <a:cubicBezTo>
                  <a:pt x="5009" y="17438"/>
                  <a:pt x="5359" y="17391"/>
                  <a:pt x="5383" y="17512"/>
                </a:cubicBezTo>
                <a:cubicBezTo>
                  <a:pt x="5401" y="17605"/>
                  <a:pt x="5218" y="17660"/>
                  <a:pt x="5159" y="17686"/>
                </a:cubicBezTo>
                <a:cubicBezTo>
                  <a:pt x="5333" y="17664"/>
                  <a:pt x="5368" y="17662"/>
                  <a:pt x="5507" y="17760"/>
                </a:cubicBezTo>
                <a:cubicBezTo>
                  <a:pt x="5473" y="17897"/>
                  <a:pt x="5397" y="17973"/>
                  <a:pt x="5234" y="17959"/>
                </a:cubicBezTo>
                <a:cubicBezTo>
                  <a:pt x="5135" y="17934"/>
                  <a:pt x="5102" y="17926"/>
                  <a:pt x="5110" y="17835"/>
                </a:cubicBezTo>
              </a:path>
              <a:path w="4069" h="696">
                <a:moveTo>
                  <a:pt x="5953" y="17487"/>
                </a:moveTo>
                <a:cubicBezTo>
                  <a:pt x="5936" y="17402"/>
                  <a:pt x="5894" y="17364"/>
                  <a:pt x="5804" y="17413"/>
                </a:cubicBezTo>
                <a:cubicBezTo>
                  <a:pt x="5692" y="17474"/>
                  <a:pt x="5526" y="17734"/>
                  <a:pt x="5655" y="17859"/>
                </a:cubicBezTo>
                <a:cubicBezTo>
                  <a:pt x="5794" y="17994"/>
                  <a:pt x="6024" y="17830"/>
                  <a:pt x="6152" y="17760"/>
                </a:cubicBezTo>
                <a:cubicBezTo>
                  <a:pt x="6168" y="17752"/>
                  <a:pt x="6185" y="17743"/>
                  <a:pt x="6201" y="17735"/>
                </a:cubicBezTo>
              </a:path>
              <a:path w="4069" h="696">
                <a:moveTo>
                  <a:pt x="6400" y="17636"/>
                </a:moveTo>
                <a:cubicBezTo>
                  <a:pt x="6513" y="17630"/>
                  <a:pt x="6650" y="17588"/>
                  <a:pt x="6722" y="17661"/>
                </a:cubicBezTo>
              </a:path>
              <a:path w="4069" h="696">
                <a:moveTo>
                  <a:pt x="6499" y="17835"/>
                </a:moveTo>
                <a:cubicBezTo>
                  <a:pt x="6590" y="17835"/>
                  <a:pt x="6681" y="17835"/>
                  <a:pt x="6772" y="178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5840" y="6269040"/>
            <a:ext cx="39204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7441" y="17462"/>
                </a:moveTo>
                <a:cubicBezTo>
                  <a:pt x="7441" y="17374"/>
                  <a:pt x="7438" y="17455"/>
                  <a:pt x="7417" y="17512"/>
                </a:cubicBezTo>
                <a:cubicBezTo>
                  <a:pt x="7354" y="17681"/>
                  <a:pt x="7272" y="17847"/>
                  <a:pt x="7293" y="18033"/>
                </a:cubicBezTo>
                <a:cubicBezTo>
                  <a:pt x="7313" y="18211"/>
                  <a:pt x="7554" y="18156"/>
                  <a:pt x="7665" y="18107"/>
                </a:cubicBezTo>
                <a:cubicBezTo>
                  <a:pt x="7826" y="18036"/>
                  <a:pt x="7874" y="17882"/>
                  <a:pt x="7863" y="17735"/>
                </a:cubicBezTo>
                <a:cubicBezTo>
                  <a:pt x="7734" y="17707"/>
                  <a:pt x="7647" y="17761"/>
                  <a:pt x="7615" y="17909"/>
                </a:cubicBezTo>
                <a:cubicBezTo>
                  <a:pt x="7585" y="18050"/>
                  <a:pt x="7617" y="18059"/>
                  <a:pt x="7714" y="18107"/>
                </a:cubicBezTo>
              </a:path>
              <a:path w="1092" h="745">
                <a:moveTo>
                  <a:pt x="8260" y="17512"/>
                </a:moveTo>
                <a:cubicBezTo>
                  <a:pt x="8127" y="17615"/>
                  <a:pt x="7961" y="17752"/>
                  <a:pt x="7938" y="17934"/>
                </a:cubicBezTo>
                <a:cubicBezTo>
                  <a:pt x="7946" y="17967"/>
                  <a:pt x="7954" y="18000"/>
                  <a:pt x="7962" y="18033"/>
                </a:cubicBezTo>
                <a:cubicBezTo>
                  <a:pt x="8095" y="18081"/>
                  <a:pt x="8274" y="18074"/>
                  <a:pt x="8359" y="17909"/>
                </a:cubicBezTo>
                <a:cubicBezTo>
                  <a:pt x="8422" y="17786"/>
                  <a:pt x="8363" y="17604"/>
                  <a:pt x="8210" y="17587"/>
                </a:cubicBezTo>
                <a:cubicBezTo>
                  <a:pt x="8210" y="17595"/>
                  <a:pt x="8210" y="17603"/>
                  <a:pt x="8210" y="176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6040" y="3517920"/>
            <a:ext cx="946080" cy="563400"/>
          </a:xfrm>
          <a:custGeom>
            <a:avLst/>
            <a:gdLst/>
            <a:ahLst/>
            <a:rect l="l" t="t" r="r" b="b"/>
            <a:pathLst>
              <a:path w="2631" h="1564">
                <a:moveTo>
                  <a:pt x="12154" y="10492"/>
                </a:moveTo>
                <a:cubicBezTo>
                  <a:pt x="12172" y="10656"/>
                  <a:pt x="12179" y="10818"/>
                  <a:pt x="12179" y="10988"/>
                </a:cubicBezTo>
                <a:cubicBezTo>
                  <a:pt x="12179" y="11021"/>
                  <a:pt x="12179" y="11055"/>
                  <a:pt x="12179" y="11088"/>
                </a:cubicBezTo>
              </a:path>
              <a:path w="2631" h="1564">
                <a:moveTo>
                  <a:pt x="12526" y="10517"/>
                </a:moveTo>
                <a:cubicBezTo>
                  <a:pt x="12667" y="10582"/>
                  <a:pt x="13025" y="10719"/>
                  <a:pt x="12849" y="10939"/>
                </a:cubicBezTo>
                <a:cubicBezTo>
                  <a:pt x="12752" y="11060"/>
                  <a:pt x="12601" y="11027"/>
                  <a:pt x="12477" y="11013"/>
                </a:cubicBezTo>
                <a:cubicBezTo>
                  <a:pt x="12459" y="10857"/>
                  <a:pt x="12621" y="10804"/>
                  <a:pt x="12774" y="10864"/>
                </a:cubicBezTo>
                <a:cubicBezTo>
                  <a:pt x="12861" y="10930"/>
                  <a:pt x="12890" y="10940"/>
                  <a:pt x="12898" y="11013"/>
                </a:cubicBezTo>
              </a:path>
              <a:path w="2631" h="1564">
                <a:moveTo>
                  <a:pt x="13171" y="10492"/>
                </a:moveTo>
                <a:cubicBezTo>
                  <a:pt x="13110" y="10597"/>
                  <a:pt x="12909" y="10919"/>
                  <a:pt x="13146" y="10988"/>
                </a:cubicBezTo>
                <a:cubicBezTo>
                  <a:pt x="13305" y="11034"/>
                  <a:pt x="13429" y="10879"/>
                  <a:pt x="13519" y="10790"/>
                </a:cubicBezTo>
                <a:cubicBezTo>
                  <a:pt x="13412" y="10538"/>
                  <a:pt x="13317" y="10545"/>
                  <a:pt x="13047" y="10567"/>
                </a:cubicBezTo>
              </a:path>
              <a:path w="2631" h="1564">
                <a:moveTo>
                  <a:pt x="11931" y="11336"/>
                </a:moveTo>
                <a:cubicBezTo>
                  <a:pt x="11882" y="11177"/>
                  <a:pt x="11879" y="11029"/>
                  <a:pt x="11857" y="10864"/>
                </a:cubicBezTo>
                <a:cubicBezTo>
                  <a:pt x="11836" y="10703"/>
                  <a:pt x="11812" y="10469"/>
                  <a:pt x="11757" y="10319"/>
                </a:cubicBezTo>
                <a:cubicBezTo>
                  <a:pt x="11749" y="10319"/>
                  <a:pt x="11741" y="10319"/>
                  <a:pt x="11733" y="10319"/>
                </a:cubicBezTo>
                <a:cubicBezTo>
                  <a:pt x="11958" y="10328"/>
                  <a:pt x="12178" y="10380"/>
                  <a:pt x="12402" y="10393"/>
                </a:cubicBezTo>
                <a:cubicBezTo>
                  <a:pt x="12791" y="10415"/>
                  <a:pt x="13180" y="10378"/>
                  <a:pt x="13568" y="10368"/>
                </a:cubicBezTo>
                <a:cubicBezTo>
                  <a:pt x="13585" y="10368"/>
                  <a:pt x="13601" y="10368"/>
                  <a:pt x="13618" y="10368"/>
                </a:cubicBezTo>
              </a:path>
              <a:path w="2631" h="1564">
                <a:moveTo>
                  <a:pt x="11311" y="10666"/>
                </a:moveTo>
                <a:cubicBezTo>
                  <a:pt x="11248" y="10697"/>
                  <a:pt x="11241" y="10713"/>
                  <a:pt x="11187" y="10691"/>
                </a:cubicBezTo>
                <a:cubicBezTo>
                  <a:pt x="11300" y="10653"/>
                  <a:pt x="11422" y="10594"/>
                  <a:pt x="11485" y="10765"/>
                </a:cubicBezTo>
                <a:cubicBezTo>
                  <a:pt x="11564" y="10978"/>
                  <a:pt x="11278" y="11204"/>
                  <a:pt x="11112" y="11261"/>
                </a:cubicBezTo>
                <a:cubicBezTo>
                  <a:pt x="11079" y="11261"/>
                  <a:pt x="11046" y="11261"/>
                  <a:pt x="11013" y="11261"/>
                </a:cubicBezTo>
                <a:cubicBezTo>
                  <a:pt x="10983" y="11071"/>
                  <a:pt x="11077" y="11003"/>
                  <a:pt x="11286" y="11038"/>
                </a:cubicBezTo>
                <a:cubicBezTo>
                  <a:pt x="11362" y="11051"/>
                  <a:pt x="11490" y="11107"/>
                  <a:pt x="11509" y="11187"/>
                </a:cubicBezTo>
              </a:path>
              <a:path w="2631" h="1564">
                <a:moveTo>
                  <a:pt x="12502" y="9773"/>
                </a:moveTo>
                <a:cubicBezTo>
                  <a:pt x="12484" y="9883"/>
                  <a:pt x="12424" y="10007"/>
                  <a:pt x="12427" y="10120"/>
                </a:cubicBezTo>
                <a:cubicBezTo>
                  <a:pt x="12431" y="10301"/>
                  <a:pt x="12559" y="10388"/>
                  <a:pt x="12725" y="10294"/>
                </a:cubicBezTo>
                <a:cubicBezTo>
                  <a:pt x="12839" y="10230"/>
                  <a:pt x="12832" y="10146"/>
                  <a:pt x="12824" y="10046"/>
                </a:cubicBezTo>
                <a:cubicBezTo>
                  <a:pt x="12700" y="10056"/>
                  <a:pt x="12556" y="10100"/>
                  <a:pt x="12601" y="10269"/>
                </a:cubicBezTo>
                <a:cubicBezTo>
                  <a:pt x="12651" y="10320"/>
                  <a:pt x="12669" y="10337"/>
                  <a:pt x="12725" y="10319"/>
                </a:cubicBezTo>
              </a:path>
              <a:path w="2631" h="1564">
                <a:moveTo>
                  <a:pt x="13146" y="9773"/>
                </a:moveTo>
                <a:cubicBezTo>
                  <a:pt x="13022" y="9798"/>
                  <a:pt x="12998" y="9958"/>
                  <a:pt x="12998" y="10071"/>
                </a:cubicBezTo>
                <a:cubicBezTo>
                  <a:pt x="13006" y="10104"/>
                  <a:pt x="13014" y="10137"/>
                  <a:pt x="13022" y="10170"/>
                </a:cubicBezTo>
                <a:cubicBezTo>
                  <a:pt x="13174" y="10192"/>
                  <a:pt x="13318" y="10176"/>
                  <a:pt x="13370" y="9996"/>
                </a:cubicBezTo>
                <a:cubicBezTo>
                  <a:pt x="13431" y="9785"/>
                  <a:pt x="13190" y="9857"/>
                  <a:pt x="13097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0920" y="4983120"/>
            <a:ext cx="492120" cy="438120"/>
          </a:xfrm>
          <a:custGeom>
            <a:avLst/>
            <a:gdLst/>
            <a:ahLst/>
            <a:rect l="l" t="t" r="r" b="b"/>
            <a:pathLst>
              <a:path w="1365" h="1216">
                <a:moveTo>
                  <a:pt x="13395" y="14560"/>
                </a:moveTo>
                <a:cubicBezTo>
                  <a:pt x="13395" y="14536"/>
                  <a:pt x="13395" y="14527"/>
                  <a:pt x="13395" y="14511"/>
                </a:cubicBezTo>
                <a:cubicBezTo>
                  <a:pt x="13379" y="14670"/>
                  <a:pt x="13345" y="14846"/>
                  <a:pt x="13370" y="15007"/>
                </a:cubicBezTo>
                <a:cubicBezTo>
                  <a:pt x="13378" y="15023"/>
                  <a:pt x="13387" y="15040"/>
                  <a:pt x="13395" y="15056"/>
                </a:cubicBezTo>
              </a:path>
              <a:path w="1365" h="1216">
                <a:moveTo>
                  <a:pt x="12973" y="14436"/>
                </a:moveTo>
                <a:cubicBezTo>
                  <a:pt x="12914" y="14378"/>
                  <a:pt x="13170" y="14314"/>
                  <a:pt x="13221" y="14312"/>
                </a:cubicBezTo>
                <a:cubicBezTo>
                  <a:pt x="13355" y="14307"/>
                  <a:pt x="13633" y="14405"/>
                  <a:pt x="13543" y="14585"/>
                </a:cubicBezTo>
                <a:cubicBezTo>
                  <a:pt x="13498" y="14675"/>
                  <a:pt x="13403" y="14693"/>
                  <a:pt x="13320" y="14709"/>
                </a:cubicBezTo>
                <a:cubicBezTo>
                  <a:pt x="13367" y="14616"/>
                  <a:pt x="13513" y="14659"/>
                  <a:pt x="13593" y="14709"/>
                </a:cubicBezTo>
                <a:cubicBezTo>
                  <a:pt x="13618" y="14734"/>
                  <a:pt x="13642" y="14759"/>
                  <a:pt x="13667" y="14784"/>
                </a:cubicBezTo>
                <a:cubicBezTo>
                  <a:pt x="13623" y="14961"/>
                  <a:pt x="13530" y="15067"/>
                  <a:pt x="13320" y="15056"/>
                </a:cubicBezTo>
                <a:cubicBezTo>
                  <a:pt x="13146" y="15047"/>
                  <a:pt x="13286" y="14894"/>
                  <a:pt x="13320" y="14833"/>
                </a:cubicBezTo>
              </a:path>
              <a:path w="1365" h="1216">
                <a:moveTo>
                  <a:pt x="13767" y="14511"/>
                </a:moveTo>
                <a:cubicBezTo>
                  <a:pt x="13784" y="14631"/>
                  <a:pt x="13806" y="14767"/>
                  <a:pt x="13841" y="14883"/>
                </a:cubicBezTo>
                <a:cubicBezTo>
                  <a:pt x="13849" y="14899"/>
                  <a:pt x="13858" y="14916"/>
                  <a:pt x="13866" y="14932"/>
                </a:cubicBezTo>
                <a:cubicBezTo>
                  <a:pt x="13866" y="14817"/>
                  <a:pt x="13821" y="14740"/>
                  <a:pt x="13791" y="14635"/>
                </a:cubicBezTo>
                <a:cubicBezTo>
                  <a:pt x="13764" y="14541"/>
                  <a:pt x="13742" y="14458"/>
                  <a:pt x="13742" y="14362"/>
                </a:cubicBezTo>
                <a:cubicBezTo>
                  <a:pt x="13742" y="14354"/>
                  <a:pt x="13742" y="14345"/>
                  <a:pt x="13742" y="14337"/>
                </a:cubicBezTo>
                <a:cubicBezTo>
                  <a:pt x="13836" y="14337"/>
                  <a:pt x="13922" y="14286"/>
                  <a:pt x="14015" y="14288"/>
                </a:cubicBezTo>
                <a:cubicBezTo>
                  <a:pt x="14109" y="14306"/>
                  <a:pt x="14129" y="14292"/>
                  <a:pt x="14163" y="14337"/>
                </a:cubicBezTo>
              </a:path>
              <a:path w="1365" h="1216">
                <a:moveTo>
                  <a:pt x="13791" y="14635"/>
                </a:moveTo>
                <a:cubicBezTo>
                  <a:pt x="13873" y="14635"/>
                  <a:pt x="14044" y="14582"/>
                  <a:pt x="14114" y="14610"/>
                </a:cubicBezTo>
                <a:cubicBezTo>
                  <a:pt x="14114" y="14618"/>
                  <a:pt x="14114" y="14627"/>
                  <a:pt x="14114" y="14635"/>
                </a:cubicBezTo>
              </a:path>
              <a:path w="1365" h="1216">
                <a:moveTo>
                  <a:pt x="13990" y="14833"/>
                </a:moveTo>
                <a:cubicBezTo>
                  <a:pt x="14065" y="14833"/>
                  <a:pt x="14125" y="14831"/>
                  <a:pt x="14188" y="14858"/>
                </a:cubicBezTo>
              </a:path>
              <a:path w="1365" h="1216">
                <a:moveTo>
                  <a:pt x="13965" y="15032"/>
                </a:moveTo>
                <a:cubicBezTo>
                  <a:pt x="14069" y="15014"/>
                  <a:pt x="14254" y="15011"/>
                  <a:pt x="14312" y="14932"/>
                </a:cubicBezTo>
              </a:path>
              <a:path w="1365" h="1216">
                <a:moveTo>
                  <a:pt x="13295" y="14039"/>
                </a:moveTo>
                <a:cubicBezTo>
                  <a:pt x="13499" y="14039"/>
                  <a:pt x="13716" y="14007"/>
                  <a:pt x="13915" y="14015"/>
                </a:cubicBezTo>
                <a:cubicBezTo>
                  <a:pt x="13990" y="14033"/>
                  <a:pt x="14049" y="14041"/>
                  <a:pt x="13990" y="14039"/>
                </a:cubicBezTo>
              </a:path>
              <a:path w="1365" h="1216">
                <a:moveTo>
                  <a:pt x="13593" y="13841"/>
                </a:moveTo>
                <a:cubicBezTo>
                  <a:pt x="13799" y="13885"/>
                  <a:pt x="14009" y="13915"/>
                  <a:pt x="14213" y="13965"/>
                </a:cubicBezTo>
                <a:cubicBezTo>
                  <a:pt x="14238" y="13973"/>
                  <a:pt x="14263" y="13982"/>
                  <a:pt x="14288" y="13990"/>
                </a:cubicBezTo>
                <a:cubicBezTo>
                  <a:pt x="14267" y="14094"/>
                  <a:pt x="14175" y="14155"/>
                  <a:pt x="14089" y="14213"/>
                </a:cubicBezTo>
                <a:cubicBezTo>
                  <a:pt x="14058" y="14234"/>
                  <a:pt x="13693" y="14397"/>
                  <a:pt x="13891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9800" y="5143680"/>
            <a:ext cx="223920" cy="241200"/>
          </a:xfrm>
          <a:custGeom>
            <a:avLst/>
            <a:gdLst/>
            <a:ahLst/>
            <a:rect l="l" t="t" r="r" b="b"/>
            <a:pathLst>
              <a:path w="622" h="670">
                <a:moveTo>
                  <a:pt x="15106" y="14635"/>
                </a:moveTo>
                <a:cubicBezTo>
                  <a:pt x="15112" y="14744"/>
                  <a:pt x="15123" y="14848"/>
                  <a:pt x="15131" y="14957"/>
                </a:cubicBezTo>
              </a:path>
              <a:path w="622" h="670">
                <a:moveTo>
                  <a:pt x="15056" y="14288"/>
                </a:moveTo>
                <a:lnTo>
                  <a:pt x="15056" y="14288"/>
                </a:lnTo>
              </a:path>
              <a:path w="622" h="670">
                <a:moveTo>
                  <a:pt x="15478" y="14511"/>
                </a:moveTo>
                <a:cubicBezTo>
                  <a:pt x="15395" y="14552"/>
                  <a:pt x="15370" y="14552"/>
                  <a:pt x="15354" y="14610"/>
                </a:cubicBezTo>
                <a:cubicBezTo>
                  <a:pt x="15439" y="14708"/>
                  <a:pt x="15570" y="14750"/>
                  <a:pt x="15677" y="14833"/>
                </a:cubicBezTo>
                <a:cubicBezTo>
                  <a:pt x="15553" y="14974"/>
                  <a:pt x="15483" y="14955"/>
                  <a:pt x="15329" y="148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4920" y="5133960"/>
            <a:ext cx="438120" cy="250920"/>
          </a:xfrm>
          <a:custGeom>
            <a:avLst/>
            <a:gdLst/>
            <a:ahLst/>
            <a:rect l="l" t="t" r="r" b="b"/>
            <a:pathLst>
              <a:path w="1217" h="695">
                <a:moveTo>
                  <a:pt x="16470" y="14263"/>
                </a:moveTo>
                <a:cubicBezTo>
                  <a:pt x="16506" y="14416"/>
                  <a:pt x="16689" y="14712"/>
                  <a:pt x="16644" y="14858"/>
                </a:cubicBezTo>
                <a:cubicBezTo>
                  <a:pt x="16627" y="14866"/>
                  <a:pt x="16611" y="14875"/>
                  <a:pt x="16594" y="14883"/>
                </a:cubicBezTo>
              </a:path>
              <a:path w="1217" h="695">
                <a:moveTo>
                  <a:pt x="16346" y="14635"/>
                </a:moveTo>
                <a:cubicBezTo>
                  <a:pt x="16547" y="14666"/>
                  <a:pt x="16669" y="14669"/>
                  <a:pt x="16867" y="14635"/>
                </a:cubicBezTo>
              </a:path>
              <a:path w="1217" h="695">
                <a:moveTo>
                  <a:pt x="16867" y="14337"/>
                </a:moveTo>
                <a:cubicBezTo>
                  <a:pt x="16858" y="14534"/>
                  <a:pt x="16898" y="14711"/>
                  <a:pt x="16942" y="14908"/>
                </a:cubicBezTo>
                <a:cubicBezTo>
                  <a:pt x="16942" y="14771"/>
                  <a:pt x="16946" y="14729"/>
                  <a:pt x="17041" y="14635"/>
                </a:cubicBezTo>
                <a:cubicBezTo>
                  <a:pt x="17136" y="14730"/>
                  <a:pt x="17176" y="14832"/>
                  <a:pt x="17239" y="14957"/>
                </a:cubicBezTo>
              </a:path>
              <a:path w="1217" h="695">
                <a:moveTo>
                  <a:pt x="17388" y="14784"/>
                </a:moveTo>
                <a:cubicBezTo>
                  <a:pt x="17453" y="14762"/>
                  <a:pt x="17478" y="14763"/>
                  <a:pt x="17462" y="14709"/>
                </a:cubicBezTo>
                <a:cubicBezTo>
                  <a:pt x="17439" y="14568"/>
                  <a:pt x="17330" y="14773"/>
                  <a:pt x="17338" y="14833"/>
                </a:cubicBezTo>
                <a:cubicBezTo>
                  <a:pt x="17404" y="14932"/>
                  <a:pt x="17449" y="14961"/>
                  <a:pt x="17562" y="149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3880" y="5133960"/>
            <a:ext cx="1214280" cy="260280"/>
          </a:xfrm>
          <a:custGeom>
            <a:avLst/>
            <a:gdLst/>
            <a:ahLst/>
            <a:rect l="l" t="t" r="r" b="b"/>
            <a:pathLst>
              <a:path w="3375" h="720">
                <a:moveTo>
                  <a:pt x="17983" y="14263"/>
                </a:moveTo>
                <a:cubicBezTo>
                  <a:pt x="18077" y="14375"/>
                  <a:pt x="18114" y="14577"/>
                  <a:pt x="18157" y="14734"/>
                </a:cubicBezTo>
                <a:cubicBezTo>
                  <a:pt x="18165" y="14759"/>
                  <a:pt x="18174" y="14783"/>
                  <a:pt x="18182" y="14808"/>
                </a:cubicBezTo>
                <a:cubicBezTo>
                  <a:pt x="18137" y="14704"/>
                  <a:pt x="18152" y="14534"/>
                  <a:pt x="18306" y="14511"/>
                </a:cubicBezTo>
                <a:cubicBezTo>
                  <a:pt x="18510" y="14480"/>
                  <a:pt x="18505" y="14681"/>
                  <a:pt x="18529" y="14808"/>
                </a:cubicBezTo>
                <a:cubicBezTo>
                  <a:pt x="18372" y="14921"/>
                  <a:pt x="18299" y="14957"/>
                  <a:pt x="18207" y="14784"/>
                </a:cubicBezTo>
              </a:path>
              <a:path w="3375" h="720">
                <a:moveTo>
                  <a:pt x="18703" y="14759"/>
                </a:moveTo>
                <a:cubicBezTo>
                  <a:pt x="18703" y="14842"/>
                  <a:pt x="18703" y="14858"/>
                  <a:pt x="18703" y="14908"/>
                </a:cubicBezTo>
              </a:path>
              <a:path w="3375" h="720">
                <a:moveTo>
                  <a:pt x="18728" y="14337"/>
                </a:moveTo>
                <a:cubicBezTo>
                  <a:pt x="18693" y="14337"/>
                  <a:pt x="18689" y="14346"/>
                  <a:pt x="18728" y="14387"/>
                </a:cubicBezTo>
              </a:path>
              <a:path w="3375" h="720">
                <a:moveTo>
                  <a:pt x="19025" y="14560"/>
                </a:moveTo>
                <a:cubicBezTo>
                  <a:pt x="18910" y="14568"/>
                  <a:pt x="18896" y="14554"/>
                  <a:pt x="18827" y="14635"/>
                </a:cubicBezTo>
                <a:cubicBezTo>
                  <a:pt x="18897" y="14739"/>
                  <a:pt x="18989" y="14803"/>
                  <a:pt x="19050" y="14908"/>
                </a:cubicBezTo>
                <a:cubicBezTo>
                  <a:pt x="18917" y="15039"/>
                  <a:pt x="18853" y="14942"/>
                  <a:pt x="18728" y="14833"/>
                </a:cubicBezTo>
              </a:path>
              <a:path w="3375" h="720">
                <a:moveTo>
                  <a:pt x="19248" y="14684"/>
                </a:moveTo>
                <a:cubicBezTo>
                  <a:pt x="19289" y="14674"/>
                  <a:pt x="19288" y="14675"/>
                  <a:pt x="19298" y="14635"/>
                </a:cubicBezTo>
                <a:cubicBezTo>
                  <a:pt x="19194" y="14572"/>
                  <a:pt x="19112" y="14700"/>
                  <a:pt x="19100" y="14808"/>
                </a:cubicBezTo>
                <a:cubicBezTo>
                  <a:pt x="19126" y="14915"/>
                  <a:pt x="19139" y="14953"/>
                  <a:pt x="19224" y="14982"/>
                </a:cubicBezTo>
              </a:path>
              <a:path w="3375" h="720">
                <a:moveTo>
                  <a:pt x="19596" y="14610"/>
                </a:moveTo>
                <a:cubicBezTo>
                  <a:pt x="19629" y="14643"/>
                  <a:pt x="19628" y="14670"/>
                  <a:pt x="19645" y="14635"/>
                </a:cubicBezTo>
                <a:cubicBezTo>
                  <a:pt x="19543" y="14544"/>
                  <a:pt x="19451" y="14566"/>
                  <a:pt x="19447" y="14734"/>
                </a:cubicBezTo>
                <a:cubicBezTo>
                  <a:pt x="19442" y="14955"/>
                  <a:pt x="19618" y="14915"/>
                  <a:pt x="19769" y="14932"/>
                </a:cubicBezTo>
              </a:path>
              <a:path w="3375" h="720">
                <a:moveTo>
                  <a:pt x="20092" y="14312"/>
                </a:moveTo>
                <a:cubicBezTo>
                  <a:pt x="20104" y="14512"/>
                  <a:pt x="20152" y="14650"/>
                  <a:pt x="20216" y="14833"/>
                </a:cubicBezTo>
                <a:cubicBezTo>
                  <a:pt x="20216" y="14841"/>
                  <a:pt x="20216" y="14850"/>
                  <a:pt x="20216" y="14858"/>
                </a:cubicBezTo>
              </a:path>
              <a:path w="3375" h="720">
                <a:moveTo>
                  <a:pt x="20141" y="14511"/>
                </a:moveTo>
                <a:cubicBezTo>
                  <a:pt x="20314" y="14511"/>
                  <a:pt x="20453" y="14493"/>
                  <a:pt x="20613" y="14461"/>
                </a:cubicBezTo>
                <a:cubicBezTo>
                  <a:pt x="20521" y="14568"/>
                  <a:pt x="20480" y="14652"/>
                  <a:pt x="20439" y="14784"/>
                </a:cubicBezTo>
                <a:cubicBezTo>
                  <a:pt x="20562" y="14845"/>
                  <a:pt x="20754" y="14915"/>
                  <a:pt x="20836" y="14734"/>
                </a:cubicBezTo>
                <a:cubicBezTo>
                  <a:pt x="20880" y="14637"/>
                  <a:pt x="20790" y="14571"/>
                  <a:pt x="20737" y="14511"/>
                </a:cubicBezTo>
              </a:path>
              <a:path w="3375" h="720">
                <a:moveTo>
                  <a:pt x="20935" y="14784"/>
                </a:moveTo>
                <a:cubicBezTo>
                  <a:pt x="20995" y="14853"/>
                  <a:pt x="20972" y="14870"/>
                  <a:pt x="21010" y="14808"/>
                </a:cubicBezTo>
                <a:cubicBezTo>
                  <a:pt x="21112" y="14643"/>
                  <a:pt x="21163" y="14540"/>
                  <a:pt x="21357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0800" y="5062680"/>
            <a:ext cx="320400" cy="277560"/>
          </a:xfrm>
          <a:custGeom>
            <a:avLst/>
            <a:gdLst/>
            <a:ahLst/>
            <a:rect l="l" t="t" r="r" b="b"/>
            <a:pathLst>
              <a:path w="893" h="770">
                <a:moveTo>
                  <a:pt x="22002" y="14436"/>
                </a:moveTo>
                <a:cubicBezTo>
                  <a:pt x="21850" y="14482"/>
                  <a:pt x="21745" y="14578"/>
                  <a:pt x="21779" y="14759"/>
                </a:cubicBezTo>
                <a:cubicBezTo>
                  <a:pt x="21795" y="14784"/>
                  <a:pt x="21812" y="14808"/>
                  <a:pt x="21828" y="14833"/>
                </a:cubicBezTo>
                <a:cubicBezTo>
                  <a:pt x="21994" y="14817"/>
                  <a:pt x="22217" y="14795"/>
                  <a:pt x="22126" y="14560"/>
                </a:cubicBezTo>
                <a:cubicBezTo>
                  <a:pt x="22058" y="14470"/>
                  <a:pt x="22043" y="14444"/>
                  <a:pt x="21977" y="14412"/>
                </a:cubicBezTo>
              </a:path>
              <a:path w="893" h="770">
                <a:moveTo>
                  <a:pt x="22647" y="14064"/>
                </a:moveTo>
                <a:cubicBezTo>
                  <a:pt x="22433" y="14109"/>
                  <a:pt x="22295" y="14250"/>
                  <a:pt x="22349" y="14511"/>
                </a:cubicBezTo>
                <a:cubicBezTo>
                  <a:pt x="22373" y="14628"/>
                  <a:pt x="22447" y="14683"/>
                  <a:pt x="22523" y="14759"/>
                </a:cubicBezTo>
              </a:path>
              <a:path w="893" h="770">
                <a:moveTo>
                  <a:pt x="22399" y="14511"/>
                </a:moveTo>
                <a:cubicBezTo>
                  <a:pt x="22537" y="14557"/>
                  <a:pt x="22576" y="14573"/>
                  <a:pt x="22671" y="145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9080" y="5510160"/>
            <a:ext cx="1160640" cy="320760"/>
          </a:xfrm>
          <a:custGeom>
            <a:avLst/>
            <a:gdLst/>
            <a:ahLst/>
            <a:rect l="l" t="t" r="r" b="b"/>
            <a:pathLst>
              <a:path w="3225" h="894">
                <a:moveTo>
                  <a:pt x="16148" y="15453"/>
                </a:moveTo>
                <a:cubicBezTo>
                  <a:pt x="16148" y="15577"/>
                  <a:pt x="16161" y="15643"/>
                  <a:pt x="16073" y="15751"/>
                </a:cubicBezTo>
                <a:cubicBezTo>
                  <a:pt x="15931" y="15926"/>
                  <a:pt x="15747" y="16041"/>
                  <a:pt x="15553" y="16148"/>
                </a:cubicBezTo>
                <a:cubicBezTo>
                  <a:pt x="15779" y="16078"/>
                  <a:pt x="16010" y="16076"/>
                  <a:pt x="16247" y="16073"/>
                </a:cubicBezTo>
                <a:cubicBezTo>
                  <a:pt x="16365" y="16073"/>
                  <a:pt x="16387" y="16059"/>
                  <a:pt x="16446" y="16098"/>
                </a:cubicBezTo>
              </a:path>
              <a:path w="3225" h="894">
                <a:moveTo>
                  <a:pt x="16743" y="15652"/>
                </a:moveTo>
                <a:cubicBezTo>
                  <a:pt x="16757" y="15742"/>
                  <a:pt x="16870" y="16103"/>
                  <a:pt x="16768" y="16173"/>
                </a:cubicBezTo>
                <a:cubicBezTo>
                  <a:pt x="16751" y="16165"/>
                  <a:pt x="16735" y="16156"/>
                  <a:pt x="16718" y="16148"/>
                </a:cubicBezTo>
              </a:path>
              <a:path w="3225" h="894">
                <a:moveTo>
                  <a:pt x="16495" y="15528"/>
                </a:moveTo>
                <a:cubicBezTo>
                  <a:pt x="16736" y="15600"/>
                  <a:pt x="17010" y="15684"/>
                  <a:pt x="17140" y="15925"/>
                </a:cubicBezTo>
                <a:cubicBezTo>
                  <a:pt x="17236" y="16104"/>
                  <a:pt x="17059" y="16252"/>
                  <a:pt x="16892" y="16173"/>
                </a:cubicBezTo>
                <a:cubicBezTo>
                  <a:pt x="16867" y="16148"/>
                  <a:pt x="16843" y="16123"/>
                  <a:pt x="16818" y="16098"/>
                </a:cubicBezTo>
              </a:path>
              <a:path w="3225" h="894">
                <a:moveTo>
                  <a:pt x="17388" y="15453"/>
                </a:moveTo>
                <a:cubicBezTo>
                  <a:pt x="17405" y="15609"/>
                  <a:pt x="17447" y="15766"/>
                  <a:pt x="17462" y="15925"/>
                </a:cubicBezTo>
                <a:cubicBezTo>
                  <a:pt x="17462" y="15950"/>
                  <a:pt x="17462" y="15974"/>
                  <a:pt x="17462" y="15999"/>
                </a:cubicBezTo>
              </a:path>
              <a:path w="3225" h="894">
                <a:moveTo>
                  <a:pt x="17140" y="15329"/>
                </a:moveTo>
                <a:cubicBezTo>
                  <a:pt x="17298" y="15304"/>
                  <a:pt x="17707" y="15260"/>
                  <a:pt x="17735" y="15503"/>
                </a:cubicBezTo>
                <a:cubicBezTo>
                  <a:pt x="17749" y="15630"/>
                  <a:pt x="17571" y="15658"/>
                  <a:pt x="17487" y="15677"/>
                </a:cubicBezTo>
                <a:cubicBezTo>
                  <a:pt x="17479" y="15677"/>
                  <a:pt x="17470" y="15677"/>
                  <a:pt x="17462" y="15677"/>
                </a:cubicBezTo>
                <a:cubicBezTo>
                  <a:pt x="17607" y="15677"/>
                  <a:pt x="17718" y="15648"/>
                  <a:pt x="17835" y="15751"/>
                </a:cubicBezTo>
                <a:cubicBezTo>
                  <a:pt x="17993" y="15891"/>
                  <a:pt x="17774" y="15986"/>
                  <a:pt x="17661" y="15999"/>
                </a:cubicBezTo>
                <a:cubicBezTo>
                  <a:pt x="17535" y="16014"/>
                  <a:pt x="17522" y="16007"/>
                  <a:pt x="17462" y="15925"/>
                </a:cubicBezTo>
              </a:path>
              <a:path w="3225" h="894">
                <a:moveTo>
                  <a:pt x="18529" y="15602"/>
                </a:moveTo>
                <a:cubicBezTo>
                  <a:pt x="18529" y="15663"/>
                  <a:pt x="18512" y="15419"/>
                  <a:pt x="18504" y="15404"/>
                </a:cubicBezTo>
                <a:cubicBezTo>
                  <a:pt x="18479" y="15379"/>
                  <a:pt x="18455" y="15354"/>
                  <a:pt x="18430" y="15329"/>
                </a:cubicBezTo>
                <a:cubicBezTo>
                  <a:pt x="18259" y="15390"/>
                  <a:pt x="18103" y="15589"/>
                  <a:pt x="18231" y="15801"/>
                </a:cubicBezTo>
                <a:cubicBezTo>
                  <a:pt x="18303" y="15921"/>
                  <a:pt x="18703" y="16064"/>
                  <a:pt x="18777" y="15875"/>
                </a:cubicBezTo>
                <a:cubicBezTo>
                  <a:pt x="18769" y="15867"/>
                  <a:pt x="18760" y="15858"/>
                  <a:pt x="18752" y="158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4920" y="6357960"/>
            <a:ext cx="608040" cy="250920"/>
          </a:xfrm>
          <a:custGeom>
            <a:avLst/>
            <a:gdLst/>
            <a:ahLst/>
            <a:rect l="l" t="t" r="r" b="b"/>
            <a:pathLst>
              <a:path w="1688" h="695">
                <a:moveTo>
                  <a:pt x="13097" y="18083"/>
                </a:moveTo>
                <a:cubicBezTo>
                  <a:pt x="13097" y="18058"/>
                  <a:pt x="13097" y="18050"/>
                  <a:pt x="13097" y="18033"/>
                </a:cubicBezTo>
                <a:cubicBezTo>
                  <a:pt x="13145" y="18049"/>
                  <a:pt x="13156" y="18151"/>
                  <a:pt x="13171" y="18207"/>
                </a:cubicBezTo>
                <a:cubicBezTo>
                  <a:pt x="13187" y="18267"/>
                  <a:pt x="13221" y="18393"/>
                  <a:pt x="13221" y="18331"/>
                </a:cubicBezTo>
                <a:cubicBezTo>
                  <a:pt x="13211" y="18217"/>
                  <a:pt x="13193" y="18146"/>
                  <a:pt x="13221" y="18033"/>
                </a:cubicBezTo>
                <a:cubicBezTo>
                  <a:pt x="13248" y="17926"/>
                  <a:pt x="13270" y="17909"/>
                  <a:pt x="13345" y="17835"/>
                </a:cubicBezTo>
                <a:cubicBezTo>
                  <a:pt x="13479" y="17923"/>
                  <a:pt x="13545" y="18016"/>
                  <a:pt x="13618" y="18157"/>
                </a:cubicBezTo>
                <a:cubicBezTo>
                  <a:pt x="13638" y="18198"/>
                  <a:pt x="13657" y="18214"/>
                  <a:pt x="13618" y="18207"/>
                </a:cubicBezTo>
                <a:cubicBezTo>
                  <a:pt x="13572" y="18104"/>
                  <a:pt x="13554" y="18039"/>
                  <a:pt x="13618" y="17934"/>
                </a:cubicBezTo>
                <a:cubicBezTo>
                  <a:pt x="13711" y="17780"/>
                  <a:pt x="13808" y="17998"/>
                  <a:pt x="13841" y="18058"/>
                </a:cubicBezTo>
                <a:cubicBezTo>
                  <a:pt x="13891" y="18151"/>
                  <a:pt x="13891" y="18183"/>
                  <a:pt x="13891" y="18281"/>
                </a:cubicBezTo>
              </a:path>
              <a:path w="1688" h="695">
                <a:moveTo>
                  <a:pt x="14461" y="17661"/>
                </a:moveTo>
                <a:cubicBezTo>
                  <a:pt x="14390" y="17861"/>
                  <a:pt x="14329" y="18047"/>
                  <a:pt x="14188" y="18207"/>
                </a:cubicBezTo>
                <a:cubicBezTo>
                  <a:pt x="14172" y="18223"/>
                  <a:pt x="14155" y="18240"/>
                  <a:pt x="14139" y="18256"/>
                </a:cubicBezTo>
                <a:cubicBezTo>
                  <a:pt x="14275" y="18256"/>
                  <a:pt x="14401" y="18217"/>
                  <a:pt x="14536" y="18207"/>
                </a:cubicBezTo>
                <a:cubicBezTo>
                  <a:pt x="14668" y="18207"/>
                  <a:pt x="14701" y="18207"/>
                  <a:pt x="14784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1080" y="6367320"/>
            <a:ext cx="581040" cy="241560"/>
          </a:xfrm>
          <a:custGeom>
            <a:avLst/>
            <a:gdLst/>
            <a:ahLst/>
            <a:rect l="l" t="t" r="r" b="b"/>
            <a:pathLst>
              <a:path w="1613" h="670">
                <a:moveTo>
                  <a:pt x="15255" y="17859"/>
                </a:moveTo>
                <a:cubicBezTo>
                  <a:pt x="15287" y="17981"/>
                  <a:pt x="15281" y="18203"/>
                  <a:pt x="15354" y="18306"/>
                </a:cubicBezTo>
                <a:cubicBezTo>
                  <a:pt x="15436" y="18422"/>
                  <a:pt x="15545" y="18318"/>
                  <a:pt x="15627" y="18281"/>
                </a:cubicBezTo>
                <a:cubicBezTo>
                  <a:pt x="15687" y="18261"/>
                  <a:pt x="15702" y="18262"/>
                  <a:pt x="15726" y="18231"/>
                </a:cubicBezTo>
              </a:path>
              <a:path w="1613" h="670">
                <a:moveTo>
                  <a:pt x="15280" y="18033"/>
                </a:moveTo>
                <a:cubicBezTo>
                  <a:pt x="15384" y="18015"/>
                  <a:pt x="15473" y="17959"/>
                  <a:pt x="15577" y="17934"/>
                </a:cubicBezTo>
                <a:cubicBezTo>
                  <a:pt x="15605" y="17934"/>
                  <a:pt x="15611" y="17932"/>
                  <a:pt x="15577" y="17909"/>
                </a:cubicBezTo>
              </a:path>
              <a:path w="1613" h="670">
                <a:moveTo>
                  <a:pt x="15304" y="17810"/>
                </a:moveTo>
                <a:cubicBezTo>
                  <a:pt x="15378" y="17795"/>
                  <a:pt x="15451" y="17774"/>
                  <a:pt x="15528" y="17760"/>
                </a:cubicBezTo>
                <a:cubicBezTo>
                  <a:pt x="15562" y="17754"/>
                  <a:pt x="15624" y="17760"/>
                  <a:pt x="15652" y="17760"/>
                </a:cubicBezTo>
              </a:path>
              <a:path w="1613" h="670">
                <a:moveTo>
                  <a:pt x="15801" y="17810"/>
                </a:moveTo>
                <a:cubicBezTo>
                  <a:pt x="15840" y="17951"/>
                  <a:pt x="15870" y="18085"/>
                  <a:pt x="15875" y="18231"/>
                </a:cubicBezTo>
                <a:cubicBezTo>
                  <a:pt x="15875" y="18248"/>
                  <a:pt x="15875" y="18264"/>
                  <a:pt x="15875" y="18281"/>
                </a:cubicBezTo>
              </a:path>
              <a:path w="1613" h="670">
                <a:moveTo>
                  <a:pt x="15726" y="17785"/>
                </a:moveTo>
                <a:cubicBezTo>
                  <a:pt x="15863" y="17805"/>
                  <a:pt x="16016" y="17789"/>
                  <a:pt x="16148" y="17835"/>
                </a:cubicBezTo>
                <a:cubicBezTo>
                  <a:pt x="16173" y="17851"/>
                  <a:pt x="16197" y="17868"/>
                  <a:pt x="16222" y="17884"/>
                </a:cubicBezTo>
                <a:cubicBezTo>
                  <a:pt x="16199" y="17978"/>
                  <a:pt x="16152" y="18085"/>
                  <a:pt x="16049" y="18132"/>
                </a:cubicBezTo>
                <a:cubicBezTo>
                  <a:pt x="16024" y="18132"/>
                  <a:pt x="16016" y="18132"/>
                  <a:pt x="16049" y="18132"/>
                </a:cubicBezTo>
                <a:cubicBezTo>
                  <a:pt x="16208" y="18119"/>
                  <a:pt x="16274" y="18115"/>
                  <a:pt x="16421" y="18182"/>
                </a:cubicBezTo>
                <a:cubicBezTo>
                  <a:pt x="16355" y="18301"/>
                  <a:pt x="16251" y="18360"/>
                  <a:pt x="16098" y="18355"/>
                </a:cubicBezTo>
                <a:cubicBezTo>
                  <a:pt x="16049" y="18331"/>
                  <a:pt x="16033" y="18323"/>
                  <a:pt x="16073" y="18281"/>
                </a:cubicBezTo>
              </a:path>
              <a:path w="1613" h="670">
                <a:moveTo>
                  <a:pt x="16718" y="17686"/>
                </a:moveTo>
                <a:cubicBezTo>
                  <a:pt x="16783" y="17751"/>
                  <a:pt x="16764" y="17741"/>
                  <a:pt x="16669" y="17711"/>
                </a:cubicBezTo>
                <a:cubicBezTo>
                  <a:pt x="16459" y="17644"/>
                  <a:pt x="16397" y="17885"/>
                  <a:pt x="16421" y="18058"/>
                </a:cubicBezTo>
                <a:cubicBezTo>
                  <a:pt x="16452" y="18280"/>
                  <a:pt x="16689" y="18261"/>
                  <a:pt x="16818" y="18132"/>
                </a:cubicBezTo>
                <a:cubicBezTo>
                  <a:pt x="16834" y="18099"/>
                  <a:pt x="16851" y="18066"/>
                  <a:pt x="16867" y="180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24760" y="6402240"/>
            <a:ext cx="1062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17363" y="17810"/>
                </a:moveTo>
                <a:cubicBezTo>
                  <a:pt x="17441" y="17803"/>
                  <a:pt x="17509" y="17792"/>
                  <a:pt x="17587" y="17785"/>
                </a:cubicBezTo>
              </a:path>
              <a:path w="299" h="323">
                <a:moveTo>
                  <a:pt x="17289" y="18107"/>
                </a:moveTo>
                <a:cubicBezTo>
                  <a:pt x="17346" y="18091"/>
                  <a:pt x="17406" y="18069"/>
                  <a:pt x="17462" y="180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7080" y="5929200"/>
            <a:ext cx="627120" cy="635040"/>
          </a:xfrm>
          <a:custGeom>
            <a:avLst/>
            <a:gdLst/>
            <a:ahLst/>
            <a:rect l="l" t="t" r="r" b="b"/>
            <a:pathLst>
              <a:path w="1738" h="1762">
                <a:moveTo>
                  <a:pt x="18380" y="17711"/>
                </a:moveTo>
                <a:cubicBezTo>
                  <a:pt x="18321" y="17711"/>
                  <a:pt x="18446" y="17698"/>
                  <a:pt x="18504" y="17686"/>
                </a:cubicBezTo>
                <a:cubicBezTo>
                  <a:pt x="18611" y="17664"/>
                  <a:pt x="18635" y="17656"/>
                  <a:pt x="18703" y="17661"/>
                </a:cubicBezTo>
                <a:cubicBezTo>
                  <a:pt x="18687" y="17806"/>
                  <a:pt x="18600" y="17854"/>
                  <a:pt x="18479" y="17934"/>
                </a:cubicBezTo>
                <a:cubicBezTo>
                  <a:pt x="18463" y="17942"/>
                  <a:pt x="18446" y="17951"/>
                  <a:pt x="18430" y="17959"/>
                </a:cubicBezTo>
                <a:cubicBezTo>
                  <a:pt x="18580" y="17959"/>
                  <a:pt x="18682" y="17930"/>
                  <a:pt x="18802" y="18033"/>
                </a:cubicBezTo>
                <a:cubicBezTo>
                  <a:pt x="18810" y="18050"/>
                  <a:pt x="18819" y="18066"/>
                  <a:pt x="18827" y="18083"/>
                </a:cubicBezTo>
                <a:cubicBezTo>
                  <a:pt x="18741" y="18169"/>
                  <a:pt x="18574" y="18289"/>
                  <a:pt x="18430" y="18231"/>
                </a:cubicBezTo>
                <a:cubicBezTo>
                  <a:pt x="18422" y="18215"/>
                  <a:pt x="18413" y="18198"/>
                  <a:pt x="18405" y="18182"/>
                </a:cubicBezTo>
              </a:path>
              <a:path w="1738" h="1762">
                <a:moveTo>
                  <a:pt x="19199" y="17587"/>
                </a:moveTo>
                <a:cubicBezTo>
                  <a:pt x="19106" y="17679"/>
                  <a:pt x="19043" y="17837"/>
                  <a:pt x="19075" y="17983"/>
                </a:cubicBezTo>
                <a:cubicBezTo>
                  <a:pt x="19110" y="18142"/>
                  <a:pt x="19311" y="18151"/>
                  <a:pt x="19372" y="18008"/>
                </a:cubicBezTo>
                <a:cubicBezTo>
                  <a:pt x="19436" y="17859"/>
                  <a:pt x="19356" y="17726"/>
                  <a:pt x="19273" y="17611"/>
                </a:cubicBezTo>
              </a:path>
              <a:path w="1738" h="1762">
                <a:moveTo>
                  <a:pt x="19819" y="17438"/>
                </a:moveTo>
                <a:cubicBezTo>
                  <a:pt x="19772" y="17466"/>
                  <a:pt x="19750" y="17508"/>
                  <a:pt x="19720" y="17562"/>
                </a:cubicBezTo>
                <a:cubicBezTo>
                  <a:pt x="19755" y="17570"/>
                  <a:pt x="19910" y="17595"/>
                  <a:pt x="19893" y="17512"/>
                </a:cubicBezTo>
                <a:cubicBezTo>
                  <a:pt x="19864" y="17452"/>
                  <a:pt x="19847" y="17429"/>
                  <a:pt x="19794" y="17413"/>
                </a:cubicBezTo>
              </a:path>
              <a:path w="1738" h="1762">
                <a:moveTo>
                  <a:pt x="19918" y="16470"/>
                </a:moveTo>
                <a:cubicBezTo>
                  <a:pt x="19880" y="16547"/>
                  <a:pt x="19827" y="16636"/>
                  <a:pt x="19968" y="16619"/>
                </a:cubicBezTo>
                <a:cubicBezTo>
                  <a:pt x="20067" y="16607"/>
                  <a:pt x="20128" y="16552"/>
                  <a:pt x="20042" y="164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6280" y="5991120"/>
            <a:ext cx="1617840" cy="260280"/>
          </a:xfrm>
          <a:custGeom>
            <a:avLst/>
            <a:gdLst/>
            <a:ahLst/>
            <a:rect l="l" t="t" r="r" b="b"/>
            <a:pathLst>
              <a:path w="4491" h="720">
                <a:moveTo>
                  <a:pt x="12824" y="16867"/>
                </a:moveTo>
                <a:cubicBezTo>
                  <a:pt x="12843" y="16982"/>
                  <a:pt x="12885" y="17096"/>
                  <a:pt x="12898" y="17214"/>
                </a:cubicBezTo>
                <a:cubicBezTo>
                  <a:pt x="12898" y="17239"/>
                  <a:pt x="12898" y="17264"/>
                  <a:pt x="12898" y="17289"/>
                </a:cubicBezTo>
                <a:cubicBezTo>
                  <a:pt x="12877" y="17201"/>
                  <a:pt x="12876" y="17142"/>
                  <a:pt x="12898" y="17041"/>
                </a:cubicBezTo>
                <a:cubicBezTo>
                  <a:pt x="12922" y="16946"/>
                  <a:pt x="12927" y="16915"/>
                  <a:pt x="12998" y="16892"/>
                </a:cubicBezTo>
                <a:cubicBezTo>
                  <a:pt x="13152" y="16928"/>
                  <a:pt x="13309" y="17015"/>
                  <a:pt x="13370" y="17190"/>
                </a:cubicBezTo>
                <a:cubicBezTo>
                  <a:pt x="13370" y="17215"/>
                  <a:pt x="13370" y="17239"/>
                  <a:pt x="13370" y="17264"/>
                </a:cubicBezTo>
                <a:cubicBezTo>
                  <a:pt x="13352" y="17141"/>
                  <a:pt x="13320" y="17008"/>
                  <a:pt x="13444" y="16917"/>
                </a:cubicBezTo>
                <a:cubicBezTo>
                  <a:pt x="13624" y="16784"/>
                  <a:pt x="13741" y="17035"/>
                  <a:pt x="13767" y="17165"/>
                </a:cubicBezTo>
                <a:cubicBezTo>
                  <a:pt x="13782" y="17241"/>
                  <a:pt x="13747" y="17247"/>
                  <a:pt x="13816" y="17264"/>
                </a:cubicBezTo>
              </a:path>
              <a:path w="4491" h="720">
                <a:moveTo>
                  <a:pt x="14263" y="16718"/>
                </a:moveTo>
                <a:cubicBezTo>
                  <a:pt x="14222" y="16922"/>
                  <a:pt x="14210" y="17090"/>
                  <a:pt x="14089" y="17264"/>
                </a:cubicBezTo>
                <a:cubicBezTo>
                  <a:pt x="14081" y="17272"/>
                  <a:pt x="14072" y="17281"/>
                  <a:pt x="14064" y="17289"/>
                </a:cubicBezTo>
                <a:cubicBezTo>
                  <a:pt x="14174" y="17267"/>
                  <a:pt x="14294" y="17211"/>
                  <a:pt x="14412" y="17214"/>
                </a:cubicBezTo>
                <a:cubicBezTo>
                  <a:pt x="14470" y="17215"/>
                  <a:pt x="14525" y="17239"/>
                  <a:pt x="14585" y="17239"/>
                </a:cubicBezTo>
              </a:path>
              <a:path w="4491" h="720">
                <a:moveTo>
                  <a:pt x="14833" y="16818"/>
                </a:moveTo>
                <a:cubicBezTo>
                  <a:pt x="14885" y="16971"/>
                  <a:pt x="14923" y="17103"/>
                  <a:pt x="14932" y="17264"/>
                </a:cubicBezTo>
              </a:path>
              <a:path w="4491" h="720">
                <a:moveTo>
                  <a:pt x="14610" y="16718"/>
                </a:moveTo>
                <a:cubicBezTo>
                  <a:pt x="14828" y="16751"/>
                  <a:pt x="15092" y="16844"/>
                  <a:pt x="15230" y="17041"/>
                </a:cubicBezTo>
                <a:cubicBezTo>
                  <a:pt x="15312" y="17158"/>
                  <a:pt x="15317" y="17363"/>
                  <a:pt x="15131" y="17363"/>
                </a:cubicBezTo>
                <a:cubicBezTo>
                  <a:pt x="15046" y="17335"/>
                  <a:pt x="15012" y="17322"/>
                  <a:pt x="14957" y="17289"/>
                </a:cubicBezTo>
              </a:path>
              <a:path w="4491" h="720">
                <a:moveTo>
                  <a:pt x="15478" y="16842"/>
                </a:moveTo>
                <a:cubicBezTo>
                  <a:pt x="15524" y="16968"/>
                  <a:pt x="15551" y="17107"/>
                  <a:pt x="15577" y="17239"/>
                </a:cubicBezTo>
                <a:cubicBezTo>
                  <a:pt x="15577" y="17264"/>
                  <a:pt x="15577" y="17272"/>
                  <a:pt x="15577" y="17239"/>
                </a:cubicBezTo>
              </a:path>
              <a:path w="4491" h="720">
                <a:moveTo>
                  <a:pt x="15255" y="16718"/>
                </a:moveTo>
                <a:cubicBezTo>
                  <a:pt x="15434" y="16726"/>
                  <a:pt x="15640" y="16716"/>
                  <a:pt x="15751" y="16892"/>
                </a:cubicBezTo>
                <a:cubicBezTo>
                  <a:pt x="15798" y="16967"/>
                  <a:pt x="15608" y="17025"/>
                  <a:pt x="15577" y="17041"/>
                </a:cubicBezTo>
                <a:cubicBezTo>
                  <a:pt x="15569" y="17041"/>
                  <a:pt x="15561" y="17041"/>
                  <a:pt x="15553" y="17041"/>
                </a:cubicBezTo>
                <a:cubicBezTo>
                  <a:pt x="15642" y="17041"/>
                  <a:pt x="15741" y="17028"/>
                  <a:pt x="15825" y="17066"/>
                </a:cubicBezTo>
                <a:cubicBezTo>
                  <a:pt x="15913" y="17131"/>
                  <a:pt x="15941" y="17141"/>
                  <a:pt x="15949" y="17214"/>
                </a:cubicBezTo>
                <a:cubicBezTo>
                  <a:pt x="15857" y="17288"/>
                  <a:pt x="15726" y="17376"/>
                  <a:pt x="15602" y="17289"/>
                </a:cubicBezTo>
                <a:cubicBezTo>
                  <a:pt x="15542" y="17197"/>
                  <a:pt x="15529" y="17152"/>
                  <a:pt x="15577" y="17066"/>
                </a:cubicBezTo>
              </a:path>
              <a:path w="4491" h="720">
                <a:moveTo>
                  <a:pt x="16321" y="16644"/>
                </a:moveTo>
                <a:cubicBezTo>
                  <a:pt x="16215" y="16659"/>
                  <a:pt x="16076" y="16710"/>
                  <a:pt x="16024" y="16818"/>
                </a:cubicBezTo>
                <a:cubicBezTo>
                  <a:pt x="16024" y="16843"/>
                  <a:pt x="16024" y="16867"/>
                  <a:pt x="16024" y="16892"/>
                </a:cubicBezTo>
                <a:cubicBezTo>
                  <a:pt x="16129" y="16997"/>
                  <a:pt x="16225" y="16961"/>
                  <a:pt x="16371" y="16942"/>
                </a:cubicBezTo>
                <a:cubicBezTo>
                  <a:pt x="16379" y="16942"/>
                  <a:pt x="16388" y="16942"/>
                  <a:pt x="16396" y="16942"/>
                </a:cubicBezTo>
                <a:cubicBezTo>
                  <a:pt x="16354" y="16955"/>
                  <a:pt x="16248" y="17110"/>
                  <a:pt x="16222" y="17165"/>
                </a:cubicBezTo>
                <a:cubicBezTo>
                  <a:pt x="16201" y="17247"/>
                  <a:pt x="16193" y="17263"/>
                  <a:pt x="16197" y="17314"/>
                </a:cubicBezTo>
                <a:cubicBezTo>
                  <a:pt x="16315" y="17333"/>
                  <a:pt x="16364" y="17335"/>
                  <a:pt x="16470" y="17264"/>
                </a:cubicBezTo>
                <a:cubicBezTo>
                  <a:pt x="16493" y="17241"/>
                  <a:pt x="16497" y="17233"/>
                  <a:pt x="16520" y="17239"/>
                </a:cubicBezTo>
              </a:path>
              <a:path w="4491" h="720">
                <a:moveTo>
                  <a:pt x="16917" y="16867"/>
                </a:moveTo>
                <a:cubicBezTo>
                  <a:pt x="16996" y="16867"/>
                  <a:pt x="17092" y="16838"/>
                  <a:pt x="17165" y="16842"/>
                </a:cubicBezTo>
                <a:cubicBezTo>
                  <a:pt x="17235" y="16846"/>
                  <a:pt x="17276" y="16852"/>
                  <a:pt x="17289" y="16892"/>
                </a:cubicBezTo>
              </a:path>
              <a:path w="4491" h="720">
                <a:moveTo>
                  <a:pt x="17066" y="17140"/>
                </a:moveTo>
                <a:cubicBezTo>
                  <a:pt x="17166" y="17140"/>
                  <a:pt x="17231" y="17144"/>
                  <a:pt x="17314" y="171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35800" y="6000840"/>
            <a:ext cx="519120" cy="25056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19422" y="16818"/>
                </a:moveTo>
                <a:cubicBezTo>
                  <a:pt x="19495" y="16872"/>
                  <a:pt x="19528" y="16864"/>
                  <a:pt x="19521" y="16917"/>
                </a:cubicBezTo>
              </a:path>
              <a:path w="1440" h="695">
                <a:moveTo>
                  <a:pt x="18157" y="16842"/>
                </a:moveTo>
                <a:cubicBezTo>
                  <a:pt x="18168" y="16811"/>
                  <a:pt x="18266" y="16765"/>
                  <a:pt x="18306" y="16743"/>
                </a:cubicBezTo>
                <a:cubicBezTo>
                  <a:pt x="18470" y="16654"/>
                  <a:pt x="18562" y="16646"/>
                  <a:pt x="18703" y="16743"/>
                </a:cubicBezTo>
                <a:cubicBezTo>
                  <a:pt x="18681" y="16884"/>
                  <a:pt x="18625" y="16983"/>
                  <a:pt x="18479" y="17041"/>
                </a:cubicBezTo>
                <a:cubicBezTo>
                  <a:pt x="18463" y="17041"/>
                  <a:pt x="18446" y="17041"/>
                  <a:pt x="18430" y="17041"/>
                </a:cubicBezTo>
                <a:cubicBezTo>
                  <a:pt x="18511" y="17020"/>
                  <a:pt x="18604" y="16955"/>
                  <a:pt x="18703" y="16991"/>
                </a:cubicBezTo>
                <a:cubicBezTo>
                  <a:pt x="18933" y="17074"/>
                  <a:pt x="18774" y="17260"/>
                  <a:pt x="18628" y="17314"/>
                </a:cubicBezTo>
                <a:cubicBezTo>
                  <a:pt x="18563" y="17338"/>
                  <a:pt x="18243" y="17435"/>
                  <a:pt x="18380" y="17264"/>
                </a:cubicBezTo>
                <a:cubicBezTo>
                  <a:pt x="18413" y="17231"/>
                  <a:pt x="18446" y="17198"/>
                  <a:pt x="18479" y="17165"/>
                </a:cubicBezTo>
              </a:path>
              <a:path w="1440" h="695">
                <a:moveTo>
                  <a:pt x="19323" y="16743"/>
                </a:moveTo>
                <a:cubicBezTo>
                  <a:pt x="19251" y="16815"/>
                  <a:pt x="19208" y="16921"/>
                  <a:pt x="19174" y="17016"/>
                </a:cubicBezTo>
                <a:cubicBezTo>
                  <a:pt x="19166" y="17049"/>
                  <a:pt x="19157" y="17082"/>
                  <a:pt x="19149" y="17115"/>
                </a:cubicBezTo>
                <a:cubicBezTo>
                  <a:pt x="19289" y="17191"/>
                  <a:pt x="19419" y="17231"/>
                  <a:pt x="19546" y="17090"/>
                </a:cubicBezTo>
                <a:cubicBezTo>
                  <a:pt x="19685" y="16936"/>
                  <a:pt x="19598" y="16707"/>
                  <a:pt x="19422" y="16669"/>
                </a:cubicBezTo>
                <a:cubicBezTo>
                  <a:pt x="19266" y="16636"/>
                  <a:pt x="19159" y="16738"/>
                  <a:pt x="19174" y="168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 D-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 D-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 extra credit by drawing the bisectors and giving the measurements of the angles cre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3:45:17Z</dcterms:created>
  <dc:creator>Brian McGrath</dc:creator>
  <dc:description/>
  <dc:language>en-US</dc:language>
  <cp:lastModifiedBy>ccps</cp:lastModifiedBy>
  <dcterms:modified xsi:type="dcterms:W3CDTF">2010-02-02T19:07:17Z</dcterms:modified>
  <cp:revision>5</cp:revision>
  <dc:subject/>
  <dc:title>Warm-up:   1.  Name two parallel lines 2.  Name two intersecting lines 3.  Name on pair of perpendicular lines. 4.  Name a right angle. 5.  Name an obtuse angle. 6.  Name two vertical angles.</dc:title>
</cp:coreProperties>
</file>